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png" ContentType="image/png"/>
  <Override PartName="/ppt/media/image24.jpeg" ContentType="image/jpeg"/>
  <Override PartName="/ppt/media/image22.png" ContentType="image/png"/>
  <Override PartName="/ppt/media/image19.jpeg" ContentType="image/jpeg"/>
  <Override PartName="/ppt/media/image23.png" ContentType="image/png"/>
  <Override PartName="/ppt/media/image21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5.jpeg" ContentType="image/jpeg"/>
  <Override PartName="/ppt/media/image16.jpeg" ContentType="image/jpeg"/>
  <Override PartName="/ppt/media/image14.png" ContentType="image/png"/>
  <Override PartName="/ppt/media/image3.png" ContentType="image/png"/>
  <Override PartName="/ppt/media/image17.jpeg" ContentType="image/jpeg"/>
  <Override PartName="/ppt/media/image1.wmf" ContentType="image/x-wmf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F0AB5-84EE-462E-8E1A-E0A770C3C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81600-9E23-42AB-B4E4-5D55850C3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7C8CE-2569-45D1-8DA6-056B4975E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A8332-7DA0-40EE-8A31-016BFD29D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FF9DB-DCB4-4AC5-B3AD-546B76C97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0BB0F-7FD2-49CA-961D-71C7CB5C5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FE3A7-30F5-44AF-9207-5E41BE289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4ACFB-D7B0-435B-A175-F7A59BF43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AB111-B990-49CB-B10E-21D3888DE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36305-B340-42BF-B3DC-FA40F7804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D596B-EA55-4121-BDDC-AFC95AA4F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54685-0D0B-4B01-A984-1D4BA5DBE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0939A-61C4-4292-9999-CA9F19405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24E74-CAF0-4C07-9927-4DF10A31C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5D2C3-1883-4E5E-AE13-75C2E20A5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BD44C-275D-43CD-8E0B-E5D06A959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A0CD5-8FA1-4BF4-B39F-9271EF0EC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F89607-D888-4CD7-A255-49DDE1BDD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D50D1C-D157-4475-8B4D-80442A3EA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0B5B99-EA53-440A-9FB9-6F8FB2250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2A64A2-232E-43C7-89BC-B4D0A28E9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128D94-84E9-4A35-982F-AA8A01298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D13A7-3465-42E8-9960-808F00312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5C48C2-3500-492E-9570-971E6378E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DD712C-0A68-43DA-9BCF-7A32CB77C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FFCFBD-E863-480F-9DEB-FAC384CF3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30B138-E11D-4672-A42D-F108963EB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CF6FC6-05C4-4BBB-A827-DD8B08B1D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B824A3-A0D7-4651-BD79-3C02B9854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F779A8-AA34-4AA4-B6AB-9FBB49129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7C0296-6E6A-4377-A84C-C63438E4E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22193E-6589-4146-931C-43EBBA2A0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1701BB-2021-4856-BDA5-126F08A03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CEA94-B297-42F4-8FB8-E74F2F7DA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3295C5-9466-4B51-ABE2-8B7136C5B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BD3917-6005-4CF0-A021-5045ECD13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098466-B3E0-479D-BB9A-5182E45E0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50E412-7618-4B20-89F3-6C48D3E41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8E4776-B038-44DD-A223-BC8C6924F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3929B6-5189-4AD4-AC40-787B47BC2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FAAC43-A07C-4092-9757-B602022AB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0C5499-7B1E-4098-9D0C-C3AFB2A8C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349250-3F7A-41EA-A4E7-7085C3B91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C279CC-3925-45E8-908B-E46426EA0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C3C2D-0271-4F4A-9B10-78D19610D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2C6ADE-7B54-43C2-A9AE-ADA5E2CD4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D561DD-610A-4277-84D7-E5C077A0C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2D1416-8FA0-474E-97C5-AB5CE1EA0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F06718-5992-4846-B3A0-81B53298C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83BAB6-7E9C-4E07-B42F-288D77327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DCEF16-EC1B-4058-A0AB-C3E98130D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8687C2-031F-4B20-BBA9-44A1928CC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E90F8C-F1B4-4A1A-8F95-E29C2D225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56187D-D0C0-44B8-B197-0B6836C02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90449A-3C5B-444B-A817-AFF1D4E2B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BCBE1-BA7F-4E4D-8865-7C1ED0F61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D293C5-FF8A-4A81-900F-7D7853AD6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CA1567-642A-4599-9804-91A7D7DE2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1B67FE-94EE-482A-B5D6-02A172DC9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BB0E4F-69F9-493C-A2B3-C27689BAD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F8EF4C-0261-47C9-9454-C956D0BC0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EEC7C0-2A30-42A2-A54D-BC6ADD24A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50648F-974E-42A3-8337-848B3F83C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30FBA6-81A5-4BB0-97E7-5C732766A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5FFA05-B4E9-4BC2-92DD-33D5C93BA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818643-80A2-47FC-954D-BBB5C27B2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710CE-3C05-49BD-ACF3-E087DD896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FCF1AB-0FA2-45F5-9C17-E6D26C997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6F0EAD-8190-43C0-8982-F0B387F95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75D31C-42B5-4EAC-BF89-353B86046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14B07-3365-4880-9170-602D1653A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DC63E-6BBE-49E9-BB5D-D9728137E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71640" y="1547280"/>
            <a:ext cx="7200720" cy="134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71640" y="3240000"/>
            <a:ext cx="7200720" cy="2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marL="222840" indent="-22284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482760" indent="-18576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2" marL="742680" indent="-14832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3" marL="1040040" indent="-14832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4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5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6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71640" y="6356520"/>
            <a:ext cx="1582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1608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E4F560-B8FA-4E82-B98C-B286ECA048DE}" type="slidenum"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Box 8"/>
          <p:cNvSpPr/>
          <p:nvPr/>
        </p:nvSpPr>
        <p:spPr>
          <a:xfrm>
            <a:off x="961920" y="708120"/>
            <a:ext cx="12049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MINISTRSTVO ZA PRIMER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6" name="Picture 9" descr="grb moder za 10 pt.wmf"/>
          <p:cNvPicPr/>
          <p:nvPr/>
        </p:nvPicPr>
        <p:blipFill>
          <a:blip r:embed="rId2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4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Calibri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4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117ECE4-BC0C-43E6-BD64-56B291211C86}" type="slidenum">
              <a:rPr b="0" lang="sl-SI" sz="14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Box 8"/>
          <p:cNvSpPr/>
          <p:nvPr/>
        </p:nvSpPr>
        <p:spPr>
          <a:xfrm>
            <a:off x="961920" y="708120"/>
            <a:ext cx="12049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MINISTRSTVO ZA PRIMER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85" name="Picture 9" descr="grb moder za 10 pt.wmf"/>
          <p:cNvPicPr/>
          <p:nvPr/>
        </p:nvPicPr>
        <p:blipFill>
          <a:blip r:embed="rId2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71640" y="1547280"/>
            <a:ext cx="7200720" cy="134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971640" y="3240000"/>
            <a:ext cx="7200720" cy="2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marL="222840" indent="-22284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482760" indent="-18576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2" marL="742680" indent="-14832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3" marL="1040040" indent="-14832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4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5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6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1007640" y="6356520"/>
            <a:ext cx="194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1608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673DA6A-1886-48DA-9465-9E5755310C60}" type="slidenum"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Box 8"/>
          <p:cNvSpPr/>
          <p:nvPr/>
        </p:nvSpPr>
        <p:spPr>
          <a:xfrm>
            <a:off x="961920" y="708120"/>
            <a:ext cx="12049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MINISTRSTVO ZA PRIMER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128" name="Picture 9" descr="grb moder za 10 pt.wmf"/>
          <p:cNvPicPr/>
          <p:nvPr/>
        </p:nvPicPr>
        <p:blipFill>
          <a:blip r:embed="rId2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71640" y="1547280"/>
            <a:ext cx="7200720" cy="134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71640" y="3240000"/>
            <a:ext cx="7200720" cy="2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marL="222840" indent="-22284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482760" indent="-18576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2" marL="742680" indent="-14832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3" marL="1040040" indent="-14832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4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5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6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10076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1608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10E4E1-BC46-47B6-90DE-719173FC7375}" type="slidenum"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Box 8"/>
          <p:cNvSpPr/>
          <p:nvPr/>
        </p:nvSpPr>
        <p:spPr>
          <a:xfrm>
            <a:off x="961920" y="708120"/>
            <a:ext cx="12049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MINISTRSTVO ZA PRIMER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171" name="Picture 9" descr="grb moder za 10 pt.wmf"/>
          <p:cNvPicPr/>
          <p:nvPr/>
        </p:nvPicPr>
        <p:blipFill>
          <a:blip r:embed="rId2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71640" y="1547280"/>
            <a:ext cx="7200720" cy="134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71640" y="3240000"/>
            <a:ext cx="7200720" cy="2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marL="222840" indent="-22284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482760" indent="-18576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2" marL="742680" indent="-14832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3" marL="1040040" indent="-14832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4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5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6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10076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1608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B61C6D-8DB5-4226-B266-156B398BE2D4}" type="slidenum"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Box 8"/>
          <p:cNvSpPr/>
          <p:nvPr/>
        </p:nvSpPr>
        <p:spPr>
          <a:xfrm>
            <a:off x="961920" y="708120"/>
            <a:ext cx="12049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MINISTRSTVO ZA PRIMER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214" name="Picture 9" descr="grb moder za 10 pt.wmf"/>
          <p:cNvPicPr/>
          <p:nvPr/>
        </p:nvPicPr>
        <p:blipFill>
          <a:blip r:embed="rId2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71640" y="1547280"/>
            <a:ext cx="7200720" cy="134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71640" y="3240000"/>
            <a:ext cx="7200720" cy="2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marL="222840" indent="-22284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482760" indent="-18576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2" marL="742680" indent="-14832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3" marL="1040040" indent="-14832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4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5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6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6"/>
          </p:nvPr>
        </p:nvSpPr>
        <p:spPr>
          <a:xfrm>
            <a:off x="10076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1608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C81803-A516-418A-91B1-207110372E21}" type="slidenum"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hyperlink" Target="http://www.danube-region.eu/" TargetMode="External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jpe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mailto:andreja.jerina@gov.si" TargetMode="External"/><Relationship Id="rId2" Type="http://schemas.openxmlformats.org/officeDocument/2006/relationships/hyperlink" Target="mailto:andreja.jerina@gov.si" TargetMode="External"/><Relationship Id="rId3" Type="http://schemas.openxmlformats.org/officeDocument/2006/relationships/hyperlink" Target="mailto:andreja.jerina@gov.si" TargetMode="External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1257480"/>
            <a:ext cx="7772400" cy="16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MAKROREGIONALNE STRATEGIJE V E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1371600" y="4492440"/>
            <a:ext cx="6400800" cy="114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Mag. Andreja Jer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Nacionalna koordinatork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EU makroregionalne strategij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mzz.gov.si/si/evropske_politike/makroregionalne_strategije_evropske_unij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2" descr="0823"/>
          <p:cNvPicPr/>
          <p:nvPr/>
        </p:nvPicPr>
        <p:blipFill>
          <a:blip r:embed="rId1"/>
          <a:stretch/>
        </p:blipFill>
        <p:spPr>
          <a:xfrm>
            <a:off x="0" y="0"/>
            <a:ext cx="2593800" cy="90324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5" descr=""/>
          <p:cNvPicPr/>
          <p:nvPr/>
        </p:nvPicPr>
        <p:blipFill>
          <a:blip r:embed="rId2"/>
          <a:stretch/>
        </p:blipFill>
        <p:spPr>
          <a:xfrm>
            <a:off x="1190520" y="2971800"/>
            <a:ext cx="1702080" cy="85572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6" descr=""/>
          <p:cNvPicPr/>
          <p:nvPr/>
        </p:nvPicPr>
        <p:blipFill>
          <a:blip r:embed="rId3"/>
          <a:stretch/>
        </p:blipFill>
        <p:spPr>
          <a:xfrm>
            <a:off x="3487680" y="2919240"/>
            <a:ext cx="2317680" cy="89568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7" descr=""/>
          <p:cNvPicPr/>
          <p:nvPr/>
        </p:nvPicPr>
        <p:blipFill>
          <a:blip r:embed="rId4"/>
          <a:stretch/>
        </p:blipFill>
        <p:spPr>
          <a:xfrm>
            <a:off x="6321600" y="3006720"/>
            <a:ext cx="1515960" cy="9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EUSA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7200" y="2646360"/>
            <a:ext cx="4038480" cy="347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Modra r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povezovanje regije – transport in energij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800" spc="-1" strike="noStrike">
                <a:solidFill>
                  <a:srgbClr val="00b050"/>
                </a:solidFill>
                <a:latin typeface="Arial"/>
              </a:rPr>
              <a:t>okolje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2800" spc="-1" strike="noStrike">
                <a:solidFill>
                  <a:srgbClr val="ff0000"/>
                </a:solidFill>
                <a:latin typeface="Arial"/>
              </a:rPr>
              <a:t>M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trajnostni turiz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4648320" y="1284120"/>
            <a:ext cx="4038480" cy="484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Strategija temelji na 4 stebri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Picture 5" descr="http://www.adriatic-ionian.eu/images-x/EUSAIRpillars.jpg"/>
          <p:cNvPicPr/>
          <p:nvPr/>
        </p:nvPicPr>
        <p:blipFill>
          <a:blip r:embed="rId1"/>
          <a:stretch/>
        </p:blipFill>
        <p:spPr>
          <a:xfrm>
            <a:off x="4818240" y="2558880"/>
            <a:ext cx="3850920" cy="40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Picture 2" descr="http://www.alpine-region.eu/grafica/schema-pillars2en.jpg"/>
          <p:cNvPicPr/>
          <p:nvPr/>
        </p:nvPicPr>
        <p:blipFill>
          <a:blip r:embed="rId1"/>
          <a:stretch/>
        </p:blipFill>
        <p:spPr>
          <a:xfrm>
            <a:off x="210960" y="2355840"/>
            <a:ext cx="3986280" cy="4213080"/>
          </a:xfrm>
          <a:prstGeom prst="rect">
            <a:avLst/>
          </a:prstGeom>
          <a:ln w="0">
            <a:noFill/>
          </a:ln>
        </p:spPr>
      </p:pic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EUSALP v nastajanj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4044600" y="1600200"/>
            <a:ext cx="4817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700" spc="-1" strike="noStrike">
                <a:solidFill>
                  <a:srgbClr val="000000"/>
                </a:solidFill>
                <a:latin typeface="Arial"/>
              </a:rPr>
              <a:t>Avstrija, Italija, Francija, Švica, Nemčija, Slovenija, Lihtenštaj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Časovnica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EK pripravila osnutek EUSALP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Javna razprava do oktobra 2014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Marec 2015 - Akcijski nač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Julij 2015 - EK Strategijo in AN posreduje ES in EP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Oktober 2015  - Evropski svet potrdi EUSAPL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Ministrska konferenca ob zagon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298080" y="1960200"/>
            <a:ext cx="26938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3 STEB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Content Placeholder 3"/>
          <p:cNvSpPr/>
          <p:nvPr/>
        </p:nvSpPr>
        <p:spPr>
          <a:xfrm>
            <a:off x="-434880" y="2355840"/>
            <a:ext cx="4479840" cy="42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39560" y="3824280"/>
            <a:ext cx="6839280" cy="571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KAJ PRINAŠAJO MRS DELEŽNIKO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817560" y="4519440"/>
            <a:ext cx="7640640" cy="206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ff0000"/>
                </a:solidFill>
                <a:latin typeface="Arial"/>
              </a:rPr>
              <a:t>VIDNO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ff0000"/>
                </a:solidFill>
                <a:latin typeface="Arial"/>
              </a:rPr>
              <a:t>Kot znak delovanja skladno z nacionalnimi interesi v regiji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Picture 2" descr=""/>
          <p:cNvPicPr/>
          <p:nvPr/>
        </p:nvPicPr>
        <p:blipFill>
          <a:blip r:embed="rId1"/>
          <a:srcRect l="5741" t="0" r="5741" b="0"/>
          <a:stretch/>
        </p:blipFill>
        <p:spPr>
          <a:xfrm>
            <a:off x="307800" y="103320"/>
            <a:ext cx="4243680" cy="275436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4" descr="http://www.danube-region.eu/attachments/article/616492/Logo-00_general_small.jpg"/>
          <p:cNvPicPr/>
          <p:nvPr/>
        </p:nvPicPr>
        <p:blipFill>
          <a:blip r:embed="rId2"/>
          <a:stretch/>
        </p:blipFill>
        <p:spPr>
          <a:xfrm>
            <a:off x="3784680" y="496800"/>
            <a:ext cx="3494160" cy="143676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5" descr=""/>
          <p:cNvPicPr/>
          <p:nvPr/>
        </p:nvPicPr>
        <p:blipFill>
          <a:blip r:embed="rId3"/>
          <a:stretch/>
        </p:blipFill>
        <p:spPr>
          <a:xfrm>
            <a:off x="4572000" y="2147760"/>
            <a:ext cx="2706840" cy="19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Picture 7" descr=""/>
          <p:cNvPicPr/>
          <p:nvPr/>
        </p:nvPicPr>
        <p:blipFill>
          <a:blip r:embed="rId1"/>
          <a:stretch/>
        </p:blipFill>
        <p:spPr>
          <a:xfrm>
            <a:off x="0" y="2454120"/>
            <a:ext cx="2538360" cy="1432080"/>
          </a:xfrm>
          <a:prstGeom prst="rect">
            <a:avLst/>
          </a:prstGeom>
          <a:ln w="0">
            <a:noFill/>
          </a:ln>
        </p:spPr>
      </p:pic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ff0000"/>
                </a:solidFill>
                <a:latin typeface="Arial"/>
              </a:rPr>
              <a:t>Vidnost za lažji dostop do poslovnih priložnosti in viro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8" descr="The EU Strategy for the Danube Region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11040" y="1417680"/>
            <a:ext cx="1605240" cy="907920"/>
          </a:xfrm>
          <a:prstGeom prst="rect">
            <a:avLst/>
          </a:prstGeom>
          <a:ln w="0">
            <a:noFill/>
          </a:ln>
        </p:spPr>
      </p:pic>
      <p:pic>
        <p:nvPicPr>
          <p:cNvPr id="310" name="Content Placeholder 5" descr=""/>
          <p:cNvPicPr/>
          <p:nvPr/>
        </p:nvPicPr>
        <p:blipFill>
          <a:blip r:embed="rId4"/>
          <a:stretch/>
        </p:blipFill>
        <p:spPr>
          <a:xfrm>
            <a:off x="2163600" y="1450800"/>
            <a:ext cx="5200920" cy="505332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6" descr="http://www.alpine-region.eu/grafica/logo.jpg"/>
          <p:cNvPicPr/>
          <p:nvPr/>
        </p:nvPicPr>
        <p:blipFill>
          <a:blip r:embed="rId5"/>
          <a:stretch/>
        </p:blipFill>
        <p:spPr>
          <a:xfrm>
            <a:off x="196920" y="3983040"/>
            <a:ext cx="1635120" cy="135396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2" descr="C:\Users\a1603\AppData\Local\Microsoft\Windows\Temporary Internet Files\Content.IE5\IDLEEK12\splash_home_recycling[1].gif"/>
          <p:cNvPicPr/>
          <p:nvPr/>
        </p:nvPicPr>
        <p:blipFill>
          <a:blip r:embed="rId6"/>
          <a:stretch/>
        </p:blipFill>
        <p:spPr>
          <a:xfrm>
            <a:off x="6373800" y="2225520"/>
            <a:ext cx="2776680" cy="27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O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800" spc="-1" strike="noStrike">
                <a:solidFill>
                  <a:srgbClr val="000000"/>
                </a:solidFill>
                <a:latin typeface="Arial"/>
              </a:rPr>
              <a:t>Horizontalna načela za izbor projektov/programo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Kjer je to relevantno bodo morali projekti/programi upoštevati tud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dodano vrednost v okviru EU makroregionalnih povezav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Iz sredstev tehnične pomoči se bodo financirali tudi drugi stroški, nastali na osnovi »ad hoc« potreb v času izvajanja programskega obdobja 2014-2020. V ta sklop sodijo tudi aktivnosti povezane z izvajanjem EU makroregionalnih strategij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000000"/>
                </a:solidFill>
                <a:latin typeface="Arial"/>
              </a:rPr>
              <a:t>HVALA ZA POZORNO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722160" y="923400"/>
            <a:ext cx="7772400" cy="348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VEČ 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mzz.gov.si/si/evropske_politike/makroregionalne_strategije_evropske_unije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andreja.jerina@gov.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www.mzz.gov.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SI in makroregi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2" descr=""/>
          <p:cNvPicPr/>
          <p:nvPr/>
        </p:nvPicPr>
        <p:blipFill>
          <a:blip r:embed="rId2"/>
          <a:stretch/>
        </p:blipFill>
        <p:spPr>
          <a:xfrm>
            <a:off x="419040" y="1600200"/>
            <a:ext cx="4076640" cy="440208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3" descr=""/>
          <p:cNvPicPr/>
          <p:nvPr/>
        </p:nvPicPr>
        <p:blipFill>
          <a:blip r:embed="rId3"/>
          <a:stretch/>
        </p:blipFill>
        <p:spPr>
          <a:xfrm>
            <a:off x="4832280" y="1600200"/>
            <a:ext cx="4038840" cy="44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EU MAKROREGIONALNE STARTEGI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648320" y="2101320"/>
            <a:ext cx="4038480" cy="40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b05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Orodje EU integracije (kohezija, širitev, sosedstvo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b05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Makroregionalna raven omogoča prilagojeno uporabo EU politik (EU2020) za specifično področj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2101320"/>
            <a:ext cx="4038480" cy="40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b05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Nove oblike teritorialnega sodelovanja 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(2007-201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b05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600" spc="-1" strike="noStrike">
                <a:solidFill>
                  <a:srgbClr val="000000"/>
                </a:solidFill>
                <a:latin typeface="Arial"/>
              </a:rPr>
              <a:t>Osnovna ideja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: učinkovito in uspešno soočanje z izzivi, ki so skupni čezmejnim območje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EU MAKROREGIONALNE STARTEGI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2" descr="C:\Users\a1603\AppData\Local\Microsoft\Windows\Temporary Internet Files\Content.IE5\IDLEEK12\splash_home_recycling[1].gif"/>
          <p:cNvPicPr/>
          <p:nvPr/>
        </p:nvPicPr>
        <p:blipFill>
          <a:blip r:embed="rId1"/>
          <a:stretch/>
        </p:blipFill>
        <p:spPr>
          <a:xfrm>
            <a:off x="768240" y="2268360"/>
            <a:ext cx="3346560" cy="325944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 txBox="1"/>
          <p:nvPr/>
        </p:nvSpPr>
        <p:spPr>
          <a:xfrm>
            <a:off x="4648320" y="2084040"/>
            <a:ext cx="4038480" cy="310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600" spc="-1" strike="noStrike">
                <a:solidFill>
                  <a:srgbClr val="000000"/>
                </a:solidFill>
                <a:latin typeface="Arial"/>
              </a:rPr>
              <a:t>Načelo 3 x NE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namesto novih sredstev, struktur in zakonodaje uporabiti obstoječe vire, institucije, koordinirano upravljanje in sinergij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Dva ključna izziva za E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0000"/>
                </a:solidFill>
                <a:latin typeface="Arial"/>
              </a:rPr>
              <a:t>DODANA VREDN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000" spc="-1" strike="noStrike">
                <a:solidFill>
                  <a:srgbClr val="000000"/>
                </a:solidFill>
                <a:latin typeface="Arial"/>
              </a:rPr>
              <a:t>Pristop spodbuja udeležence 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000" spc="-1" strike="noStrike">
                <a:solidFill>
                  <a:srgbClr val="000000"/>
                </a:solidFill>
                <a:latin typeface="Arial"/>
              </a:rPr>
              <a:t>preseganju nacionalnih meja in premostitvi ovir, ki jim preprečujejo, da bi bolj strateško in ustvarjalno razmišljali o priložnostih, ki se ponujajo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POROČILO EK o dodani vrednosti makroregionalnih strateg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{SWD(2013) 233 </a:t>
            </a: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final; junij 20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0000"/>
                </a:solidFill>
                <a:latin typeface="Arial"/>
              </a:rPr>
              <a:t>UPRAVLJAN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>
                <a:solidFill>
                  <a:srgbClr val="000000"/>
                </a:solidFill>
                <a:latin typeface="Arial"/>
              </a:rPr>
              <a:t>Prevzem lastništva MRS s strani drž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>
                <a:solidFill>
                  <a:srgbClr val="000000"/>
                </a:solidFill>
                <a:latin typeface="Arial"/>
              </a:rPr>
              <a:t>Minimalni pogoj: stabilna nacionalna koordinacija in okrepljeno sodelovanje nacionalnih koordinatorjev in vsebinskih strokovnjakov v usmerjevalnih odbori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>
                <a:solidFill>
                  <a:srgbClr val="000000"/>
                </a:solidFill>
                <a:latin typeface="Arial"/>
              </a:rPr>
              <a:t>Podpora izvajanju tudi skozi transnacionalne progr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ROČILO </a:t>
            </a: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upravljanju makroregionalnih strategi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(2014) 284 final</a:t>
            </a: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; maj 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4" descr="C:\Users\a1603\AppData\Local\Microsoft\Windows\Temporary Internet Files\Content.IE5\DO2XG1SJ\windowslivewriterdisillusionedwiththedefinitionofecm-a045thinking32[1].jpg"/>
          <p:cNvPicPr/>
          <p:nvPr/>
        </p:nvPicPr>
        <p:blipFill>
          <a:blip r:embed="rId1"/>
          <a:stretch/>
        </p:blipFill>
        <p:spPr>
          <a:xfrm>
            <a:off x="1055520" y="4754520"/>
            <a:ext cx="2025720" cy="137160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3" descr="C:\Users\a1603\AppData\Local\Microsoft\Windows\Temporary Internet Files\Content.IE5\N6ZWPFLJ\red-no-signal[1].jpg"/>
          <p:cNvPicPr/>
          <p:nvPr/>
        </p:nvPicPr>
        <p:blipFill>
          <a:blip r:embed="rId2"/>
          <a:stretch/>
        </p:blipFill>
        <p:spPr>
          <a:xfrm>
            <a:off x="7064280" y="981000"/>
            <a:ext cx="1155960" cy="1135080"/>
          </a:xfrm>
          <a:prstGeom prst="rect">
            <a:avLst/>
          </a:prstGeom>
          <a:ln w="0">
            <a:noFill/>
          </a:ln>
        </p:spPr>
      </p:pic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Za kaj pri MRS gr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Usklajenost nacionalnih interesov med državami regij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Uveljavljanje nacionalnih priorit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Od zgoraj navzdo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646160" y="160020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še ena platforma mehke koordinaci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še en program sodelovanja z lastno strukturo, upravičenimi aktivnostmi, vi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2" descr="C:\Users\a1603\AppData\Local\Microsoft\Windows\Temporary Internet Files\Content.IE5\0M1AWZJA\Yes_check.svg[1].png"/>
          <p:cNvPicPr/>
          <p:nvPr/>
        </p:nvPicPr>
        <p:blipFill>
          <a:blip r:embed="rId3"/>
          <a:stretch/>
        </p:blipFill>
        <p:spPr>
          <a:xfrm>
            <a:off x="1617840" y="1058760"/>
            <a:ext cx="1081080" cy="10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2" descr=""/>
          <p:cNvPicPr/>
          <p:nvPr/>
        </p:nvPicPr>
        <p:blipFill>
          <a:blip r:embed="rId1"/>
          <a:stretch/>
        </p:blipFill>
        <p:spPr>
          <a:xfrm>
            <a:off x="-217440" y="-90360"/>
            <a:ext cx="9361440" cy="6948360"/>
          </a:xfrm>
          <a:prstGeom prst="rect">
            <a:avLst/>
          </a:prstGeom>
          <a:ln w="0">
            <a:noFill/>
          </a:ln>
        </p:spPr>
      </p:pic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PODONAVSK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14 držav; 9 EU, 3 kandidatke, 2 soseds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Preko 100 mio prebivalce; 1/5 prebivalcev E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Skupni izzivi</a:t>
            </a: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Razvojni razkorak (SB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D, AT 2x večji BDP od regionalnega povprečja, RO, BG 80%, kandidatke 50%, sosedstvo 40% povprečj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Upad privlačnosti za investiran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Porast administrativnih bremen in poslabšanje pogojev poslovan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Skupne priložnosti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Reka kot transportna in trgovska ži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Upravljanje z vodami vključno s tveganji – pop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Privlačnost naravne in kulturne dedišč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Učinkovita raba virov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EUSD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606240" y="2181240"/>
            <a:ext cx="3344760" cy="393048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 txBox="1"/>
          <p:nvPr/>
        </p:nvSpPr>
        <p:spPr>
          <a:xfrm>
            <a:off x="4308480" y="1599840"/>
            <a:ext cx="4378320" cy="50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Sodelovanje v okviru 11 prioritetnih področij, združenih v 4 vsebinske steb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Povezovanje Podonavj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Varovanje okolja v Podonavju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Zagotavljanje blaginje v Podonavju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Krepitev Podonavj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SI koordinira prednostna področj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1b – kopenski in zračni promet </a:t>
            </a:r>
            <a:r>
              <a:rPr b="0" lang="sl-SI" sz="2000" spc="-1" strike="noStrike">
                <a:solidFill>
                  <a:srgbClr val="ff0000"/>
                </a:solidFill>
                <a:latin typeface="Arial"/>
              </a:rPr>
              <a:t>MZI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 (skupaj s Srbij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10 – administrativna krepitev </a:t>
            </a:r>
            <a:r>
              <a:rPr b="0" lang="sl-SI" sz="2000" spc="-1" strike="noStrike">
                <a:solidFill>
                  <a:srgbClr val="ff0000"/>
                </a:solidFill>
                <a:latin typeface="Arial"/>
              </a:rPr>
              <a:t>CEF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 (skupaj z Avstrij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200" spc="-1" strike="noStrike">
                <a:solidFill>
                  <a:srgbClr val="ff0000"/>
                </a:solidFill>
                <a:latin typeface="Arial"/>
              </a:rPr>
              <a:t>NACIONALNI INTERES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Picture 2" descr=""/>
          <p:cNvPicPr/>
          <p:nvPr/>
        </p:nvPicPr>
        <p:blipFill>
          <a:blip r:embed="rId2"/>
          <a:stretch/>
        </p:blipFill>
        <p:spPr>
          <a:xfrm>
            <a:off x="184320" y="1600200"/>
            <a:ext cx="37717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Picture 6" descr="http://www.adriatic-ionian.eu/images-x/AdriaticIonianRegion.jpg"/>
          <p:cNvPicPr/>
          <p:nvPr/>
        </p:nvPicPr>
        <p:blipFill>
          <a:blip r:embed="rId1"/>
          <a:stretch/>
        </p:blipFill>
        <p:spPr>
          <a:xfrm>
            <a:off x="0" y="61920"/>
            <a:ext cx="9144000" cy="7561080"/>
          </a:xfrm>
          <a:prstGeom prst="rect">
            <a:avLst/>
          </a:prstGeom>
          <a:ln w="0">
            <a:noFill/>
          </a:ln>
        </p:spPr>
      </p:pic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JADRANSKO JONSK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8 držav; 4 DČ, 4 DNČ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Italija, Slovenija, Hrvaška, BiH, Črna gora, Albanija, Srbija in Grčij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sprejeta na Evropskem svetu oktobra 2014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novembra 2014 – ministrska konferenca ob zagonu izvajanja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700" spc="-1" strike="noStrike">
                <a:solidFill>
                  <a:srgbClr val="000000"/>
                </a:solidFill>
                <a:latin typeface="Arial"/>
              </a:rPr>
              <a:t>Sprejeta pravila več-nivojskega upravljanj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700" spc="-1" strike="noStrike">
                <a:solidFill>
                  <a:srgbClr val="000000"/>
                </a:solidFill>
                <a:latin typeface="Arial"/>
              </a:rPr>
              <a:t>Srečanje deležnikov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Osrednji fokus strategije sta morje ter obala z zaledje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ff0000"/>
                </a:solidFill>
                <a:latin typeface="Arial"/>
              </a:rPr>
              <a:t>Slovenija skupaj z BiH prevzela vodenje okoljskega stebra </a:t>
            </a: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za obdobje treh let</a:t>
            </a: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700" spc="-1" strike="noStrike">
                <a:solidFill>
                  <a:srgbClr val="000000"/>
                </a:solidFill>
                <a:latin typeface="Arial"/>
              </a:rPr>
              <a:t>5.3. 2015 prvi sestanek okoljskega stebra v Piranu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13T12:03:27Z</dcterms:created>
  <dc:creator>Andreja Jerina</dc:creator>
  <dc:description/>
  <dc:language>en-US</dc:language>
  <cp:lastModifiedBy>Andreja Jerina</cp:lastModifiedBy>
  <cp:lastPrinted>2015-03-11T12:51:39Z</cp:lastPrinted>
  <dcterms:modified xsi:type="dcterms:W3CDTF">2015-03-11T12:51:55Z</dcterms:modified>
  <cp:revision>27</cp:revision>
  <dc:subject/>
  <dc:title>MAKROREGIONALNE STRATEGIJE V EU</dc:title>
</cp:coreProperties>
</file>