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12193588" cy="6858000"/>
  <p:notesSz cx="672465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E98F-DE53-443C-B306-4DA109AA3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6EB5-2BCB-46D0-B222-995A4787F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DB5D-E0C8-459D-975D-AF6DA1792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406C-41E7-4042-B798-C98BF193C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F291-F948-4B16-BFD3-07344F9C5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48A4-4DD8-46EC-8FCD-6ACE8DF1A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1A70-C73E-47E7-B1F5-FD826C3DC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FDCF-229E-4D73-BB5C-2F1C28FB5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A4E4-F6A8-4F81-BB7F-ED3AC74E3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DFD6-4817-4993-B475-42137B497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F5FD-D9AE-48CB-94B6-3BFDFA16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14EF-03C0-4EDF-9BD3-1BEE9EEB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297BF-65FD-4D16-8667-210B785DC8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"/>
          <p:cNvPicPr/>
          <p:nvPr/>
        </p:nvPicPr>
        <p:blipFill>
          <a:blip r:embed="rId2"/>
          <a:stretch/>
        </p:blipFill>
        <p:spPr>
          <a:xfrm rot="20700000">
            <a:off x="10217160" y="-601560"/>
            <a:ext cx="2421000" cy="29844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1" descr=""/>
          <p:cNvPicPr/>
          <p:nvPr/>
        </p:nvPicPr>
        <p:blipFill>
          <a:blip r:embed="rId2"/>
          <a:stretch/>
        </p:blipFill>
        <p:spPr>
          <a:xfrm>
            <a:off x="10377360" y="139680"/>
            <a:ext cx="3241800" cy="27734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"/>
          <p:cNvPicPr/>
          <p:nvPr/>
        </p:nvPicPr>
        <p:blipFill>
          <a:blip r:embed="rId2"/>
          <a:stretch/>
        </p:blipFill>
        <p:spPr>
          <a:xfrm>
            <a:off x="10745640" y="-112680"/>
            <a:ext cx="2892600" cy="22795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1" descr=""/>
          <p:cNvPicPr/>
          <p:nvPr/>
        </p:nvPicPr>
        <p:blipFill>
          <a:blip r:embed="rId2"/>
          <a:stretch/>
        </p:blipFill>
        <p:spPr>
          <a:xfrm>
            <a:off x="9968040" y="108000"/>
            <a:ext cx="2695320" cy="21524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8" descr=""/>
          <p:cNvPicPr/>
          <p:nvPr/>
        </p:nvPicPr>
        <p:blipFill>
          <a:blip r:embed="rId2"/>
          <a:stretch/>
        </p:blipFill>
        <p:spPr>
          <a:xfrm>
            <a:off x="943596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943596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"/>
          <p:cNvPicPr/>
          <p:nvPr/>
        </p:nvPicPr>
        <p:blipFill>
          <a:blip r:embed="rId4"/>
          <a:stretch/>
        </p:blipFill>
        <p:spPr>
          <a:xfrm>
            <a:off x="0" y="2004840"/>
            <a:ext cx="12192120" cy="3483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9821880" y="133668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"/>
          <p:cNvPicPr/>
          <p:nvPr/>
        </p:nvPicPr>
        <p:blipFill>
          <a:blip r:embed="rId2"/>
          <a:stretch/>
        </p:blipFill>
        <p:spPr>
          <a:xfrm rot="20700000">
            <a:off x="11091960" y="-12600"/>
            <a:ext cx="178740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" descr=""/>
          <p:cNvPicPr/>
          <p:nvPr/>
        </p:nvPicPr>
        <p:blipFill>
          <a:blip r:embed="rId2"/>
          <a:stretch/>
        </p:blipFill>
        <p:spPr>
          <a:xfrm>
            <a:off x="10250640" y="54000"/>
            <a:ext cx="380196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2"/>
          <a:stretch/>
        </p:blipFill>
        <p:spPr>
          <a:xfrm>
            <a:off x="10007640" y="38160"/>
            <a:ext cx="5675400" cy="28591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1" descr=""/>
          <p:cNvPicPr/>
          <p:nvPr/>
        </p:nvPicPr>
        <p:blipFill>
          <a:blip r:embed="rId2"/>
          <a:stretch/>
        </p:blipFill>
        <p:spPr>
          <a:xfrm rot="20700000">
            <a:off x="10651680" y="47160"/>
            <a:ext cx="2610000" cy="27910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1" descr=""/>
          <p:cNvPicPr/>
          <p:nvPr/>
        </p:nvPicPr>
        <p:blipFill>
          <a:blip r:embed="rId2"/>
          <a:stretch/>
        </p:blipFill>
        <p:spPr>
          <a:xfrm rot="12600000">
            <a:off x="9807120" y="447120"/>
            <a:ext cx="3503880" cy="18493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1" descr=""/>
          <p:cNvPicPr/>
          <p:nvPr/>
        </p:nvPicPr>
        <p:blipFill>
          <a:blip r:embed="rId2"/>
          <a:stretch/>
        </p:blipFill>
        <p:spPr>
          <a:xfrm rot="20700000">
            <a:off x="10433160" y="137880"/>
            <a:ext cx="2741400" cy="24652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1" descr=""/>
          <p:cNvPicPr/>
          <p:nvPr/>
        </p:nvPicPr>
        <p:blipFill>
          <a:blip r:embed="rId2"/>
          <a:stretch/>
        </p:blipFill>
        <p:spPr>
          <a:xfrm>
            <a:off x="10499760" y="-447840"/>
            <a:ext cx="3160800" cy="31467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71320" y="309600"/>
            <a:ext cx="826740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edhodne pogojenosti</a:t>
            </a:r>
            <a:br>
              <a:rPr sz="3600"/>
            </a:b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edstavitev stanja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Kaj je predhodna pogojenost?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63560" y="1517400"/>
            <a:ext cx="10174320" cy="4717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konkreten in natančno vnaprej opredeljen ključni dejavnik, ki je pogoj za uspešno in učinkovito doseganje posebnega cilja naložbene prednostne naloge Unij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je neposredno in resnično povezan z doseganjem tega cilja ter nanj neposredno vpl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plošni predhodni pogoji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o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ovezani s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horizontalnimi vidiki izvajanja programa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in se jih uporablja za vse evropske strukturne in investicijske skl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tematski predhodni pogoji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o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ovezani s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tematskimi cilji in prednostnimi naložbam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kohezijske politike ter se jih uporablja v povezavi z naložbami v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specifično tematsko področ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Kaj je predhodna pogojenost?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728280" y="2006280"/>
            <a:ext cx="10093320" cy="42735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 Operativni program za izvajanje Evropske kohezijske politike za obdobje 2014-2020 je relevantnih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7 splošnih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hodnih pogojenosti in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21 tematskih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hodnih pogojeno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 pogojenosti, ki ob oddaji programskega dokumenta niso bile v celoti izpolnjene, so bili pripravljeni akcijski načrti z jasno opredeljenimi ukrepi in rokom za izpolnitev ter odgovornimi organ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krajni rok za izpolnitev predhodnih pogojenosti je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1. 12. 20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Splošne pogojenosti -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39360" y="1482840"/>
            <a:ext cx="9969480" cy="48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izpolnjene: Boj proti diskriminaciji; Enakost spolov; Invalidnost; Državne pomoč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neizpolnjene: Javno naročanje; Okoljska zakonodaja; Statistični sistem in kazalniki rezultatov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0" name=""/>
          <p:cNvGraphicFramePr/>
          <p:nvPr/>
        </p:nvGraphicFramePr>
        <p:xfrm>
          <a:off x="568440" y="3382920"/>
          <a:ext cx="10155240" cy="3044880"/>
        </p:xfrm>
        <a:graphic>
          <a:graphicData uri="http://schemas.openxmlformats.org/drawingml/2006/table">
            <a:tbl>
              <a:tblPr/>
              <a:tblGrid>
                <a:gridCol w="2290680"/>
                <a:gridCol w="4011480"/>
                <a:gridCol w="1944720"/>
                <a:gridCol w="1908360"/>
              </a:tblGrid>
              <a:tr h="7038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lošne pogojenost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119124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vno naroč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praks javnega naroč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 usposabljan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ročnik za izvedbo postopkov javnih naroč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, 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3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koljska zakonodaj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obraževalni program za vsebine s področja okoljske zakonoda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tistični sistem in kazalniki rezultato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črt sistema spremlj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ločitev metodologije za 2 kazalnik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837720" y="1526760"/>
            <a:ext cx="9682200" cy="47084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polnjene: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Ukrepi za spodbujanje soproizvodnje toplote in električne energije z visokim izkoristkom; Dostop do zaposlitve; Pobuda za zaposlovanje mladih; Socialna vključenost; Vseživljenjsko učenje; Poklicno izobražev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neizpolnjene: Raziskave in inovacije; Infrastruktura za raziskave in inovacije; Digitalna rast; Infrastruktura za omrežja naslednje generacije; Spodbujanje Akta za mala podjetja; Ukrepi za spodbujanje energetske učinkovitosti stavb; Ukrepi za spodbujanje proizvodnje in distribucije obnovljivih virov energije; Preprečevanje in obvladovanje tveganja; Vodni sektor; Promet; Železniški promet; Drugi načini prevoza; Aktivno in zdravo staranje; Zdravje; Institucionalna usposobljenost in učinkovita javna upra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0" algn="just">
              <a:lnSpc>
                <a:spcPct val="115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30000" y="1472760"/>
            <a:ext cx="1014732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612720" y="1455840"/>
          <a:ext cx="10212480" cy="5259240"/>
        </p:xfrm>
        <a:graphic>
          <a:graphicData uri="http://schemas.openxmlformats.org/drawingml/2006/table">
            <a:tbl>
              <a:tblPr/>
              <a:tblGrid>
                <a:gridCol w="2637000"/>
                <a:gridCol w="3643200"/>
                <a:gridCol w="1951200"/>
                <a:gridCol w="1981080"/>
              </a:tblGrid>
              <a:tr h="6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496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ziskave in inov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pametne specializacij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7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rastruktura za raziskave in inov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pametne specializ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zija Načrta razvoja raziskovalne infrastrukture 2011 -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, 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gitalna ra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razvoja informacijske družbe do leta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5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62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rastruktura za omrežja naslednje gener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črt razvoja širokopasovnih omrežij naslednje generacije do leta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5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dbujanje Akta za mala podjet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aplikacije MSP te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pravnih podl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četek izvajanja MSP te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RT, 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1017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repi za spodbujanje energetske učinkovitosti stav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za mobilizacijo naložb v obnovo stanovanjskih in poslovnih stavb, javnih in zasebni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37720" y="1348920"/>
            <a:ext cx="1011708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36560" y="1349280"/>
          <a:ext cx="10245600" cy="4964040"/>
        </p:xfrm>
        <a:graphic>
          <a:graphicData uri="http://schemas.openxmlformats.org/drawingml/2006/table">
            <a:tbl>
              <a:tblPr/>
              <a:tblGrid>
                <a:gridCol w="2610000"/>
                <a:gridCol w="3693960"/>
                <a:gridCol w="1979640"/>
                <a:gridCol w="1962000"/>
              </a:tblGrid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repi za spodbujanje proizvodnje in distribucije obnovljivih virov energ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stemska obratovalna navodi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1463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prečevanje in obvladovanje tveg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novih in sprememba obstoječih ocen tveganja; celovito nacionalno ocenjevanje tveganja; nacionalne strategije prilagajanja podnebnim sprememb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46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dni sek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vedba načrta vrze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 12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34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razvoja prome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administrativne usposobljenosti s predlogi ukrepo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9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53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Železniški pro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1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ugi načini prevoz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11080" y="1523520"/>
            <a:ext cx="958536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719280" y="1490760"/>
          <a:ext cx="10048680" cy="3498840"/>
        </p:xfrm>
        <a:graphic>
          <a:graphicData uri="http://schemas.openxmlformats.org/drawingml/2006/table">
            <a:tbl>
              <a:tblPr/>
              <a:tblGrid>
                <a:gridCol w="2492280"/>
                <a:gridCol w="3657600"/>
                <a:gridCol w="1971720"/>
                <a:gridCol w="1927080"/>
              </a:tblGrid>
              <a:tr h="449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14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ktivno in zdravo star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stanja starejših delavcev na slovenskem trgu de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fikacija področij ukrep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vedbeni načrt za uvajanje novih ukrep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DS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5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ravj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olucija o nacionalnem planu zdravstvenega varstv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7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24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cionalna usposobljenost in učinkovita javna upra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nadaljnjega razvoja slovenske javne uprave 2014 -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4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465200" y="1706040"/>
            <a:ext cx="9428400" cy="276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sl-SI" sz="2900" spc="-1" strike="noStrike">
                <a:solidFill>
                  <a:srgbClr val="0070c0"/>
                </a:solidFill>
                <a:latin typeface="Calibri"/>
              </a:rPr>
              <a:t>Najlepša hvala.</a:t>
            </a:r>
            <a:br>
              <a:rPr sz="2900"/>
            </a:br>
            <a:r>
              <a:rPr b="1" lang="sl-SI" sz="2900" spc="-1" strike="noStrike">
                <a:solidFill>
                  <a:srgbClr val="0070c0"/>
                </a:solidFill>
                <a:latin typeface="Calibri"/>
              </a:rPr>
              <a:t>SVRK</a:t>
            </a:r>
            <a:br>
              <a:rPr sz="2900"/>
            </a:br>
            <a:br>
              <a:rPr sz="2900"/>
            </a:br>
            <a:r>
              <a:rPr b="0" i="1" lang="sl-SI" sz="1400" spc="-1" strike="noStrike">
                <a:solidFill>
                  <a:srgbClr val="7f7f7f"/>
                </a:solidFill>
                <a:latin typeface="Calibri"/>
              </a:rPr>
              <a:t>http://www.svrk.gov.si/si/delovna_podrocja/evropska_kohezijska_politika/ekp_2014_2020/strateski_in_izvedbeni_dokumenti/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5T08:55:18Z</dcterms:created>
  <dc:creator>Anja Kampuš</dc:creator>
  <dc:description/>
  <dc:language>en-US</dc:language>
  <cp:lastModifiedBy>Anja Kampus</cp:lastModifiedBy>
  <cp:lastPrinted>2015-03-10T14:20:03Z</cp:lastPrinted>
  <dcterms:modified xsi:type="dcterms:W3CDTF">2015-03-24T21:47:14Z</dcterms:modified>
  <cp:revision>43</cp:revision>
  <dc:subject/>
  <dc:title>Predhodne pogojenosti</dc:title>
</cp:coreProperties>
</file>