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2193588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3A9E-1987-46C4-A938-8D9586822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5458-2368-4875-A5D5-5AD60551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AECE-2A2B-4CD2-8A41-5E852A92D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DAE2-8CD1-44F5-868A-87A55F5CE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DE78-D21C-442B-82F2-90988885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6514-BBA7-40CD-8B96-FAC975B5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9336-798A-406B-A663-2846C733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19A5-FD59-43B4-8F8B-E0A5B413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5BC2-C16E-4212-B8BD-5464682C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26BA-FEE6-4412-80C2-3E9512B6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CF73-D3A4-41E1-BEE8-8EDF3A74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ADA6-7874-42C8-967C-EC09D342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1F3F-93F5-4B9B-853F-454AC64F60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8267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hodne pogojenosti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stavitev stanja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3560" y="1517400"/>
            <a:ext cx="10174320" cy="471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nkreten in natančno vnaprej opredeljen ključni dejavnik, ki je pogoj za uspešno in učinkovito doseganje posebnega cilja naložbene prednostne naloge Uni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 neposredno in resnično povezan z doseganjem tega cilja ter nanj neposredno vpl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lošn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orizontalnimi vidiki izvajanja programa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in se jih uporablja za vse evropske strukturne in investicijske skl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ematsk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tematskimi cilji in prednostnimi naložbam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kohezijske politike ter se jih uporablja v povezavi z naložbami v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pecifično tematsko področ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28280" y="2006280"/>
            <a:ext cx="10093320" cy="42735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Operativni program za izvajanje Evropske kohezijske politike za obdobje 2014-2020 je relevantnih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 splošn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 in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1 tematsk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pogojenosti, ki ob oddaji programskega dokumenta niso bile v celoti izpolnjene, so bili pripravljeni akcijski načrti z jasno opredeljenimi ukrepi in rokom za izpolnitev ter odgovornimi orga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rajni rok za izpolnitev predhodnih pogojenosti j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1. 12.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lošne pogojenosti -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39360" y="1482840"/>
            <a:ext cx="996948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polnjene: Boj proti diskriminaciji; Enakost spolov; Invalidnost; Državne pomoč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eizpolnjene: Javno naročanje; Okoljska zakonodaja; Statistični sistem in kazalniki rezultato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568440" y="3382920"/>
          <a:ext cx="10155240" cy="3044880"/>
        </p:xfrm>
        <a:graphic>
          <a:graphicData uri="http://schemas.openxmlformats.org/drawingml/2006/table">
            <a:tbl>
              <a:tblPr/>
              <a:tblGrid>
                <a:gridCol w="2290680"/>
                <a:gridCol w="4011480"/>
                <a:gridCol w="1944720"/>
                <a:gridCol w="1908360"/>
              </a:tblGrid>
              <a:tr h="703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ošne pogoje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vno naroč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praks javnega naroč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usposablja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ročnik za izvedbo postopkov javnih naroč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3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oljska zakonoda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obraževalni program za vsebine s področja okoljske zakon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čni sistem in kazalniki rezultat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sistema spremlj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očitev metodologije za 2 kazalni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526760"/>
            <a:ext cx="9682200" cy="47084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olnjene: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Ukrepi za spodbujanje soproizvodnje toplote in električne energije z visokim izkoristkom; Dostop do zaposlitve; Pobuda za zaposlovanje mladih; Socialna vključenost; Vseživljenjsko učenje; Poklicno izobraže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neizpolnjene: Raziskave in inovacije; Infrastruktura za raziskave in inovacije; Digitalna rast; Infrastruktura za omrežja naslednje generacije; Spodbujanje Akta za mala podjetja; Ukrepi za spodbujanje energetske učinkovitosti stavb; Ukrepi za spodbujanje proizvodnje in distribucije obnovljivih virov energije; Preprečevanje in obvladovanje tveganja; Vodni sektor; Promet; Železniški promet; Drugi načini prevoza; Aktivno in zdravo staranje; Zdravje; Institucionalna usposobljenost in učinkovita javna u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115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30000" y="1472760"/>
            <a:ext cx="101473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612720" y="1455840"/>
          <a:ext cx="10212480" cy="5259240"/>
        </p:xfrm>
        <a:graphic>
          <a:graphicData uri="http://schemas.openxmlformats.org/drawingml/2006/table">
            <a:tbl>
              <a:tblPr/>
              <a:tblGrid>
                <a:gridCol w="2637000"/>
                <a:gridCol w="3643200"/>
                <a:gridCol w="1951200"/>
                <a:gridCol w="1981080"/>
              </a:tblGrid>
              <a:tr h="6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9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zija Načrta razvoja raziskovalne infrastrukture 2011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na 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informacijske družb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omrežja naslednje gener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razvoja širokopasovnih omrežij naslednje generacij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dbujanje Akta za mala podjet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aplikacije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pravnih pod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etek izvajanja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01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energetske učinkovitosti sta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za mobilizacijo naložb v obnovo stanovanjskih in poslovnih stavb, javnih in zasebni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348920"/>
            <a:ext cx="10117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36560" y="1349280"/>
          <a:ext cx="10245600" cy="4964040"/>
        </p:xfrm>
        <a:graphic>
          <a:graphicData uri="http://schemas.openxmlformats.org/drawingml/2006/table">
            <a:tbl>
              <a:tblPr/>
              <a:tblGrid>
                <a:gridCol w="2610000"/>
                <a:gridCol w="3693960"/>
                <a:gridCol w="1979640"/>
                <a:gridCol w="1962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proizvodnje in distribucije obnovljivih virov energ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ska obratovalna navod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rečevanje in obvladovanje tve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novih in sprememba obstoječih ocen tveganja; celovito nacionalno ocenjevanje tveganja; nacionalne strategije prilagajanja podnebnim sprememb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ni sek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a načrta vrz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pro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administrativne usposobljenosti s predlogi ukrep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9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lezniški 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gi načini prevo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11080" y="1523520"/>
            <a:ext cx="95853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719280" y="1490760"/>
          <a:ext cx="10048680" cy="3498840"/>
        </p:xfrm>
        <a:graphic>
          <a:graphicData uri="http://schemas.openxmlformats.org/drawingml/2006/table">
            <a:tbl>
              <a:tblPr/>
              <a:tblGrid>
                <a:gridCol w="2492280"/>
                <a:gridCol w="3657600"/>
                <a:gridCol w="1971720"/>
                <a:gridCol w="1927080"/>
              </a:tblGrid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4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no in zdravo sta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stanja starejših delavcev na slovenskem trgu 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ija področij ukrep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eni načrt za uvajanje novih ukrep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D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cija o nacionalnem planu zdravstvenega varst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ionalna usposobljenost in učinkovita javna u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nadaljnjega razvoja slovenske javne uprave 2014 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65200" y="1706040"/>
            <a:ext cx="9428400" cy="27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2900"/>
            </a:br>
            <a:br>
              <a:rPr sz="2900"/>
            </a:br>
            <a:r>
              <a:rPr b="0" i="1" lang="sl-SI" sz="14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08:55:18Z</dcterms:created>
  <dc:creator>Anja Kampuš</dc:creator>
  <dc:description/>
  <dc:language>en-US</dc:language>
  <cp:lastModifiedBy>Anja Kampus</cp:lastModifiedBy>
  <cp:lastPrinted>2015-03-10T14:20:03Z</cp:lastPrinted>
  <dcterms:modified xsi:type="dcterms:W3CDTF">2015-03-24T21:47:14Z</dcterms:modified>
  <cp:revision>43</cp:revision>
  <dc:subject/>
  <dc:title>Predhodne pogojenosti</dc:title>
</cp:coreProperties>
</file>