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23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D999-6536-46B0-BB12-070847F11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6A9C-755A-445E-A671-E696E94A1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0ECA-3CDD-4840-A295-1BB1A5632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5D4E-8CBB-417F-8EE1-5A7F185BE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B4024-B3F4-444D-BAF5-5615A8CA8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FC9E5-0230-4671-849F-8D288A073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202A2-4075-4E39-A23E-FA56B2F2F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35A32-C32D-488D-80A3-DD2D6C764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6E469-2A60-4DD6-9E54-0AB4E65F8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EE273-E4E6-4AEE-B78B-6F80017FE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F366E-BCF3-4C77-93FE-62550DD2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E2B5-D5CD-4FEF-8974-FFD756BBC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4D29B-8D85-4C7C-A3C8-BA260199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F368D-500B-45CD-85D2-758D4466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C27A0-D085-40D7-9FE7-33CB5C752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C3A15-D483-491A-AE1B-BFCDC762B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190BF-352A-4465-AB05-8E5092E66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522F9-6A6F-43A8-BC55-B21158DA5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F5180-C4F5-4024-A60B-6404AFBA8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E21AA-8038-49EF-8B77-039A60B55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5F615-427C-43AD-95AE-C78A17116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1AF8D-55CD-442D-8E9A-78ABC790B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8D3A-0E41-437E-A051-9C52CA94D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7BB78-A1CF-4A63-93AC-3C47DDF09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8F072-1C81-473F-ACA2-614EACB5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85758-2B58-48BE-BFF5-0A08FA17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A157C-7994-461A-9F6A-777731E4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75FD0-0A80-4A0C-9856-234C99405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4FD2D-F64E-45A1-97CE-883DB4DE3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1B3D4-9B60-4DDD-8257-BA79EB82C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741C3-6EB8-4CC7-95BB-D3F50D690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E8BB2-E13E-47E8-B7E8-4899726A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D11DB-1D2F-4584-8C0D-94289E016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05C8-423F-44A8-BF6B-A1BAB1FD1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C6820-1D04-458D-80AA-C1DBF2C45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6E7F8-FF69-4946-8339-9AE1B1F88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6D424-E508-43E2-81C4-7C34D2946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8DF6B-674B-4FD1-A797-EAC9BDD4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F8E13-4B1D-432F-B567-81DF088D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C7ADE-E905-4226-B2A7-C8C31520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48D6E-C44B-4813-9D9C-83A4D3784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7CFE2-FB2F-4BDB-85C5-5FAEB9496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61BD7-0A0F-4203-B03D-4745043A1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E7600-CF9D-4566-9B9B-D0A701EB5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2F4C-A3E9-43E0-AE5E-FAD42044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169B1-C316-419F-8C26-69292096E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7D501-2F03-4054-B630-37D721118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EC245-E14A-4A45-8FA4-8191ADCC2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0EFDE-70C4-4243-BEE2-6FA036125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52F06-68D8-4D06-BF42-52DB9E89E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721E3-FDEF-4A9A-AB08-2F229C5D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5A790-314B-40FA-A162-2629C1C5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ED951-6C45-4C41-AFA5-E3A4427D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F49FD-BEAB-46C8-81AA-35D00E0E3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AFE96-6E33-4BA4-BC51-08A59D16A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5D14-DC73-434C-9EBC-4B99F32CA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A6BB5-FF8D-4B93-A517-98B37BE04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05CB2-8EF5-40B1-A9F6-7A04368C3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D341C-F1F5-4109-BAE6-906C03F67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8EFF9-72B3-4893-A3CD-A0A7C7B0C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AAED3-872E-4DB8-A9C5-9A321D207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99D5B-6410-4379-ACCF-632B7768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84E94-979A-45A6-8123-48CC361B4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62F4C-1E68-42C8-8BC6-FF0566ED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306F2-81EE-4C00-A3C6-CA21D7C2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33714-597F-42D6-83A4-8068168A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FF83-3183-42C3-ADF4-11E0430E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F58C7-3934-4BB2-A136-C1A80CAA6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7895A-7931-406B-B110-D12A88B11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667D3-049B-4A84-8B99-FCE6A4C68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7E9F-D516-4FB9-B415-BAF9B545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6AC6-7089-4C01-BE6B-6C528708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71640" y="6356520"/>
            <a:ext cx="1582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5FD513-A27F-4DF4-BC7A-9563B571207E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C0FA93-EB71-4543-8D1D-3D26926516E8}" type="slidenum"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85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1007640" y="6356520"/>
            <a:ext cx="194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475992-29CA-49A7-AB94-9446DBEA064B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28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5F4E2F-A474-47E4-95F9-70C51503DF79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71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1F8C27-796C-4A03-8A7D-E62840A49B59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14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BAEAA1-FDA3-4585-969A-6B649B739D01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.danube-region.eu/" TargetMode="External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andreja.jerina@gov.si" TargetMode="External"/><Relationship Id="rId2" Type="http://schemas.openxmlformats.org/officeDocument/2006/relationships/hyperlink" Target="mailto:andreja.jerina@gov.si" TargetMode="External"/><Relationship Id="rId3" Type="http://schemas.openxmlformats.org/officeDocument/2006/relationships/hyperlink" Target="mailto:andreja.jerina@gov.si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257480"/>
            <a:ext cx="7772400" cy="16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MAKROREGIONALNE STRATEGIJE V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4492440"/>
            <a:ext cx="6400800" cy="114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Mag. Andreja Je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Nacionalna koordinator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EU makroregionalne strategi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zz.gov.si/si/evropske_politike/makroregionalne_strategije_evropske_uni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0823"/>
          <p:cNvPicPr/>
          <p:nvPr/>
        </p:nvPicPr>
        <p:blipFill>
          <a:blip r:embed="rId1"/>
          <a:stretch/>
        </p:blipFill>
        <p:spPr>
          <a:xfrm>
            <a:off x="0" y="0"/>
            <a:ext cx="2593800" cy="903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"/>
          <p:cNvPicPr/>
          <p:nvPr/>
        </p:nvPicPr>
        <p:blipFill>
          <a:blip r:embed="rId2"/>
          <a:stretch/>
        </p:blipFill>
        <p:spPr>
          <a:xfrm>
            <a:off x="1190520" y="2971800"/>
            <a:ext cx="1702080" cy="855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"/>
          <p:cNvPicPr/>
          <p:nvPr/>
        </p:nvPicPr>
        <p:blipFill>
          <a:blip r:embed="rId3"/>
          <a:stretch/>
        </p:blipFill>
        <p:spPr>
          <a:xfrm>
            <a:off x="3487680" y="2919240"/>
            <a:ext cx="2317680" cy="895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"/>
          <p:cNvPicPr/>
          <p:nvPr/>
        </p:nvPicPr>
        <p:blipFill>
          <a:blip r:embed="rId4"/>
          <a:stretch/>
        </p:blipFill>
        <p:spPr>
          <a:xfrm>
            <a:off x="6321600" y="3006720"/>
            <a:ext cx="151596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2646360"/>
            <a:ext cx="4038480" cy="34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dra r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vezovanje regije – transport in energ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00b050"/>
                </a:solidFill>
                <a:latin typeface="Arial"/>
              </a:rPr>
              <a:t>okolj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ff0000"/>
                </a:solidFill>
                <a:latin typeface="Arial"/>
              </a:rPr>
              <a:t>M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rajnostni turiz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48320" y="1284120"/>
            <a:ext cx="403848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trategija temelji na 4 stebr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5" descr="http://www.adriatic-ionian.eu/images-x/EUSAIRpillars.jpg"/>
          <p:cNvPicPr/>
          <p:nvPr/>
        </p:nvPicPr>
        <p:blipFill>
          <a:blip r:embed="rId1"/>
          <a:stretch/>
        </p:blipFill>
        <p:spPr>
          <a:xfrm>
            <a:off x="4818240" y="2558880"/>
            <a:ext cx="38509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http://www.alpine-region.eu/grafica/schema-pillars2en.jpg"/>
          <p:cNvPicPr/>
          <p:nvPr/>
        </p:nvPicPr>
        <p:blipFill>
          <a:blip r:embed="rId1"/>
          <a:stretch/>
        </p:blipFill>
        <p:spPr>
          <a:xfrm>
            <a:off x="210960" y="2355840"/>
            <a:ext cx="3986280" cy="421308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LP v nastajanj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044600" y="1600200"/>
            <a:ext cx="481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Avstrija, Italija, Francija, Švica, Nemčija, Slovenija, Lihtenštaj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Časovnic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EK pripravila osnutek EUSAL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avna razprava do oktobra 2014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arec 2015 - Akcijski nač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ulij 2015 - EK Strategijo in AN posreduje ES in E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ktober 2015  - Evropski svet potrdi EUSAP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inistrska konferenca ob zago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98080" y="1960200"/>
            <a:ext cx="2693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3 STEB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Content Placeholder 3"/>
          <p:cNvSpPr/>
          <p:nvPr/>
        </p:nvSpPr>
        <p:spPr>
          <a:xfrm>
            <a:off x="-434880" y="2355840"/>
            <a:ext cx="4479840" cy="42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9560" y="3824280"/>
            <a:ext cx="683928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KAJ PRINAŠAJO MRS DELEŽNIK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17560" y="4519440"/>
            <a:ext cx="7640640" cy="20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VID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Kot znak delovanja skladno z nacionalnimi interesi v regij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rcRect l="5741" t="0" r="5741" b="0"/>
          <a:stretch/>
        </p:blipFill>
        <p:spPr>
          <a:xfrm>
            <a:off x="307800" y="103320"/>
            <a:ext cx="4243680" cy="27543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http://www.danube-region.eu/attachments/article/616492/Logo-00_general_small.jpg"/>
          <p:cNvPicPr/>
          <p:nvPr/>
        </p:nvPicPr>
        <p:blipFill>
          <a:blip r:embed="rId2"/>
          <a:stretch/>
        </p:blipFill>
        <p:spPr>
          <a:xfrm>
            <a:off x="3784680" y="496800"/>
            <a:ext cx="3494160" cy="1436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"/>
          <p:cNvPicPr/>
          <p:nvPr/>
        </p:nvPicPr>
        <p:blipFill>
          <a:blip r:embed="rId3"/>
          <a:stretch/>
        </p:blipFill>
        <p:spPr>
          <a:xfrm>
            <a:off x="4572000" y="2147760"/>
            <a:ext cx="27068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7" descr=""/>
          <p:cNvPicPr/>
          <p:nvPr/>
        </p:nvPicPr>
        <p:blipFill>
          <a:blip r:embed="rId1"/>
          <a:stretch/>
        </p:blipFill>
        <p:spPr>
          <a:xfrm>
            <a:off x="0" y="2454120"/>
            <a:ext cx="2538360" cy="143208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0000"/>
                </a:solidFill>
                <a:latin typeface="Arial"/>
              </a:rPr>
              <a:t>Vidnost za lažji dostop do poslovnih priložnosti in vir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8" descr="The EU Strategy for the Danube Reg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1040" y="1417680"/>
            <a:ext cx="1605240" cy="907920"/>
          </a:xfrm>
          <a:prstGeom prst="rect">
            <a:avLst/>
          </a:prstGeom>
          <a:ln w="0">
            <a:noFill/>
          </a:ln>
        </p:spPr>
      </p:pic>
      <p:pic>
        <p:nvPicPr>
          <p:cNvPr id="310" name="Content Placeholder 5" descr=""/>
          <p:cNvPicPr/>
          <p:nvPr/>
        </p:nvPicPr>
        <p:blipFill>
          <a:blip r:embed="rId4"/>
          <a:stretch/>
        </p:blipFill>
        <p:spPr>
          <a:xfrm>
            <a:off x="2163600" y="1450800"/>
            <a:ext cx="5200920" cy="5053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ttp://www.alpine-region.eu/grafica/logo.jpg"/>
          <p:cNvPicPr/>
          <p:nvPr/>
        </p:nvPicPr>
        <p:blipFill>
          <a:blip r:embed="rId5"/>
          <a:stretch/>
        </p:blipFill>
        <p:spPr>
          <a:xfrm>
            <a:off x="196920" y="3983040"/>
            <a:ext cx="1635120" cy="13539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C:\Users\a1603\AppData\Local\Microsoft\Windows\Temporary Internet Files\Content.IE5\IDLEEK12\splash_home_recycling[1].gif"/>
          <p:cNvPicPr/>
          <p:nvPr/>
        </p:nvPicPr>
        <p:blipFill>
          <a:blip r:embed="rId6"/>
          <a:stretch/>
        </p:blipFill>
        <p:spPr>
          <a:xfrm>
            <a:off x="6373800" y="2225520"/>
            <a:ext cx="277668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0000"/>
                </a:solidFill>
                <a:latin typeface="Arial"/>
              </a:rPr>
              <a:t>Horizontalna načela za izbor projektov/program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Kjer je to relevantno bodo morali projekti/programi upoštevati tud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odano vrednost v okviru EU makroregionalnih poveza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Iz sredstev tehnične pomoči se bodo financirali tudi drugi stroški, nastali na osnovi »ad hoc« potreb v času izvajanja programskega obdobja 2014-2020. V ta sklop sodijo tudi aktivnosti povezane z izvajanjem EU makroregionalnih strategij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HVALA ZA POZOR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2160" y="923400"/>
            <a:ext cx="7772400" cy="348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EČ 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zz.gov.si/si/evropske_politike/makroregionalne_strategije_evropske_unij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ndreja.jerina@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www.mzz.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SI in makror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/>
          <p:cNvPicPr/>
          <p:nvPr/>
        </p:nvPicPr>
        <p:blipFill>
          <a:blip r:embed="rId2"/>
          <a:stretch/>
        </p:blipFill>
        <p:spPr>
          <a:xfrm>
            <a:off x="419040" y="1600200"/>
            <a:ext cx="4076640" cy="4402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"/>
          <p:cNvPicPr/>
          <p:nvPr/>
        </p:nvPicPr>
        <p:blipFill>
          <a:blip r:embed="rId3"/>
          <a:stretch/>
        </p:blipFill>
        <p:spPr>
          <a:xfrm>
            <a:off x="4832280" y="1600200"/>
            <a:ext cx="403884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4832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Orodje EU integracije (kohezija, širitev, sosedstv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Makroregionalna raven omogoča prilagojeno uporabo EU politik (EU2020) za specifično področ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ove oblike teritorialnega sodelovanja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2007-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Osnovna ideja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: učinkovito in uspešno soočanje z izzivi, ki so skupni čezmejnim območj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C:\Users\a1603\AppData\Local\Microsoft\Windows\Temporary Internet Files\Content.IE5\IDLEEK12\splash_home_recycling[1].gif"/>
          <p:cNvPicPr/>
          <p:nvPr/>
        </p:nvPicPr>
        <p:blipFill>
          <a:blip r:embed="rId1"/>
          <a:stretch/>
        </p:blipFill>
        <p:spPr>
          <a:xfrm>
            <a:off x="768240" y="2268360"/>
            <a:ext cx="3346560" cy="32594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648320" y="2084040"/>
            <a:ext cx="403848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Načelo 3 x NE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amesto novih sredstev, struktur in zakonodaje uporabiti obstoječe vire, institucije, koordinirano upravljanje in sinergi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Dva ključna izziva za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DODANA VRED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istop spodbuja udeležence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eseganju nacionalnih meja in premostitvi ovir, ki jim preprečujejo, da bi bolj strateško in ustvarjalno razmišljali o priložnostih, ki se ponujajo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OROČILO EK o dodani vrednosti makroregionalnih strateg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{SWD(2013) 233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final; junij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UPRAVL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revzem lastništva MRS s strani drž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Minimalni pogoj: stabilna nacionalna koordinacija in okrepljeno sodelovanje nacionalnih koordinatorjev in vsebinskih strokovnjakov v usmerjevalnih odbor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odpora izvajanju tudi skozi transnacionalne prog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OČIL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upravljanju makroregionalnih strategi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(2014) 284 final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; maj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C:\Users\a1603\AppData\Local\Microsoft\Windows\Temporary Internet Files\Content.IE5\DO2XG1SJ\windowslivewriterdisillusionedwiththedefinitionofecm-a045thinking32[1].jpg"/>
          <p:cNvPicPr/>
          <p:nvPr/>
        </p:nvPicPr>
        <p:blipFill>
          <a:blip r:embed="rId1"/>
          <a:stretch/>
        </p:blipFill>
        <p:spPr>
          <a:xfrm>
            <a:off x="1055520" y="4754520"/>
            <a:ext cx="2025720" cy="13716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C:\Users\a1603\AppData\Local\Microsoft\Windows\Temporary Internet Files\Content.IE5\N6ZWPFLJ\red-no-signal[1].jpg"/>
          <p:cNvPicPr/>
          <p:nvPr/>
        </p:nvPicPr>
        <p:blipFill>
          <a:blip r:embed="rId2"/>
          <a:stretch/>
        </p:blipFill>
        <p:spPr>
          <a:xfrm>
            <a:off x="7064280" y="981000"/>
            <a:ext cx="1155960" cy="113508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Za kaj pri MRS g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sklajenost nacionalnih interesov med državami regi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veljavljanje nacionalnih priori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d zgoraj navzd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4616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a platforma mehke koordin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 program sodelovanja z lastno strukturo, upravičenimi aktivnostmi, vi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C:\Users\a1603\AppData\Local\Microsoft\Windows\Temporary Internet Files\Content.IE5\0M1AWZJA\Yes_check.svg[1].png"/>
          <p:cNvPicPr/>
          <p:nvPr/>
        </p:nvPicPr>
        <p:blipFill>
          <a:blip r:embed="rId3"/>
          <a:stretch/>
        </p:blipFill>
        <p:spPr>
          <a:xfrm>
            <a:off x="1617840" y="1058760"/>
            <a:ext cx="108108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-217440" y="-90360"/>
            <a:ext cx="9361440" cy="69483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ODONAV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14 držav; 9 EU, 3 kandidatke, 2 sosed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Preko 100 mio prebivalce; 1/5 prebivalcev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kupni izzivi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Razvojni razkorak (S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D, AT 2x večji BDP od regionalnega povprečja, RO, BG 80%, kandidatke 50%, sosedstvo 40% povpreč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ad privlačnosti za investir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rast administrativnih bremen in poslabšanje pogojev poslo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kupne priložnost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Reka kot transportna in trgovska ž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ravljanje z vodami vključno s tveganji – pop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rivlačnost naravne in kulturne dedišč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činkovita raba vir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D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06240" y="2181240"/>
            <a:ext cx="3344760" cy="39304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4308480" y="1599840"/>
            <a:ext cx="437832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odelovanje v okviru 11 prioritetnih področij, združenih v 4 vsebinske steb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vezovanje Podonavj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Varovanje okolja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Zagotavljanje blaginje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repitev Podonav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I koordinira prednostna področ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b – kopenski in zračni promet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MZ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s Srb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0 – administrativna krepitev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CEF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z Avstr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ff0000"/>
                </a:solidFill>
                <a:latin typeface="Arial"/>
              </a:rPr>
              <a:t>NACIONALNI INTERE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184320" y="1600200"/>
            <a:ext cx="3771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6" descr="http://www.adriatic-ionian.eu/images-x/AdriaticIonianRegion.jpg"/>
          <p:cNvPicPr/>
          <p:nvPr/>
        </p:nvPicPr>
        <p:blipFill>
          <a:blip r:embed="rId1"/>
          <a:stretch/>
        </p:blipFill>
        <p:spPr>
          <a:xfrm>
            <a:off x="0" y="61920"/>
            <a:ext cx="9144000" cy="75610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JADRANSKO JON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8 držav; 4 DČ, 4 DN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Italija, Slovenija, Hrvaška, BiH, Črna gora, Albanija, Srbija in Grč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sprejeta na Evropskem svetu oktobra 201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novembra 2014 – ministrska konferenca ob zagonu izvajanj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prejeta pravila več-nivojskega upravljan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rečanje deležnikov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srednji fokus strategije sta morje ter obala z zaledj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0000"/>
                </a:solidFill>
                <a:latin typeface="Arial"/>
              </a:rPr>
              <a:t>Slovenija skupaj z BiH prevzela vodenje okoljskega stebra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za obdobje treh let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5.3. 2015 prvi sestanek okoljskega stebra v Piran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3T12:03:27Z</dcterms:created>
  <dc:creator>Andreja Jerina</dc:creator>
  <dc:description/>
  <dc:language>en-US</dc:language>
  <cp:lastModifiedBy>Andreja Jerina</cp:lastModifiedBy>
  <cp:lastPrinted>2015-03-11T12:51:39Z</cp:lastPrinted>
  <dcterms:modified xsi:type="dcterms:W3CDTF">2015-03-11T12:51:55Z</dcterms:modified>
  <cp:revision>27</cp:revision>
  <dc:subject/>
  <dc:title>MAKROREGIONALNE STRATEGIJE V EU</dc:title>
</cp:coreProperties>
</file>