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notesMasterIdLst>
    <p:notesMasterId r:id="rId18"/>
  </p:notesMasterIdLst>
  <p:sldIdLst>
    <p:sldId id="256" r:id="rId19"/>
    <p:sldId id="257" r:id="rId20"/>
    <p:sldId id="258" r:id="rId21"/>
    <p:sldId id="259" r:id="rId22"/>
    <p:sldId id="260" r:id="rId23"/>
    <p:sldId id="261" r:id="rId24"/>
    <p:sldId id="262" r:id="rId25"/>
    <p:sldId id="263" r:id="rId26"/>
    <p:sldId id="264" r:id="rId27"/>
    <p:sldId id="265" r:id="rId28"/>
    <p:sldId id="266" r:id="rId29"/>
    <p:sldId id="267" r:id="rId30"/>
    <p:sldId id="268" r:id="rId31"/>
    <p:sldId id="269" r:id="rId32"/>
    <p:sldId id="270" r:id="rId33"/>
    <p:sldId id="271" r:id="rId34"/>
    <p:sldId id="272" r:id="rId35"/>
    <p:sldId id="273" r:id="rId36"/>
    <p:sldId id="274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notesMaster" Target="notesMasters/notesMaster1.xml"/><Relationship Id="rId19" Type="http://schemas.openxmlformats.org/officeDocument/2006/relationships/slide" Target="slides/slide1.xml"/><Relationship Id="rId20" Type="http://schemas.openxmlformats.org/officeDocument/2006/relationships/slide" Target="slides/slide2.xml"/><Relationship Id="rId21" Type="http://schemas.openxmlformats.org/officeDocument/2006/relationships/slide" Target="slides/slide3.xml"/><Relationship Id="rId22" Type="http://schemas.openxmlformats.org/officeDocument/2006/relationships/slide" Target="slides/slide4.xml"/><Relationship Id="rId23" Type="http://schemas.openxmlformats.org/officeDocument/2006/relationships/slide" Target="slides/slide5.xml"/><Relationship Id="rId24" Type="http://schemas.openxmlformats.org/officeDocument/2006/relationships/slide" Target="slides/slide6.xml"/><Relationship Id="rId25" Type="http://schemas.openxmlformats.org/officeDocument/2006/relationships/slide" Target="slides/slide7.xml"/><Relationship Id="rId26" Type="http://schemas.openxmlformats.org/officeDocument/2006/relationships/slide" Target="slides/slide8.xml"/><Relationship Id="rId27" Type="http://schemas.openxmlformats.org/officeDocument/2006/relationships/slide" Target="slides/slide9.xml"/><Relationship Id="rId28" Type="http://schemas.openxmlformats.org/officeDocument/2006/relationships/slide" Target="slides/slide10.xml"/><Relationship Id="rId29" Type="http://schemas.openxmlformats.org/officeDocument/2006/relationships/slide" Target="slides/slide11.xml"/><Relationship Id="rId30" Type="http://schemas.openxmlformats.org/officeDocument/2006/relationships/slide" Target="slides/slide12.xml"/><Relationship Id="rId31" Type="http://schemas.openxmlformats.org/officeDocument/2006/relationships/slide" Target="slides/slide13.xml"/><Relationship Id="rId32" Type="http://schemas.openxmlformats.org/officeDocument/2006/relationships/slide" Target="slides/slide14.xml"/><Relationship Id="rId33" Type="http://schemas.openxmlformats.org/officeDocument/2006/relationships/slide" Target="slides/slide15.xml"/><Relationship Id="rId34" Type="http://schemas.openxmlformats.org/officeDocument/2006/relationships/slide" Target="slides/slide16.xml"/><Relationship Id="rId35" Type="http://schemas.openxmlformats.org/officeDocument/2006/relationships/slide" Target="slides/slide17.xml"/><Relationship Id="rId36" Type="http://schemas.openxmlformats.org/officeDocument/2006/relationships/slide" Target="slides/slide18.xml"/><Relationship Id="rId37" Type="http://schemas.openxmlformats.org/officeDocument/2006/relationships/slide" Target="slides/slide19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2AAE4-57CD-4A98-AA54-09BB842F7C38}" type="slidenum">
              <a:rPr b="0" lang="sl-SI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95C2-0E4E-40BD-8F61-0204B2AC5517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2D167-3CD5-4B11-9114-B5E925FDD177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l-SI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Ograda številke diapoz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F0B40-C749-4C9F-B81D-7D415A539FCE}" type="slidenum">
              <a:rPr b="0" lang="sl-SI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9B800-F496-454E-AE90-B8346E02D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9655-E621-4D1D-869C-418355162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1A9-CD8A-4706-B41D-B4D407FBF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7E1F-12E9-4F2E-B71A-2C60B99E5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3355C-C6A1-4372-89AF-508FC06BBA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100EB-79FF-4883-88C3-351D8FE70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1D930-D52A-4D3B-BCCC-A653F74F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18202-5BE9-4C73-B4C0-D68D41C56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6116-E6B9-41AC-A2C4-20FEEA37B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BA1AF-C2DD-4652-A8A1-9931F592A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9325A-6665-46AF-AC6D-2011D3F2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A8266-CD42-45A7-A3C2-52834F756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2FE6A-10BE-4430-95FF-8FD6CB1D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D3B61-7A77-4594-941F-AE6DE54F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1BAC3-6460-4D07-B79D-F2AAF6967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B04A5-1A82-4EE2-A304-4DAC4CE0F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5E4515-A5BE-4844-987A-C0D79BB58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D8A709-DC4E-4FA2-9C7D-BAB7A39B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E10396-736F-459A-9A56-5FFB8732D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76421C-5E35-460D-97C9-B707C6555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278E03-9A39-41AD-B9D2-330A232DE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0F55B5-2273-418F-8A55-0C136FEA7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832E6-F52C-4DB4-89DF-DCAF0EF1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651CB-7854-4F02-AECA-69C547131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B2D583-1EAF-4D50-8271-0D6740890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FBBC80-7C68-497D-92DB-0B4BB1214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1787A0-7922-4CF2-B0E0-EDA844421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90DD5D-BC30-41B2-A39D-BFBEAC206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23717-1E6F-4D68-B84A-A23EC4D91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B1515-0957-41DA-98E2-500DB3CCB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D9C85-6021-44AF-A2CF-0A2F60F9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3DC69-997A-4C7B-9B7A-458F08E06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A576-775A-4C83-8649-3F13E0834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A8A89-3C3A-43DB-87DF-101B4A81C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D2360-C6C9-4162-AD6A-F16678C6A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C92D-FC6F-42D8-90CC-C628E3DEE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06DDF-5176-4B9E-96CE-262C775174C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3" descr=""/>
          <p:cNvPicPr/>
          <p:nvPr/>
        </p:nvPicPr>
        <p:blipFill>
          <a:blip r:embed="rId2"/>
          <a:stretch/>
        </p:blipFill>
        <p:spPr>
          <a:xfrm rot="20700000">
            <a:off x="7700760" y="-412560"/>
            <a:ext cx="2241360" cy="276408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4" descr=""/>
          <p:cNvPicPr/>
          <p:nvPr/>
        </p:nvPicPr>
        <p:blipFill>
          <a:blip r:embed="rId2"/>
          <a:stretch/>
        </p:blipFill>
        <p:spPr>
          <a:xfrm>
            <a:off x="7543800" y="128520"/>
            <a:ext cx="2987640" cy="25560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3" descr=""/>
          <p:cNvPicPr/>
          <p:nvPr/>
        </p:nvPicPr>
        <p:blipFill>
          <a:blip r:embed="rId2"/>
          <a:stretch/>
        </p:blipFill>
        <p:spPr>
          <a:xfrm>
            <a:off x="7707240" y="-112680"/>
            <a:ext cx="2718000" cy="214164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5" descr=""/>
          <p:cNvPicPr/>
          <p:nvPr/>
        </p:nvPicPr>
        <p:blipFill>
          <a:blip r:embed="rId2"/>
          <a:stretch/>
        </p:blipFill>
        <p:spPr>
          <a:xfrm>
            <a:off x="7297560" y="181080"/>
            <a:ext cx="2497320" cy="19936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2e75b6"/>
              </a:gs>
              <a:gs pos="100000">
                <a:srgbClr val="9dc3e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4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65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e7e6e6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6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e7e6e6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7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8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9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8199E-991D-4F0E-97E3-D84B204B988A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BB463-7C51-4CEA-91D2-2CF1F5F033D9}" type="slidenum"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tretch/>
        </p:blipFill>
        <p:spPr>
          <a:xfrm>
            <a:off x="637380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9" descr=""/>
          <p:cNvPicPr/>
          <p:nvPr/>
        </p:nvPicPr>
        <p:blipFill>
          <a:blip r:embed="rId4"/>
          <a:stretch/>
        </p:blipFill>
        <p:spPr>
          <a:xfrm>
            <a:off x="-606600" y="2532240"/>
            <a:ext cx="10110960" cy="2889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10"/>
          <p:cNvSpPr/>
          <p:nvPr/>
        </p:nvSpPr>
        <p:spPr>
          <a:xfrm>
            <a:off x="6235560" y="1366920"/>
            <a:ext cx="192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"/>
          <p:cNvPicPr/>
          <p:nvPr/>
        </p:nvPicPr>
        <p:blipFill>
          <a:blip r:embed="rId2"/>
          <a:stretch/>
        </p:blipFill>
        <p:spPr>
          <a:xfrm rot="20700000">
            <a:off x="8420040" y="-12600"/>
            <a:ext cx="178776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7440480" y="54000"/>
            <a:ext cx="380232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7299360" y="38160"/>
            <a:ext cx="4879800" cy="24588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3" descr=""/>
          <p:cNvPicPr/>
          <p:nvPr/>
        </p:nvPicPr>
        <p:blipFill>
          <a:blip r:embed="rId2"/>
          <a:stretch/>
        </p:blipFill>
        <p:spPr>
          <a:xfrm rot="20700000">
            <a:off x="7799400" y="72720"/>
            <a:ext cx="2368440" cy="25318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4" descr=""/>
          <p:cNvPicPr/>
          <p:nvPr/>
        </p:nvPicPr>
        <p:blipFill>
          <a:blip r:embed="rId2"/>
          <a:stretch/>
        </p:blipFill>
        <p:spPr>
          <a:xfrm rot="13198800">
            <a:off x="7043040" y="420480"/>
            <a:ext cx="3143160" cy="16588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3" descr=""/>
          <p:cNvPicPr/>
          <p:nvPr/>
        </p:nvPicPr>
        <p:blipFill>
          <a:blip r:embed="rId2"/>
          <a:stretch/>
        </p:blipFill>
        <p:spPr>
          <a:xfrm rot="20700000">
            <a:off x="7705800" y="190080"/>
            <a:ext cx="2381040" cy="214164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c3f6"/>
            </a:gs>
            <a:gs pos="100000">
              <a:srgbClr val="e1ec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4" descr=""/>
          <p:cNvPicPr/>
          <p:nvPr/>
        </p:nvPicPr>
        <p:blipFill>
          <a:blip r:embed="rId2"/>
          <a:stretch/>
        </p:blipFill>
        <p:spPr>
          <a:xfrm>
            <a:off x="7736040" y="-520560"/>
            <a:ext cx="3033720" cy="301752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9" descr=""/>
          <p:cNvPicPr/>
          <p:nvPr/>
        </p:nvPicPr>
        <p:blipFill>
          <a:blip r:embed="rId3"/>
          <a:stretch/>
        </p:blipFill>
        <p:spPr>
          <a:xfrm>
            <a:off x="792000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07880" y="1212840"/>
            <a:ext cx="616608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Arial"/>
                <a:ea typeface="Arial"/>
              </a:rPr>
              <a:t>Ureditev kohezijske politike v Republiki Sloveniji v programskem obdobju 2014–2020 za cilj "naložbe za rast in delovna mesta"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0" name="TextBox 2"/>
          <p:cNvSpPr/>
          <p:nvPr/>
        </p:nvSpPr>
        <p:spPr>
          <a:xfrm>
            <a:off x="3490920" y="444672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800" spc="-1" strike="noStrike">
                <a:solidFill>
                  <a:srgbClr val="000000"/>
                </a:solidFill>
                <a:latin typeface="Calibri"/>
              </a:rPr>
              <a:t>Brdo, 25.3.20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"/>
          <p:cNvSpPr txBox="1"/>
          <p:nvPr/>
        </p:nvSpPr>
        <p:spPr>
          <a:xfrm>
            <a:off x="260280" y="2017800"/>
            <a:ext cx="740880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če stvari ne tečejo (korekcije, neustrezna dinamika, nedoseganje ciljev…) – brez soglasja posredniškega organ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razporejanje iz postavk ministrstev na postavke OU v okviru evidenčnega projekta v primeru nižje vrednosti od predvide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ržanje izvajanja (sum goljufije, neizvajanje korekcij, terjatev) do 3 mesec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razporejanje in zadržanje izvaj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"/>
          <p:cNvSpPr txBox="1"/>
          <p:nvPr/>
        </p:nvSpPr>
        <p:spPr>
          <a:xfrm>
            <a:off x="415440" y="2048040"/>
            <a:ext cx="7409160" cy="34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 še zahtevek za izplačilo iz proračuna (ZZI), ni več zahtevka za povračilo (ZZ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i over-commitment-ov, pač pa v okviru „integrale“ več projektov, ki v celoti sledijo EU pravilom in lahko takoj zamenjajo problematične (naknadna dodelitev kohezijskih sredstev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bo določil standardne člene pogodbe o sofinanciranju za posamezne vrste operacij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"/>
          <p:cNvSpPr txBox="1"/>
          <p:nvPr/>
        </p:nvSpPr>
        <p:spPr>
          <a:xfrm>
            <a:off x="301680" y="236016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verjanje „prenesenih nalog“ s strani O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bveznost izvajanja ukrepov (finančnih popravkov) v skladu s končnimi priporočili in ugotovitvami OU in nadzornih organov (SI in EU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e novos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 txBox="1"/>
          <p:nvPr/>
        </p:nvSpPr>
        <p:spPr>
          <a:xfrm>
            <a:off x="301320" y="22935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ov informacijski sistem (e-MA), z novimi možnostmi in vzvodi za planiranje in upravljanje (npr. tudi za sledenje predvideni dinamiki preko I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elika povezanost z MFERA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hodna rešitev v letu 2015 (ISARR-2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Predpogoj za uspešno upravljanj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"/>
          <p:cNvSpPr txBox="1"/>
          <p:nvPr/>
        </p:nvSpPr>
        <p:spPr>
          <a:xfrm>
            <a:off x="290520" y="20728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kon o izvrševanju proračuna Republike Slovenije (kasneje tudi Zakon o javnih financa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redba o koriščenju sredstev evropske kohezijske politike v Republiki Sloveniji v programskem obdobju 2014–2020 za cilj "naložbe za rast in delovna mesta„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edbeni akt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rije sklopi nove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"/>
          <p:cNvSpPr txBox="1"/>
          <p:nvPr/>
        </p:nvSpPr>
        <p:spPr>
          <a:xfrm>
            <a:off x="255600" y="130284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za pripravo Izvedbenega načrta in Predloga k izvedbenemu načrt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finančno upravljanje  in izvajanja evropske kohezijske politike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o OU o izpolnjevanju pogojev za imenovanje posredniškega organa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o upravičenih stroških za sredstva evropske kohezijske politike za programsko obdobj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načrtovanje, spremljanje, poročanje </a:t>
            </a: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in vrednotenje </a:t>
            </a: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izvajanja kohezijske politike v programskem obdobju 2014 – 2020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preverjanj po 125. členu Uredbe (EU) št. 1303/2013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izvajanje tehnične podpore evropske kohezijske politike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900" spc="-1" strike="noStrike">
                <a:solidFill>
                  <a:srgbClr val="000000"/>
                </a:solidFill>
                <a:latin typeface="Calibri"/>
              </a:rPr>
              <a:t>Navodila OU za informiranje in obveščanje javnosti o kohezijskem in strukturnih skladih v programskem obdobju 2014-2020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a OU za spremljanje izvajanja OP z informacijskim sistemom OU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900" spc="-1" strike="noStrike">
                <a:solidFill>
                  <a:srgbClr val="000000"/>
                </a:solidFill>
                <a:latin typeface="Calibri"/>
              </a:rPr>
              <a:t>Navodilo OU za poročanje in spremljanje nepravilnosti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 txBox="1"/>
          <p:nvPr/>
        </p:nvSpPr>
        <p:spPr>
          <a:xfrm>
            <a:off x="290520" y="214488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erila za izbor operacij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Odbora za spremljanje</a:t>
            </a:r>
            <a:r>
              <a:rPr b="1" lang="sl-SI" sz="2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stanovitev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pis sistema upravljanja in nadzora – OSU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ročnik OU za izvajanje EKP 2014-2020 (konec maj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rugi akt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"/>
          <p:cNvSpPr txBox="1"/>
          <p:nvPr/>
        </p:nvSpPr>
        <p:spPr>
          <a:xfrm>
            <a:off x="322200" y="212688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adnje  leto programskega obdobja 2007-2013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Leto vzpostavitve sistema za programsko obdobje 2014-2020 (2023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opolnitev sistema v drugi polovici le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ebnost proračuna 2015 – vsa sredstva „nove“ kohezije na proračunskih postavkah SVRK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Leto 2015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"/>
          <p:cNvSpPr txBox="1"/>
          <p:nvPr/>
        </p:nvSpPr>
        <p:spPr>
          <a:xfrm>
            <a:off x="301680" y="1739520"/>
            <a:ext cx="74088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i krog usklajevanja zaključe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a Izvedbenega načrta , ki predstavlja operacionalizacijo OP je v teku, predvidoma bo sprejet v aprilu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va seja Odbora za spremljanj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naslednjem tednu predlog nove ureditve (ZIPRS in uredba)  in pričetek drugega kroga usklajevan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ZIPRS in uredba aprila na vlad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Akreditacija posredniških organov (april-junij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„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signation procedure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“, ki ga bo izvedel UNP (junij – oktober), kot pogoj za črpanje sredstev iz Bruslj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Kako napre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99760" y="2322360"/>
            <a:ext cx="798516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Hvala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269640" y="18046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U mora dejansko upravljati s kohezijskimi sredstv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ožnost prelivanja denarja med resorji, konkurenca med program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Kakovost proje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100% črpanje sredste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enostavitve, zmanjšanje upravnih breme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prava sedanjih težav (npr. težave na relaciji ISARR – MFERA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196560" y="199188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oštevati spremembe, ki jih je prinesla nova EU uredba in kar smo že vgradili predvsem v PS (občasno problem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uredbi določiti samo nujne specifike slovenske ureditve, drugače neposredna uporaba EU ured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Ne ponavljati določb iz drugih akt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čim večji meri poenotiti izvajanje proračuna za integralna in kohezijska sredstva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5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„</a:t>
            </a:r>
            <a:r>
              <a:rPr b="0" lang="sl-SI" sz="2600" spc="-1" strike="noStrike">
                <a:solidFill>
                  <a:srgbClr val="000000"/>
                </a:solidFill>
                <a:latin typeface="Calibri"/>
                <a:ea typeface="Tahoma"/>
              </a:rPr>
              <a:t>Use it or lose it“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marL="272880" indent="-272880"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Temeljna vodila pri pripravi ureditve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5" name="Content Placeholder 2" descr=""/>
          <p:cNvPicPr/>
          <p:nvPr/>
        </p:nvPicPr>
        <p:blipFill>
          <a:blip r:embed="rId1"/>
          <a:stretch/>
        </p:blipFill>
        <p:spPr>
          <a:xfrm>
            <a:off x="1682640" y="2676600"/>
            <a:ext cx="7461360" cy="3449520"/>
          </a:xfrm>
          <a:prstGeom prst="rect">
            <a:avLst/>
          </a:prstGeom>
          <a:ln w="0">
            <a:noFill/>
          </a:ln>
        </p:spPr>
      </p:pic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Cilj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7" name="Straight Connector 4"/>
          <p:cNvSpPr/>
          <p:nvPr/>
        </p:nvSpPr>
        <p:spPr>
          <a:xfrm>
            <a:off x="971640" y="2060640"/>
            <a:ext cx="0" cy="381636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Straight Connector 6"/>
          <p:cNvSpPr/>
          <p:nvPr/>
        </p:nvSpPr>
        <p:spPr>
          <a:xfrm>
            <a:off x="971640" y="5877000"/>
            <a:ext cx="7200720" cy="0"/>
          </a:xfrm>
          <a:prstGeom prst="line">
            <a:avLst/>
          </a:prstGeom>
          <a:ln w="57240">
            <a:solidFill>
              <a:srgbClr val="5b9b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TextBox 8"/>
          <p:cNvSpPr/>
          <p:nvPr/>
        </p:nvSpPr>
        <p:spPr>
          <a:xfrm>
            <a:off x="3564360" y="5970960"/>
            <a:ext cx="2335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Calibri"/>
                <a:ea typeface="Arial"/>
              </a:rPr>
              <a:t>programsko obdobj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Freeform 11"/>
          <p:cNvSpPr/>
          <p:nvPr/>
        </p:nvSpPr>
        <p:spPr>
          <a:xfrm>
            <a:off x="1741320" y="1647720"/>
            <a:ext cx="6296040" cy="4219560"/>
          </a:xfrm>
          <a:custGeom>
            <a:avLst/>
            <a:gdLst/>
            <a:ahLst/>
            <a:rect l="l" t="t" r="r" b="b"/>
            <a:pathLst>
              <a:path w="6296047" h="4218920">
                <a:moveTo>
                  <a:pt x="0" y="4218920"/>
                </a:moveTo>
                <a:cubicBezTo>
                  <a:pt x="229507" y="4031141"/>
                  <a:pt x="459015" y="3843363"/>
                  <a:pt x="849086" y="3685520"/>
                </a:cubicBezTo>
                <a:cubicBezTo>
                  <a:pt x="1239158" y="3527677"/>
                  <a:pt x="1868715" y="3380720"/>
                  <a:pt x="2340429" y="3271863"/>
                </a:cubicBezTo>
                <a:cubicBezTo>
                  <a:pt x="2812143" y="3163006"/>
                  <a:pt x="3287486" y="3157563"/>
                  <a:pt x="3679372" y="3032377"/>
                </a:cubicBezTo>
                <a:cubicBezTo>
                  <a:pt x="4071258" y="2907191"/>
                  <a:pt x="4287157" y="2974320"/>
                  <a:pt x="4691743" y="2520749"/>
                </a:cubicBezTo>
                <a:cubicBezTo>
                  <a:pt x="5096329" y="2067178"/>
                  <a:pt x="5842000" y="728235"/>
                  <a:pt x="6106886" y="310949"/>
                </a:cubicBezTo>
                <a:cubicBezTo>
                  <a:pt x="6371772" y="-106337"/>
                  <a:pt x="6281057" y="17034"/>
                  <a:pt x="6281057" y="17034"/>
                </a:cubicBezTo>
                <a:lnTo>
                  <a:pt x="6281057" y="17034"/>
                </a:lnTo>
              </a:path>
            </a:pathLst>
          </a:cu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Freeform 13"/>
          <p:cNvSpPr/>
          <p:nvPr/>
        </p:nvSpPr>
        <p:spPr>
          <a:xfrm>
            <a:off x="1709640" y="3298680"/>
            <a:ext cx="6443640" cy="2557440"/>
          </a:xfrm>
          <a:custGeom>
            <a:avLst/>
            <a:gdLst/>
            <a:ahLst/>
            <a:rect l="l" t="t" r="r" b="b"/>
            <a:pathLst>
              <a:path w="6444801" h="2557369">
                <a:moveTo>
                  <a:pt x="0" y="2557369"/>
                </a:moveTo>
                <a:cubicBezTo>
                  <a:pt x="93436" y="2352355"/>
                  <a:pt x="186872" y="2147341"/>
                  <a:pt x="391886" y="1860684"/>
                </a:cubicBezTo>
                <a:cubicBezTo>
                  <a:pt x="596900" y="1574027"/>
                  <a:pt x="923472" y="1127712"/>
                  <a:pt x="1230086" y="837426"/>
                </a:cubicBezTo>
                <a:cubicBezTo>
                  <a:pt x="1536700" y="547140"/>
                  <a:pt x="1895929" y="256855"/>
                  <a:pt x="2231572" y="118969"/>
                </a:cubicBezTo>
                <a:cubicBezTo>
                  <a:pt x="2567215" y="-18917"/>
                  <a:pt x="2953657" y="24626"/>
                  <a:pt x="3243943" y="10112"/>
                </a:cubicBezTo>
                <a:cubicBezTo>
                  <a:pt x="3534229" y="-4402"/>
                  <a:pt x="3735615" y="-8030"/>
                  <a:pt x="3973286" y="31884"/>
                </a:cubicBezTo>
                <a:cubicBezTo>
                  <a:pt x="4210957" y="71798"/>
                  <a:pt x="4443186" y="55469"/>
                  <a:pt x="4669972" y="249598"/>
                </a:cubicBezTo>
                <a:cubicBezTo>
                  <a:pt x="4896758" y="443726"/>
                  <a:pt x="5156200" y="873712"/>
                  <a:pt x="5334000" y="1196655"/>
                </a:cubicBezTo>
                <a:cubicBezTo>
                  <a:pt x="5511800" y="1519598"/>
                  <a:pt x="5560786" y="1971355"/>
                  <a:pt x="5736772" y="2187255"/>
                </a:cubicBezTo>
                <a:cubicBezTo>
                  <a:pt x="5912758" y="2403155"/>
                  <a:pt x="6277428" y="2439441"/>
                  <a:pt x="6389914" y="2492055"/>
                </a:cubicBezTo>
                <a:cubicBezTo>
                  <a:pt x="6502400" y="2544669"/>
                  <a:pt x="6406243" y="2497498"/>
                  <a:pt x="6411686" y="2502941"/>
                </a:cubicBezTo>
                <a:cubicBezTo>
                  <a:pt x="6417129" y="2508384"/>
                  <a:pt x="6419850" y="2516548"/>
                  <a:pt x="6422572" y="2524712"/>
                </a:cubicBezTo>
              </a:path>
            </a:pathLst>
          </a:custGeom>
          <a:noFill/>
          <a:ln w="507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TextBox 1"/>
          <p:cNvSpPr/>
          <p:nvPr/>
        </p:nvSpPr>
        <p:spPr>
          <a:xfrm>
            <a:off x="6688080" y="176688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07-2013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TextBox 9"/>
          <p:cNvSpPr/>
          <p:nvPr/>
        </p:nvSpPr>
        <p:spPr>
          <a:xfrm>
            <a:off x="2556000" y="32986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400" spc="-1" strike="noStrike">
                <a:solidFill>
                  <a:srgbClr val="000000"/>
                </a:solidFill>
                <a:latin typeface="Calibri"/>
                <a:ea typeface="Arial"/>
              </a:rPr>
              <a:t>2014-2020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186840" y="1844280"/>
            <a:ext cx="740916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upravljanja (SVRK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rgan za potrjevanje (MF-Sektor za upravljanje s sredstvi EU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vizijski organ (UNP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sredniški organi (ministrstva – skoraj vsa)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zvajalski organi (pravna oseba javnega ali zasebnega prava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191880" indent="-1918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Upravičenec (izvajalec, organ ali podjetje, javno ali zasebno) – pri FI organ, ki izvaja FI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"/>
          <p:cNvSpPr txBox="1"/>
          <p:nvPr/>
        </p:nvSpPr>
        <p:spPr>
          <a:xfrm>
            <a:off x="207720" y="182520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dbor za spremljanje (nadzorni odbo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Strokovne skupin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Ostali udeleženci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208080" y="20574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En načrt izvajanja, ki je sprejet pred proračunsko razprav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Osnova za razporeditev sredstev na finančne načrt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ipravi ga OU na osnovi predlogov posredniških organ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soja predlogov s strani strokovnih skupin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Dva dela načrta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indikativni prikaz operacij za celotno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odrobnejši prikaz za dve leti, kjer je potrebno pa tudi za daljše obdobj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"/>
          <p:cNvSpPr txBox="1"/>
          <p:nvPr/>
        </p:nvSpPr>
        <p:spPr>
          <a:xfrm>
            <a:off x="331920" y="20192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Redno noveliranje dokument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V 2015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marec-apri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julij-septemb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600" spc="-1" strike="noStrike">
                <a:solidFill>
                  <a:srgbClr val="000000"/>
                </a:solidFill>
                <a:latin typeface="Calibri"/>
              </a:rPr>
              <a:t>Predhodna seznanitev vseh deležnikov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Izvedbeni načrt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 txBox="1"/>
          <p:nvPr/>
        </p:nvSpPr>
        <p:spPr>
          <a:xfrm>
            <a:off x="228600" y="206028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resoja vlog večjih vrednosti tudi s strani neodvisnih strokovnjakov (</a:t>
            </a:r>
            <a:r>
              <a:rPr b="0" i="1" lang="sl-SI" sz="2800" spc="-1" strike="noStrike">
                <a:solidFill>
                  <a:srgbClr val="000000"/>
                </a:solidFill>
                <a:latin typeface="Calibri"/>
              </a:rPr>
              <a:t>oziroma delovne skupine vlade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 Light"/>
              </a:rPr>
              <a:t>Dodelitev sredstev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2-26T08:26:11Z</dcterms:created>
  <dc:creator>Mitja Ribic</dc:creator>
  <dc:description/>
  <dc:language>en-US</dc:language>
  <cp:lastModifiedBy>Andrej</cp:lastModifiedBy>
  <dcterms:modified xsi:type="dcterms:W3CDTF">2015-03-24T20:17:56Z</dcterms:modified>
  <cp:revision>21</cp:revision>
  <dc:subject/>
  <dc:title>PowerPoint Presentation</dc:title>
</cp:coreProperties>
</file>