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AA05-91FD-400C-ACEC-F7506F86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CFEB-380D-44F8-B482-A64B2BB15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FD18-6ABB-46E0-979A-62581460F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BF722-40B0-471F-86E2-2954E8B11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F3AF6-AC43-4A6A-8231-DC6D93FA5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C4A4-D963-4BF9-AD17-AB8550FD3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DA71C-61F6-4223-9CD8-AB3AFE61E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532C9-C053-47A0-B584-DC8DA88E2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612B5-B7AE-45DF-B351-5749ECBC8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E53AF-AE33-4D99-AB8F-FA670150E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C2AE6-3F43-4C06-8DEA-8E1D06326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C6085-4BB0-4D12-8458-825927E65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7F70-A6F5-4DF7-98E2-F67D80C7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78D94-71ED-4FCF-A4D1-AC3B305CF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CA4D-294E-49EE-AB2C-21DA1AD95B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C64B-3B8F-40D8-946D-B49D6087A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A1621A-D63B-46B2-82D7-02561DCFA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CFBF81-ECE2-4BE1-B02A-93385A2A0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98576-053A-4754-8005-B30C25903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36A326-29DF-4EDC-A0F0-19FB5FFD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9CFF6-3447-4178-AF34-961D5A236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0E7E9-2156-4041-9414-17A54A5D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DB257-ACDF-4A51-A8F4-386300032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EA0FAF-597F-4FB3-A2EF-5A84B4747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0EBEA3-2F94-414F-944E-7CF110E75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B7BF3-A89D-4EDA-981A-DD2E32FB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651858-8E41-4416-B558-AC4E098A2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AFE255-4EDB-4CDD-AF82-E4A4579B0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C61C-3474-4343-B760-422BEA0B3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D03A-F257-4DE4-8F70-AC6FC7932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F89A-7B8A-4FE3-A16F-035556C1A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3A88-3082-4947-9A39-FE6543AF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F0C31-400C-40AA-A7EB-D6A8C5798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462D-72D2-42D4-AECF-426AE9B6D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76F1-C166-466F-8210-71A1EBF82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8FF6E-FF95-427F-B93F-27F14BEDF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2C92B-D218-43E5-BFF8-5E403F372C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A3E4-FD1F-4404-B46D-8AD091BE144D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FC214-6439-4A9D-901B-B16A4279158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07880" y="65088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l-SI" sz="2800" spc="-1" strike="noStrike">
                <a:solidFill>
                  <a:srgbClr val="000000"/>
                </a:solidFill>
                <a:latin typeface="Calibri"/>
              </a:rPr>
              <a:t>Odvajanje in čiščenje odpadne vode na območju vodonosnika Ljubljanskega polja – veliki projekt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3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"/>
          <p:cNvSpPr txBox="1"/>
          <p:nvPr/>
        </p:nvSpPr>
        <p:spPr>
          <a:xfrm>
            <a:off x="331560" y="13917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07720" indent="-20772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07720" indent="-20772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l-SI" sz="2400" spc="-1" strike="noStrike">
                <a:solidFill>
                  <a:srgbClr val="000000"/>
                </a:solidFill>
                <a:latin typeface="Calibri"/>
              </a:rPr>
              <a:t>Odbor za spremljanje se seznanja, da se na podlagi ugotovitev predhodnega strokovnega pregleda projektov v pripravi s strani evropske pobude JASPERS projekt »Odvajanje in čiščenje odpadne vode na območju vodonosnika Ljubljanskega polja - Nadgradnja sistema odvajanja  komunalne odpadne vode v občinah Medvode in Vodice ter izgradnja povezovalnega kanala C0 v MOL« in projekt »Odvajanje in čiščenje odpadne vode na območju vodonosnika Ljubljanskega polja - izgradnja III. faze CČN Ljubljana« združita v en veliki projekt z naslovom »Odvajanje in čiščenje odpadne vode na območju vodonosnika Ljubljanskega polja«, ki se vključi v indikativni seznam velikih projektov Operativnega programa za izvajanje Evropske kohezijske politike v obdobju 2014 -2020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log sklep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Janika Gregorič Zečevič</cp:lastModifiedBy>
  <dcterms:modified xsi:type="dcterms:W3CDTF">2015-03-26T08:16:50Z</dcterms:modified>
  <cp:revision>24</cp:revision>
  <dc:subject/>
  <dc:title>PowerPoint Presentation</dc:title>
</cp:coreProperties>
</file>