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12193588" cy="6858000"/>
  <p:notesSz cx="672465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8A03-20DE-48FC-8567-0008A5A7D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9769-CF5F-4259-BEA4-B53D0B38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CB14-F6E3-4232-AEF6-E8E160B14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36DB-3EA9-451C-95C5-A8F641C48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6A5C-796C-48C6-9DD5-48EDB7687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1E74-0604-47DD-A507-C0127DF6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18B-33B8-4336-8E5B-471FB4ABD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D84FB-05BB-4F7A-BAB7-481C9D6B3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FBDD-D0A4-4872-8848-070BDC9D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5212-CDA8-4BD3-9EA5-DDD4D81A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CBE2-5BC1-4012-A23B-290FAA49A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80627-EABB-49AC-AE8F-9DF1CBCD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9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0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1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B9AE3-2C60-4B2B-94CE-54D7CED5D79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Picture 2" descr=""/>
          <p:cNvPicPr/>
          <p:nvPr/>
        </p:nvPicPr>
        <p:blipFill>
          <a:blip r:embed="rId2"/>
          <a:stretch/>
        </p:blipFill>
        <p:spPr>
          <a:xfrm rot="20700000">
            <a:off x="10217160" y="-601560"/>
            <a:ext cx="2421000" cy="2984400"/>
          </a:xfrm>
          <a:prstGeom prst="rect">
            <a:avLst/>
          </a:prstGeom>
          <a:ln w="0">
            <a:noFill/>
          </a:ln>
        </p:spPr>
      </p:pic>
      <p:pic>
        <p:nvPicPr>
          <p:cNvPr id="3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1" descr=""/>
          <p:cNvPicPr/>
          <p:nvPr/>
        </p:nvPicPr>
        <p:blipFill>
          <a:blip r:embed="rId2"/>
          <a:stretch/>
        </p:blipFill>
        <p:spPr>
          <a:xfrm>
            <a:off x="10377360" y="139680"/>
            <a:ext cx="3241800" cy="27734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2"/>
          <a:stretch/>
        </p:blipFill>
        <p:spPr>
          <a:xfrm>
            <a:off x="10745640" y="-112680"/>
            <a:ext cx="2892600" cy="227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3" name="Picture 1" descr=""/>
          <p:cNvPicPr/>
          <p:nvPr/>
        </p:nvPicPr>
        <p:blipFill>
          <a:blip r:embed="rId2"/>
          <a:stretch/>
        </p:blipFill>
        <p:spPr>
          <a:xfrm>
            <a:off x="9968040" y="108000"/>
            <a:ext cx="2695320" cy="215244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9435960" y="5570640"/>
            <a:ext cx="2311560" cy="1174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444600" y="5972040"/>
            <a:ext cx="2557440" cy="5050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1" descr=""/>
          <p:cNvPicPr/>
          <p:nvPr/>
        </p:nvPicPr>
        <p:blipFill>
          <a:blip r:embed="rId4"/>
          <a:stretch/>
        </p:blipFill>
        <p:spPr>
          <a:xfrm>
            <a:off x="0" y="2004840"/>
            <a:ext cx="12192120" cy="3483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9821880" y="1336680"/>
            <a:ext cx="192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www.eu-skladi.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6" descr=""/>
          <p:cNvPicPr/>
          <p:nvPr/>
        </p:nvPicPr>
        <p:blipFill>
          <a:blip r:embed="rId2"/>
          <a:stretch/>
        </p:blipFill>
        <p:spPr>
          <a:xfrm rot="20700000">
            <a:off x="11091960" y="-12600"/>
            <a:ext cx="1787400" cy="2806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"/>
          <p:cNvPicPr/>
          <p:nvPr/>
        </p:nvPicPr>
        <p:blipFill>
          <a:blip r:embed="rId2"/>
          <a:stretch/>
        </p:blipFill>
        <p:spPr>
          <a:xfrm>
            <a:off x="10250640" y="54000"/>
            <a:ext cx="3801960" cy="2394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"/>
          <p:cNvPicPr/>
          <p:nvPr/>
        </p:nvPicPr>
        <p:blipFill>
          <a:blip r:embed="rId2"/>
          <a:stretch/>
        </p:blipFill>
        <p:spPr>
          <a:xfrm>
            <a:off x="10007640" y="38160"/>
            <a:ext cx="5675400" cy="285912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1" descr=""/>
          <p:cNvPicPr/>
          <p:nvPr/>
        </p:nvPicPr>
        <p:blipFill>
          <a:blip r:embed="rId2"/>
          <a:stretch/>
        </p:blipFill>
        <p:spPr>
          <a:xfrm rot="20700000">
            <a:off x="10651680" y="47160"/>
            <a:ext cx="2610000" cy="27910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1" descr=""/>
          <p:cNvPicPr/>
          <p:nvPr/>
        </p:nvPicPr>
        <p:blipFill>
          <a:blip r:embed="rId2"/>
          <a:stretch/>
        </p:blipFill>
        <p:spPr>
          <a:xfrm rot="12600000">
            <a:off x="9807120" y="447120"/>
            <a:ext cx="3503880" cy="184932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1" descr=""/>
          <p:cNvPicPr/>
          <p:nvPr/>
        </p:nvPicPr>
        <p:blipFill>
          <a:blip r:embed="rId2"/>
          <a:stretch/>
        </p:blipFill>
        <p:spPr>
          <a:xfrm rot="20700000">
            <a:off x="10433160" y="137880"/>
            <a:ext cx="2741400" cy="246528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Picture 1" descr=""/>
          <p:cNvPicPr/>
          <p:nvPr/>
        </p:nvPicPr>
        <p:blipFill>
          <a:blip r:embed="rId2"/>
          <a:stretch/>
        </p:blipFill>
        <p:spPr>
          <a:xfrm>
            <a:off x="10499760" y="-447840"/>
            <a:ext cx="3160800" cy="31467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7" descr=""/>
          <p:cNvPicPr/>
          <p:nvPr/>
        </p:nvPicPr>
        <p:blipFill>
          <a:blip r:embed="rId3"/>
          <a:stretch/>
        </p:blipFill>
        <p:spPr>
          <a:xfrm>
            <a:off x="10591920" y="777960"/>
            <a:ext cx="736560" cy="50004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71320" y="309600"/>
            <a:ext cx="8267400" cy="127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hodne pogojenosti</a:t>
            </a:r>
            <a:br>
              <a:rPr sz="3600"/>
            </a:b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Predstavitev stanja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763560" y="1517400"/>
            <a:ext cx="10174320" cy="471780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konkreten in natančno vnaprej opredeljen ključni dejavnik, ki je pogoj za uspešno in učinkovito doseganje posebnega cilja naložbene prednostne naloge Unij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je neposredno in resnično povezan z doseganjem tega cilja ter nanj neposredno vpliv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plošn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horizontalnimi vidiki izvajanja programa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in se jih uporablja za vse evropske strukturne in investicijske skl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tematski predhodni pogoji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o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povezani s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tematskimi cilji in prednostnimi naložbami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 kohezijske politike ter se jih uporablja v povezavi z naložbami v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</a:rPr>
              <a:t>specifično tematsko področj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Kaj je predhodna pogojenost?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728280" y="2006280"/>
            <a:ext cx="10093320" cy="427356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Operativni program za izvajanje Evropske kohezijske politike za obdobje 2014-2020 je relevantnih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7 splošn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 in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21 tematskih </a:t>
            </a: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predhodnih pogojenost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za pogojenosti, ki ob oddaji programskega dokumenta niso bile v celoti izpolnjene, so bili pripravljeni akcijski načrti z jasno opredeljenimi ukrepi in rokom za izpolnitev ter odgovornimi orga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skrajni rok za izpolnitev predhodnih pogojenosti je </a:t>
            </a:r>
            <a:r>
              <a:rPr b="1" lang="sl-SI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31. 12. 2016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Splošne pogojenosti -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639360" y="1482840"/>
            <a:ext cx="9969480" cy="480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izpolnjene: Boj proti diskriminaciji; Enakost spolov; Invalidnost; Državne pomoč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Calibri"/>
              </a:rPr>
              <a:t>neizpolnjene: Javno naročanje; Okoljska zakonodaja; Statistični sistem in kazalniki rezultatov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2716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0" name=""/>
          <p:cNvGraphicFramePr/>
          <p:nvPr/>
        </p:nvGraphicFramePr>
        <p:xfrm>
          <a:off x="568440" y="3382920"/>
          <a:ext cx="10155240" cy="3044880"/>
        </p:xfrm>
        <a:graphic>
          <a:graphicData uri="http://schemas.openxmlformats.org/drawingml/2006/table">
            <a:tbl>
              <a:tblPr/>
              <a:tblGrid>
                <a:gridCol w="2290680"/>
                <a:gridCol w="4011480"/>
                <a:gridCol w="1944720"/>
                <a:gridCol w="1908360"/>
              </a:tblGrid>
              <a:tr h="7038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lošne pogojenost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19124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Javno naroč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praks javnega naroč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gram usposabljanj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ročnik za izvedbo postopkov javnih naroč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3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koljska zakonodaj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obraževalni program za vsebine s področja okoljske zakonoda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2600"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tistični sistem in kazalniki rezultat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sistema spremlj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oločitev metodologije za 2 kazalnik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837720" y="1526760"/>
            <a:ext cx="9682200" cy="4708440"/>
          </a:xfrm>
          <a:prstGeom prst="rect">
            <a:avLst/>
          </a:prstGeom>
          <a:solidFill>
            <a:srgbClr val="dae3f3"/>
          </a:solidFill>
          <a:ln w="0">
            <a:noFill/>
          </a:ln>
        </p:spPr>
        <p:txBody>
          <a:bodyPr anchor="t">
            <a:normAutofit/>
          </a:bodyPr>
          <a:p>
            <a:pPr marL="227160" indent="-2271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</a:rPr>
              <a:t>izpolnjene: </a:t>
            </a: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Ukrepi za spodbujanje soproizvodnje toplote in električne energije z visokim izkoristkom; Dostop do zaposlitve; Pobuda za zaposlovanje mladih; Socialna vključenost; Vseživljenjsko učenje; Poklicno izobraževanj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-22716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Calibri"/>
                <a:ea typeface="Calibri"/>
              </a:rPr>
              <a:t>neizpolnjene: Raziskave in inovacije; Infrastruktura za raziskave in inovacije; Digitalna rast; Infrastruktura za omrežja naslednje generacije; Spodbujanje Akta za mala podjetja; Ukrepi za spodbujanje energetske učinkovitosti stavb; Ukrepi za spodbujanje proizvodnje in distribucije obnovljivih virov energije; Preprečevanje in obvladovanje tveganja; Vodni sektor; Promet; Železniški promet; Drugi načini prevoza; Aktivno in zdravo staranje; Zdravje; Institucionalna usposobljenost in učinkovita javna uprav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7160" indent="0" algn="just">
              <a:lnSpc>
                <a:spcPct val="115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30000" y="1472760"/>
            <a:ext cx="10147320" cy="520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612720" y="1455840"/>
          <a:ext cx="10212480" cy="5259240"/>
        </p:xfrm>
        <a:graphic>
          <a:graphicData uri="http://schemas.openxmlformats.org/drawingml/2006/table">
            <a:tbl>
              <a:tblPr/>
              <a:tblGrid>
                <a:gridCol w="2637000"/>
                <a:gridCol w="3643200"/>
                <a:gridCol w="1951200"/>
                <a:gridCol w="1981080"/>
              </a:tblGrid>
              <a:tr h="6127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49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raziskave in inov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pametne specializ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vizija Načrta razvoja raziskovalne infrastrukture 2011 -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RK, 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gitalna ra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informacijske družb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62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frastruktura za omrežja naslednje generac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črt razvoja širokopasovnih omrežij naslednje generacije do leta 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Z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5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pl-PL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odbujanje Akta za mala podjet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aplikacije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pravnih podla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ačetek izvajanja MSP tes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GRT, 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017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energetske učinkovitosti stav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za mobilizacijo naložb v obnovo stanovanjskih in poslovnih stavb, javnih in zasebnih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 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837720" y="1348920"/>
            <a:ext cx="1011708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78" name=""/>
          <p:cNvGraphicFramePr/>
          <p:nvPr/>
        </p:nvGraphicFramePr>
        <p:xfrm>
          <a:off x="736560" y="1349280"/>
          <a:ext cx="10245600" cy="4964040"/>
        </p:xfrm>
        <a:graphic>
          <a:graphicData uri="http://schemas.openxmlformats.org/drawingml/2006/table">
            <a:tbl>
              <a:tblPr/>
              <a:tblGrid>
                <a:gridCol w="2610000"/>
                <a:gridCol w="3693960"/>
                <a:gridCol w="1979640"/>
                <a:gridCol w="1962000"/>
              </a:tblGrid>
              <a:tr h="7016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9147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krepi za spodbujanje proizvodnje in distribucije obnovljivih virov energi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istemska obratovalna navodi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1463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prečevanje in obvladovanje tveg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iprava novih in sprememba obstoječih ocen tveganja; celovito nacionalno ocenjevanje tveganja; nacionalne strategije prilagajanja podnebnim sprememb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460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odni sek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a načrta vrze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2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34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razvoja promet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administrativne usposobljenosti s predlogi ukrepov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rowSpan="3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9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6. 20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453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Železniški prom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317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rugi načini prevoz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365040"/>
            <a:ext cx="930924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sl-SI" sz="3600" spc="-1" strike="noStrike">
                <a:solidFill>
                  <a:srgbClr val="000000"/>
                </a:solidFill>
                <a:latin typeface="Calibri"/>
              </a:rPr>
              <a:t>Tematske pogojenosti – stanje izpolnjevanja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811080" y="1523520"/>
            <a:ext cx="958536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sl-SI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719280" y="1490760"/>
          <a:ext cx="10048680" cy="3498840"/>
        </p:xfrm>
        <a:graphic>
          <a:graphicData uri="http://schemas.openxmlformats.org/drawingml/2006/table">
            <a:tbl>
              <a:tblPr/>
              <a:tblGrid>
                <a:gridCol w="2492280"/>
                <a:gridCol w="3657600"/>
                <a:gridCol w="1971720"/>
                <a:gridCol w="1927080"/>
              </a:tblGrid>
              <a:tr h="449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atske pogojenos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edviden ukre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dgovorni org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sl-SI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ok za izpolnitev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4c7e7"/>
                    </a:solidFill>
                  </a:tcPr>
                </a:tc>
              </a:tr>
              <a:tr h="14796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ktivno in zdravo staranj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aliza stanja starejših delavcev na slovenskem trgu del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dentifikacija področij ukrepanj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zvedbeni načrt za uvajanje novih ukrep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DDS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12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64584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Zdravj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esolucija o nacionalnem planu zdravstvenega varstva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1. 7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  <a:tr h="92412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nstitucionalna usposobljenost in učinkovita javna uprav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rategija nadaljnjega razvoja slovenske javne uprave 2014 -20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0" lang="sl-SI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. 4. 20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faad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65200" y="1706040"/>
            <a:ext cx="9428400" cy="2767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Najlepša hvala.</a:t>
            </a:r>
            <a:br>
              <a:rPr sz="2900"/>
            </a:br>
            <a:r>
              <a:rPr b="1" lang="sl-SI" sz="2900" spc="-1" strike="noStrike">
                <a:solidFill>
                  <a:srgbClr val="0070c0"/>
                </a:solidFill>
                <a:latin typeface="Calibri"/>
              </a:rPr>
              <a:t>SVRK</a:t>
            </a:r>
            <a:br>
              <a:rPr sz="2900"/>
            </a:br>
            <a:br>
              <a:rPr sz="2900"/>
            </a:br>
            <a:r>
              <a:rPr b="0" i="1" lang="sl-SI" sz="1400" spc="-1" strike="noStrike">
                <a:solidFill>
                  <a:srgbClr val="7f7f7f"/>
                </a:solidFill>
                <a:latin typeface="Calibri"/>
              </a:rPr>
              <a:t>http://www.svrk.gov.si/si/delovna_podrocja/evropska_kohezijska_politika/ekp_2014_2020/strateski_in_izvedbeni_dokumenti/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5T08:55:18Z</dcterms:created>
  <dc:creator>Anja Kampuš</dc:creator>
  <dc:description/>
  <dc:language>en-US</dc:language>
  <cp:lastModifiedBy>Anja Kampus</cp:lastModifiedBy>
  <cp:lastPrinted>2015-03-10T14:20:03Z</cp:lastPrinted>
  <dcterms:modified xsi:type="dcterms:W3CDTF">2015-03-24T21:47:14Z</dcterms:modified>
  <cp:revision>43</cp:revision>
  <dc:subject/>
  <dc:title>Predhodne pogojenosti</dc:title>
</cp:coreProperties>
</file>