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png" ContentType="image/png"/>
  <Override PartName="/ppt/media/image24.jpeg" ContentType="image/jpeg"/>
  <Override PartName="/ppt/media/image22.png" ContentType="image/png"/>
  <Override PartName="/ppt/media/image19.jpeg" ContentType="image/jpeg"/>
  <Override PartName="/ppt/media/image23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3.png" ContentType="image/png"/>
  <Override PartName="/ppt/media/image17.jpeg" ContentType="image/jpeg"/>
  <Override PartName="/ppt/media/image1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8542-0D07-4BF9-B630-112787FC2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8669-1FAE-4776-BF0A-C115716F7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54B7-6C8B-4906-A351-FC0CCDC22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59AC-59FC-4E1B-9D95-F37108CA0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EB5F-4E4F-4469-BDFE-752BFA71D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0B98F-BF6E-4646-9891-C7E2ABFDA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19596-14B9-41AF-A7C0-E3A170BAA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0273A-4B65-43F0-8080-928DAD9B1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D0E9-D0A9-48F2-BEE1-88109679C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0B133-23B2-4B72-A7E9-4015E4B4F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A4694-5F33-439E-91AB-312F74339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D29-9A6B-4839-A87E-927CD0C5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8A0C8-38E7-4CBD-943F-9CBA6C065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0572E-D46B-47FC-9388-990E19DCB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8B8B3-BA42-4FFB-8199-DCB0AB073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EF0DC-D50E-41F9-9494-6A8B293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C08B9-6551-47B9-B03F-7C5B5C2CB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62DE7-D4B6-432A-AF83-30EB045CF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F787D7-A06C-4E0F-9993-A63951DE5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696E3-EDD9-41B5-8CBA-E23C6567A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93B8B-33DA-4D6E-A57F-F448C08E6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02557-79A2-4C06-8A4C-166091F7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B052-4B2A-4E2A-B3A8-4A3F2C868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7AB44E-D9D9-4324-BE69-DCBDA64F0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ACCCED-5FF0-4BDD-B8D5-EEB2BD845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5640A0-FE83-499F-A13D-C555E039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C1AC7-A8C0-4AE5-B74E-6645326E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6AD9F-2E91-49AC-AB43-12370564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2FD06A-EFBE-4883-9807-1D107117D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AABAA1-8973-4B0F-B043-D28333FC2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A0443-6598-4CCD-9772-C9937D165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ABBAA-9442-410E-996E-306BD0A8D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0F09E6-9EB6-4EC3-9DE2-3F0859928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7A9-417F-4E87-AB63-9B4A7B89B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E71E7-573E-42EE-AF6C-FDF6F7AA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2B7F8-F547-4A88-9D4C-18BC39958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74D545-8B69-40DC-AA76-0CD0A200D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F0E877-07F8-47E4-9B1A-30DADA5B6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A0C7E3-4906-4B52-BD90-9894AE2B3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4E57FF-9967-4056-8F68-D9F9DEDAC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D3CBD1-1C53-408D-9B01-927BB8EE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8252-9904-4C92-9001-7424851A5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B3038D-38E3-4A8C-B6FB-34CF7152A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4FE8-2814-430C-915C-C74C30B415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823C3-39B1-4815-AC9A-7F240B23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9B58EC-26BF-46D6-BE49-FE46B2C3B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B639BB-FF60-44E3-A051-DCD6D9609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253C56-E723-4CD6-BFB6-3BBB3AA48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B17B8C-7735-4F50-AF49-4D4BED1DF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317946-F18F-4BED-B83B-A542DF432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DB7051-2ECE-4D6C-94E1-73D78F0B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4F04A7-AC83-4AFF-B077-2F4C6A33E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12E0C-714F-4CD5-97BF-3B2C9F30E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C58DA5-7D11-4606-AACE-55AF0FA9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A9C4C-63B4-4F38-9519-76BD81350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BBCB-E910-4E5C-A593-5BF3DFD52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1CD9C5-EEEC-4C4D-8218-9A7B4F5B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6961BC-05B1-4B67-A6DD-B5ABF7EA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F18CD3-2846-4441-B2E9-02AAEA842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785F7-783E-4333-9A3D-B4CBB60A5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A06539-0CC1-4E99-82AC-249A5B6D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E95E87-28C7-4D33-91D6-ACECD62E6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152206-410C-4158-9CD5-F713A61D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64B1A-9127-4FF6-938A-DEE274C4E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BCD81-D268-4B46-B51E-5F4D5550A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C44BDA-B35A-4619-A207-553733E4C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3F6-3CA6-47E1-9BC0-C3BD4C646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6DB9B7-2ACD-4BDD-941F-8CA741FDF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9A7E12-30F6-4436-A627-E7FFA3742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621C2A-FDD2-4618-90E3-FDFA4C1A1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A47D7-4B48-4A49-AE1A-FA9DEF78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DEB7-3F50-49D9-A30D-630A35CB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71640" y="6356520"/>
            <a:ext cx="1582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EECED0-31A5-4B62-B4D9-FC6682AC6C7D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6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4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B1E2C9-015D-4DEA-B8E5-D6A13C897515}" type="slidenum">
              <a:rPr b="0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85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1007640" y="6356520"/>
            <a:ext cx="194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06E8D13-7D0B-4576-B50B-862B5E8DEE93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28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0F3AC2-C15A-44FC-BC4E-DE27F8474E99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171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D5342E6-E661-45F6-8A2F-36C1F53EBB7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Box 8"/>
          <p:cNvSpPr/>
          <p:nvPr/>
        </p:nvSpPr>
        <p:spPr>
          <a:xfrm>
            <a:off x="961920" y="708120"/>
            <a:ext cx="1204920" cy="2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REPUBLIKA SLOVENIJA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  <a:p>
            <a:pPr>
              <a:lnSpc>
                <a:spcPts val="836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Republika"/>
                <a:ea typeface="Republika"/>
              </a:rPr>
              <a:t>MINISTRSTVO ZA PRIMER</a:t>
            </a:r>
            <a:endParaRPr b="0" lang="en-US" sz="700" spc="-1" strike="noStrike">
              <a:solidFill>
                <a:srgbClr val="999999"/>
              </a:solidFill>
              <a:latin typeface="Arial"/>
            </a:endParaRPr>
          </a:p>
        </p:txBody>
      </p:sp>
      <p:pic>
        <p:nvPicPr>
          <p:cNvPr id="214" name="Picture 9" descr="grb moder za 10 pt.wmf"/>
          <p:cNvPicPr/>
          <p:nvPr/>
        </p:nvPicPr>
        <p:blipFill>
          <a:blip r:embed="rId2"/>
          <a:stretch/>
        </p:blipFill>
        <p:spPr>
          <a:xfrm>
            <a:off x="639720" y="712800"/>
            <a:ext cx="166680" cy="20808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71640" y="1547280"/>
            <a:ext cx="7200720" cy="1341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71640" y="3240000"/>
            <a:ext cx="7200720" cy="2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5000"/>
          </a:bodyPr>
          <a:p>
            <a:pPr marL="222840" indent="-22284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1" marL="482760" indent="-18576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2" marL="742680" indent="-148320">
              <a:spcBef>
                <a:spcPts val="799"/>
              </a:spcBef>
              <a:buClr>
                <a:srgbClr val="99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3" marL="1040040" indent="-148320">
              <a:spcBef>
                <a:spcPts val="799"/>
              </a:spcBef>
              <a:buClr>
                <a:srgbClr val="99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4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5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  <a:p>
            <a:pPr lvl="6" marL="1337040" indent="-148320">
              <a:spcBef>
                <a:spcPts val="799"/>
              </a:spcBef>
              <a:buClr>
                <a:srgbClr val="9999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99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10076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1608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sl-SI" sz="1200" spc="-1" strike="noStrike">
                <a:solidFill>
                  <a:srgbClr val="babab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04F3D33-E139-4802-BD19-87A3D341C188}" type="slidenum">
              <a:rPr b="0" lang="sl-SI" sz="1200" spc="-1" strike="noStrike">
                <a:solidFill>
                  <a:srgbClr val="babab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hyperlink" Target="http://www.danube-region.eu/" TargetMode="External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jpe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mailto:andreja.jerina@gov.si" TargetMode="External"/><Relationship Id="rId2" Type="http://schemas.openxmlformats.org/officeDocument/2006/relationships/hyperlink" Target="mailto:andreja.jerina@gov.si" TargetMode="External"/><Relationship Id="rId3" Type="http://schemas.openxmlformats.org/officeDocument/2006/relationships/hyperlink" Target="mailto:andreja.jerina@gov.si" TargetMode="External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257480"/>
            <a:ext cx="7772400" cy="16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MAKROREGIONALNE STRATEGIJE V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492440"/>
            <a:ext cx="6400800" cy="114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Mag. Andreja Jer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Nacionalna koordinatork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EU makroregionalne strategij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mzz.gov.si/si/evropske_politike/makroregionalne_strategije_evropske_unij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2" descr="0823"/>
          <p:cNvPicPr/>
          <p:nvPr/>
        </p:nvPicPr>
        <p:blipFill>
          <a:blip r:embed="rId1"/>
          <a:stretch/>
        </p:blipFill>
        <p:spPr>
          <a:xfrm>
            <a:off x="0" y="0"/>
            <a:ext cx="2593800" cy="90324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5" descr=""/>
          <p:cNvPicPr/>
          <p:nvPr/>
        </p:nvPicPr>
        <p:blipFill>
          <a:blip r:embed="rId2"/>
          <a:stretch/>
        </p:blipFill>
        <p:spPr>
          <a:xfrm>
            <a:off x="1190520" y="2971800"/>
            <a:ext cx="1702080" cy="85572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6" descr=""/>
          <p:cNvPicPr/>
          <p:nvPr/>
        </p:nvPicPr>
        <p:blipFill>
          <a:blip r:embed="rId3"/>
          <a:stretch/>
        </p:blipFill>
        <p:spPr>
          <a:xfrm>
            <a:off x="3487680" y="2919240"/>
            <a:ext cx="2317680" cy="89568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7" descr=""/>
          <p:cNvPicPr/>
          <p:nvPr/>
        </p:nvPicPr>
        <p:blipFill>
          <a:blip r:embed="rId4"/>
          <a:stretch/>
        </p:blipFill>
        <p:spPr>
          <a:xfrm>
            <a:off x="6321600" y="3006720"/>
            <a:ext cx="1515960" cy="96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646360"/>
            <a:ext cx="4038480" cy="347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Modra r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ezovanje regije – transport in energij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800" spc="-1" strike="noStrike">
                <a:solidFill>
                  <a:srgbClr val="00b050"/>
                </a:solidFill>
                <a:latin typeface="Arial"/>
              </a:rPr>
              <a:t>okolj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ff0000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rajnostni turiz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648320" y="1284120"/>
            <a:ext cx="4038480" cy="484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trategija temelji na 4 stebr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Picture 5" descr="http://www.adriatic-ionian.eu/images-x/EUSAIRpillars.jpg"/>
          <p:cNvPicPr/>
          <p:nvPr/>
        </p:nvPicPr>
        <p:blipFill>
          <a:blip r:embed="rId1"/>
          <a:stretch/>
        </p:blipFill>
        <p:spPr>
          <a:xfrm>
            <a:off x="4818240" y="2558880"/>
            <a:ext cx="3850920" cy="40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2" descr="http://www.alpine-region.eu/grafica/schema-pillars2en.jpg"/>
          <p:cNvPicPr/>
          <p:nvPr/>
        </p:nvPicPr>
        <p:blipFill>
          <a:blip r:embed="rId1"/>
          <a:stretch/>
        </p:blipFill>
        <p:spPr>
          <a:xfrm>
            <a:off x="210960" y="2355840"/>
            <a:ext cx="3986280" cy="421308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ALP v nastajanj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044600" y="1600200"/>
            <a:ext cx="4817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Avstrija, Italija, Francija, Švica, Nemčija, Slovenija, Lihtenštaj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Časovnic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EK pripravila osnutek EUSALP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avna razprava do oktobra 2014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arec 2015 - Akcijski nač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Julij 2015 - EK Strategijo in AN posreduje ES in EP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ktober 2015  - Evropski svet potrdi EUSAP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Ministrska konferenca ob zago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298080" y="1960200"/>
            <a:ext cx="26938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3 STEB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Content Placeholder 3"/>
          <p:cNvSpPr/>
          <p:nvPr/>
        </p:nvSpPr>
        <p:spPr>
          <a:xfrm>
            <a:off x="-434880" y="2355840"/>
            <a:ext cx="4479840" cy="42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9560" y="3824280"/>
            <a:ext cx="6839280" cy="571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KAJ PRINAŠAJO MRS DELEŽNIKOM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817560" y="4519440"/>
            <a:ext cx="7640640" cy="206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ff0000"/>
                </a:solidFill>
                <a:latin typeface="Arial"/>
              </a:rPr>
              <a:t>VID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200" spc="-1" strike="noStrike">
                <a:solidFill>
                  <a:srgbClr val="ff0000"/>
                </a:solidFill>
                <a:latin typeface="Arial"/>
              </a:rPr>
              <a:t>Kot znak delovanja skladno z nacionalnimi interesi v regiji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Picture 2" descr=""/>
          <p:cNvPicPr/>
          <p:nvPr/>
        </p:nvPicPr>
        <p:blipFill>
          <a:blip r:embed="rId1"/>
          <a:srcRect l="5741" t="0" r="5741" b="0"/>
          <a:stretch/>
        </p:blipFill>
        <p:spPr>
          <a:xfrm>
            <a:off x="307800" y="103320"/>
            <a:ext cx="4243680" cy="27543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4" descr="http://www.danube-region.eu/attachments/article/616492/Logo-00_general_small.jpg"/>
          <p:cNvPicPr/>
          <p:nvPr/>
        </p:nvPicPr>
        <p:blipFill>
          <a:blip r:embed="rId2"/>
          <a:stretch/>
        </p:blipFill>
        <p:spPr>
          <a:xfrm>
            <a:off x="3784680" y="496800"/>
            <a:ext cx="3494160" cy="143676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5" descr=""/>
          <p:cNvPicPr/>
          <p:nvPr/>
        </p:nvPicPr>
        <p:blipFill>
          <a:blip r:embed="rId3"/>
          <a:stretch/>
        </p:blipFill>
        <p:spPr>
          <a:xfrm>
            <a:off x="4572000" y="2147760"/>
            <a:ext cx="2706840" cy="19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7" descr=""/>
          <p:cNvPicPr/>
          <p:nvPr/>
        </p:nvPicPr>
        <p:blipFill>
          <a:blip r:embed="rId1"/>
          <a:stretch/>
        </p:blipFill>
        <p:spPr>
          <a:xfrm>
            <a:off x="0" y="2454120"/>
            <a:ext cx="2538360" cy="143208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ff0000"/>
                </a:solidFill>
                <a:latin typeface="Arial"/>
              </a:rPr>
              <a:t>Vidnost za lažji dostop do poslovnih priložnosti in vir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8" descr="The EU Strategy for the Danube Region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1040" y="1417680"/>
            <a:ext cx="1605240" cy="907920"/>
          </a:xfrm>
          <a:prstGeom prst="rect">
            <a:avLst/>
          </a:prstGeom>
          <a:ln w="0">
            <a:noFill/>
          </a:ln>
        </p:spPr>
      </p:pic>
      <p:pic>
        <p:nvPicPr>
          <p:cNvPr id="310" name="Content Placeholder 5" descr=""/>
          <p:cNvPicPr/>
          <p:nvPr/>
        </p:nvPicPr>
        <p:blipFill>
          <a:blip r:embed="rId4"/>
          <a:stretch/>
        </p:blipFill>
        <p:spPr>
          <a:xfrm>
            <a:off x="2163600" y="1450800"/>
            <a:ext cx="5200920" cy="505332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6" descr="http://www.alpine-region.eu/grafica/logo.jpg"/>
          <p:cNvPicPr/>
          <p:nvPr/>
        </p:nvPicPr>
        <p:blipFill>
          <a:blip r:embed="rId5"/>
          <a:stretch/>
        </p:blipFill>
        <p:spPr>
          <a:xfrm>
            <a:off x="196920" y="3983040"/>
            <a:ext cx="1635120" cy="135396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" descr="C:\Users\a1603\AppData\Local\Microsoft\Windows\Temporary Internet Files\Content.IE5\IDLEEK12\splash_home_recycling[1].gif"/>
          <p:cNvPicPr/>
          <p:nvPr/>
        </p:nvPicPr>
        <p:blipFill>
          <a:blip r:embed="rId6"/>
          <a:stretch/>
        </p:blipFill>
        <p:spPr>
          <a:xfrm>
            <a:off x="6373800" y="2225520"/>
            <a:ext cx="2776680" cy="27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1800" spc="-1" strike="noStrike">
                <a:solidFill>
                  <a:srgbClr val="000000"/>
                </a:solidFill>
                <a:latin typeface="Arial"/>
              </a:rPr>
              <a:t>Horizontalna načela za izbor projektov/programo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Kjer je to relevantno bodo morali projekti/programi upoštevati tu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dodano vrednost v okviru EU makroregionalnih poveza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Iz sredstev tehnične pomoči se bodo financirali tudi drugi stroški, nastali na osnovi »ad hoc« potreb v času izvajanja programskega obdobja 2014-2020. V ta sklop sodijo tudi aktivnosti povezane z izvajanjem EU makroregionalnih strategij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4000" spc="-1" strike="noStrike">
                <a:solidFill>
                  <a:srgbClr val="000000"/>
                </a:solidFill>
                <a:latin typeface="Arial"/>
              </a:rPr>
              <a:t>HVALA ZA POZORNO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722160" y="923400"/>
            <a:ext cx="7772400" cy="348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VEČ 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mzz.gov.si/si/evropske_politike/makroregionalne_strategije_evropske_unije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andreja.jerina@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www.mzz.gov.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SI in makror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" descr=""/>
          <p:cNvPicPr/>
          <p:nvPr/>
        </p:nvPicPr>
        <p:blipFill>
          <a:blip r:embed="rId2"/>
          <a:stretch/>
        </p:blipFill>
        <p:spPr>
          <a:xfrm>
            <a:off x="419040" y="1600200"/>
            <a:ext cx="4076640" cy="44020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3" descr=""/>
          <p:cNvPicPr/>
          <p:nvPr/>
        </p:nvPicPr>
        <p:blipFill>
          <a:blip r:embed="rId3"/>
          <a:stretch/>
        </p:blipFill>
        <p:spPr>
          <a:xfrm>
            <a:off x="4832280" y="1600200"/>
            <a:ext cx="4038840" cy="440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64832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Orodje EU integracije (kohezija, širitev, sosedstvo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Makroregionalna raven omogoča prilagojeno uporabo EU politik (EU2020) za specifično področ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2101320"/>
            <a:ext cx="4038480" cy="40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ove oblike teritorialnega sodelovanja 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(2007-201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b050"/>
              </a:buClr>
              <a:buSzPct val="1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Osnovna ideja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: učinkovito in uspešno soočanje z izzivi, ki so skupni čezmejnim območj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 MAKROREGIONALNE STARTEGIJ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2" descr="C:\Users\a1603\AppData\Local\Microsoft\Windows\Temporary Internet Files\Content.IE5\IDLEEK12\splash_home_recycling[1].gif"/>
          <p:cNvPicPr/>
          <p:nvPr/>
        </p:nvPicPr>
        <p:blipFill>
          <a:blip r:embed="rId1"/>
          <a:stretch/>
        </p:blipFill>
        <p:spPr>
          <a:xfrm>
            <a:off x="768240" y="2268360"/>
            <a:ext cx="3346560" cy="325944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 txBox="1"/>
          <p:nvPr/>
        </p:nvSpPr>
        <p:spPr>
          <a:xfrm>
            <a:off x="4648320" y="2084040"/>
            <a:ext cx="403848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600" spc="-1" strike="noStrike">
                <a:solidFill>
                  <a:srgbClr val="000000"/>
                </a:solidFill>
                <a:latin typeface="Arial"/>
              </a:rPr>
              <a:t>Načelo 3 x NE</a:t>
            </a: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;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Arial"/>
              </a:rPr>
              <a:t>namesto novih sredstev, struktur in zakonodaje uporabiti obstoječe vire, institucije, koordinirano upravljanje in sinergij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Dva ključna izziva za E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DODANA VRED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istop spodbuja udeležence 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000" spc="-1" strike="noStrike">
                <a:solidFill>
                  <a:srgbClr val="000000"/>
                </a:solidFill>
                <a:latin typeface="Arial"/>
              </a:rPr>
              <a:t>preseganju nacionalnih meja in premostitvi ovir, ki jim preprečujejo, da bi bolj strateško in ustvarjalno razmišljali o priložnostih, ki se ponujajo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POROČILO EK o dodani vrednosti makroregionalnih strategi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{SWD(2013) 233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final; junij 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0000"/>
                </a:solidFill>
                <a:latin typeface="Arial"/>
              </a:rPr>
              <a:t>UPRAVLJAN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revzem lastništva MRS s strani drž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Minimalni pogoj: stabilna nacionalna koordinacija in okrepljeno sodelovanje nacionalnih koordinatorjev in vsebinskih strokovnjakov v usmerjevalnih odbori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1800" spc="-1" strike="noStrike">
                <a:solidFill>
                  <a:srgbClr val="000000"/>
                </a:solidFill>
                <a:latin typeface="Arial"/>
              </a:rPr>
              <a:t>Podpora izvajanju tudi skozi transnacionalne progr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ROČIL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upravljanju makroregionalnih strategi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(2014) 284 final</a:t>
            </a: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; maj 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4" descr="C:\Users\a1603\AppData\Local\Microsoft\Windows\Temporary Internet Files\Content.IE5\DO2XG1SJ\windowslivewriterdisillusionedwiththedefinitionofecm-a045thinking32[1].jpg"/>
          <p:cNvPicPr/>
          <p:nvPr/>
        </p:nvPicPr>
        <p:blipFill>
          <a:blip r:embed="rId1"/>
          <a:stretch/>
        </p:blipFill>
        <p:spPr>
          <a:xfrm>
            <a:off x="1055520" y="4754520"/>
            <a:ext cx="2025720" cy="13716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" descr="C:\Users\a1603\AppData\Local\Microsoft\Windows\Temporary Internet Files\Content.IE5\N6ZWPFLJ\red-no-signal[1].jpg"/>
          <p:cNvPicPr/>
          <p:nvPr/>
        </p:nvPicPr>
        <p:blipFill>
          <a:blip r:embed="rId2"/>
          <a:stretch/>
        </p:blipFill>
        <p:spPr>
          <a:xfrm>
            <a:off x="7064280" y="981000"/>
            <a:ext cx="1155960" cy="113508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Za kaj pri MRS g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sklajenost nacionalnih interesov med državami regij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Uveljavljanje nacionalnih priorit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d zgoraj navzd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646160" y="160020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a platforma mehke koordinaci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še en program sodelovanja z lastno strukturo, upravičenimi aktivnostmi, vi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1603\AppData\Local\Microsoft\Windows\Temporary Internet Files\Content.IE5\0M1AWZJA\Yes_check.svg[1].png"/>
          <p:cNvPicPr/>
          <p:nvPr/>
        </p:nvPicPr>
        <p:blipFill>
          <a:blip r:embed="rId3"/>
          <a:stretch/>
        </p:blipFill>
        <p:spPr>
          <a:xfrm>
            <a:off x="1617840" y="1058760"/>
            <a:ext cx="1081080" cy="10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2" descr=""/>
          <p:cNvPicPr/>
          <p:nvPr/>
        </p:nvPicPr>
        <p:blipFill>
          <a:blip r:embed="rId1"/>
          <a:stretch/>
        </p:blipFill>
        <p:spPr>
          <a:xfrm>
            <a:off x="-217440" y="-90360"/>
            <a:ext cx="9361440" cy="6948360"/>
          </a:xfrm>
          <a:prstGeom prst="rect">
            <a:avLst/>
          </a:prstGeom>
          <a:ln w="0">
            <a:noFill/>
          </a:ln>
        </p:spPr>
      </p:pic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ODONAV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14 držav; 9 EU, 3 kandidatke, 2 sosed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Preko 100 mio prebivalce; 1/5 prebivalcev E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Arial"/>
              </a:rPr>
              <a:t>Skupni izzivi</a:t>
            </a: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800" spc="-1" strike="noStrike">
                <a:solidFill>
                  <a:srgbClr val="000000"/>
                </a:solidFill>
                <a:latin typeface="Arial"/>
              </a:rPr>
              <a:t>Razvojni razkorak (SB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D, AT 2x večji BDP od regionalnega povprečja, RO, BG 80%, kandidatke 50%, sosedstvo 40% povprečj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ad privlačnosti za investiran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rast administrativnih bremen in poslabšanje pogojev poslovan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kupne priložnost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Reka kot transportna in trgovska ž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pravljanje z vodami vključno s tveganji – pop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rivlačnost naravne in kulturne dedišč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Učinkovita raba virov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EUSD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606240" y="2181240"/>
            <a:ext cx="3344760" cy="39304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4308480" y="1599840"/>
            <a:ext cx="437832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odelovanje v okviru 11 prioritetnih področij, združenih v 4 vsebinske steb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Povezovanje Podonavj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Varovanje okolja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Zagotavljanje blaginje v Podonavju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Krepitev Podonavj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 koordinira prednostna področj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b – kopenski in zračni promet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MZI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s Srb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10 – administrativna krepitev </a:t>
            </a:r>
            <a:r>
              <a:rPr b="0" lang="sl-SI" sz="2000" spc="-1" strike="noStrike">
                <a:solidFill>
                  <a:srgbClr val="ff0000"/>
                </a:solidFill>
                <a:latin typeface="Arial"/>
              </a:rPr>
              <a:t>CEF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(skupaj z Avstri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200" spc="-1" strike="noStrike">
                <a:solidFill>
                  <a:srgbClr val="ff0000"/>
                </a:solidFill>
                <a:latin typeface="Arial"/>
              </a:rPr>
              <a:t>NACIONALNI INTERES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2" descr=""/>
          <p:cNvPicPr/>
          <p:nvPr/>
        </p:nvPicPr>
        <p:blipFill>
          <a:blip r:embed="rId2"/>
          <a:stretch/>
        </p:blipFill>
        <p:spPr>
          <a:xfrm>
            <a:off x="184320" y="1600200"/>
            <a:ext cx="37717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Picture 6" descr="http://www.adriatic-ionian.eu/images-x/AdriaticIonianRegion.jpg"/>
          <p:cNvPicPr/>
          <p:nvPr/>
        </p:nvPicPr>
        <p:blipFill>
          <a:blip r:embed="rId1"/>
          <a:stretch/>
        </p:blipFill>
        <p:spPr>
          <a:xfrm>
            <a:off x="0" y="61920"/>
            <a:ext cx="9144000" cy="7561080"/>
          </a:xfrm>
          <a:prstGeom prst="rect">
            <a:avLst/>
          </a:prstGeom>
          <a:ln w="0">
            <a:noFill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JADRANSKO JONSK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8 držav; 4 DČ, 4 DNČ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Italija, Slovenija, Hrvaška, BiH, Črna gora, Albanija, Srbija in Grčij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sprejeta na Evropskem svetu oktobra 2014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novembra 2014 – ministrska konferenca ob zagonu izvajanja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prejeta pravila več-nivojskega upravljanj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Srečanje deležniko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Osrednji fokus strategije sta morje ter obala z zaledje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55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200" spc="-1" strike="noStrike">
                <a:solidFill>
                  <a:srgbClr val="ff0000"/>
                </a:solidFill>
                <a:latin typeface="Arial"/>
              </a:rPr>
              <a:t>Slovenija skupaj z BiH prevzela vodenje okoljskega stebra 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l-SI" sz="1600" spc="-1" strike="noStrike">
                <a:solidFill>
                  <a:srgbClr val="000000"/>
                </a:solidFill>
                <a:latin typeface="Arial"/>
              </a:rPr>
              <a:t>za obdobje treh let</a:t>
            </a:r>
            <a:r>
              <a:rPr b="0" lang="sl-SI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700" spc="-1" strike="noStrike">
                <a:solidFill>
                  <a:srgbClr val="000000"/>
                </a:solidFill>
                <a:latin typeface="Arial"/>
              </a:rPr>
              <a:t>5.3. 2015 prvi sestanek okoljskega stebra v Piranu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13T12:03:27Z</dcterms:created>
  <dc:creator>Andreja Jerina</dc:creator>
  <dc:description/>
  <dc:language>en-US</dc:language>
  <cp:lastModifiedBy>Andreja Jerina</cp:lastModifiedBy>
  <cp:lastPrinted>2015-03-11T12:51:39Z</cp:lastPrinted>
  <dcterms:modified xsi:type="dcterms:W3CDTF">2015-03-11T12:51:55Z</dcterms:modified>
  <cp:revision>27</cp:revision>
  <dc:subject/>
  <dc:title>MAKROREGIONALNE STRATEGIJE V EU</dc:title>
</cp:coreProperties>
</file>