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4585-EC3B-4580-B869-5B49188923F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FDC1-1A8F-4190-B50A-331304B1D2A9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A314-6272-4EA8-A70F-88F163F1B3E8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59F-2D5B-47C2-8B80-D036713B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895-57BE-41E8-B624-34E5DDD7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4DA-D157-4703-88CD-103AA9C7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97F-5AA0-41CD-B29C-AE87F49F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34EE-5EA2-4C6F-BB9F-8000395E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988D-532C-41E4-BF19-87E8A3E1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9FEA-ABB9-44CC-86D2-9AA9B374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18BB-7DB0-4FF6-AED4-037E1BA2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5155-680D-40F3-B0FE-E030B792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5692-F703-499C-9E12-DDB44703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CC93-97A6-4323-B789-CB0137C1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539-483C-4BD0-8CCB-DA6D0532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540A-2145-41F8-B56D-69CC49EA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EACF-27FD-43A5-AF85-22EC182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C431-3A1F-40E5-A9C1-09128C58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83A6-7538-4A95-B08A-57622790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68BE-B8EE-4EF0-A7BE-BE805814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234-64C6-4A75-843D-843E50F7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D65-4E3D-4939-B2A1-46FCC4FC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11A-9DC9-4071-BAAE-8F060207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390-D81B-40AC-B5BF-95C236DF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59F-1070-49BB-9542-F2119DA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3B1-CCB8-46A2-A87E-03251DF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29B-C99C-4BF4-A7B7-49334A6C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0FC3-B715-48BF-8EB1-794FC944B19C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81D9-FB24-42EB-BFAC-0E3BEC562899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DDB3-4F50-43B9-82A1-6D5D870BD1CE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EB9F-241E-4CC4-9E5D-F1AEB6576B8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6FD4-A3E9-4BC8-B010-EE246CA62C43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9E98-A738-4D84-B984-926E85DE0149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D19F-050C-4AE0-A96B-97D3A0E39C01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DEFB-5D50-413C-8669-2511D2EDF783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84040" y="1515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1"/>
          <a:stretch/>
        </p:blipFill>
        <p:spPr>
          <a:xfrm>
            <a:off x="4113360" y="4162320"/>
            <a:ext cx="4159080" cy="282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395280" y="1790640"/>
            <a:ext cx="3456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840A-33EB-4D5F-97CB-2D27727DF5D2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0F16-7A8E-4CE2-9CCE-E88871A598D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 5.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4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65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5: 588 v vrednosti 26,6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8B53-3EA8-4EFC-BE93-49B3D96D09B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2F0F-6756-4CEE-B9EC-C1AD2ACF0FC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6,94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0,0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5 na dan 22. 5. 2015 = 132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840D-3EC9-427E-9778-206A2440415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45D9-905D-459A-8EA0-1F0F166D968B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2200" y="19288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Finančni tokovi PO – EK 2015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2720880"/>
            <a:ext cx="75549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E7B7-A596-4C9B-92C0-89FD389CF35D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F4BB-F514-41B9-BE58-D28DA396AE0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88040" y="1353960"/>
            <a:ext cx="74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Obravnava nepravilnosti na PO – knjiga dolžni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71640" y="2505240"/>
          <a:ext cx="6095880" cy="1036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atve do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rte terjat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9,9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,5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22. 5.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Mateja Mahkovec</cp:lastModifiedBy>
  <cp:lastPrinted>2012-06-04T14:32:47Z</cp:lastPrinted>
  <dcterms:modified xsi:type="dcterms:W3CDTF">2015-05-22T08:56:17Z</dcterms:modified>
  <cp:revision>171</cp:revision>
  <dc:subject/>
  <dc:title>Naslov</dc:title>
</cp:coreProperties>
</file>