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BB23-602A-4E7E-A2E8-3AE7762AB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85E7-F7BB-4573-A563-33393D191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FA10-DF1C-4FE2-912B-E58574EEC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36080"/>
            <a:ext cx="264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49FD-9452-490B-B947-59417DF5B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BD25-890F-4487-9643-FE3BB90F5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6CCE-CED7-46F5-A78B-6E8FF818E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FCFA-2A00-4F28-868B-46268BD0B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1819-DF79-4B93-A1D1-5C2B42CC5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41CF-139F-4893-876D-246D6D388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D3DA-08BD-4977-9FAE-E393147A3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3608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7484-A3F7-4AC7-A12D-017F02A98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3608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F078-1A37-468A-93B2-834B5E68D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6607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7788-E5DC-41D5-B2F0-DA3D904302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-3240" y="-1260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28760" y="2505240"/>
            <a:ext cx="610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PREDSTAVITEV IZVAJANJA NAČ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VREDNOTNEJA OPERATIVNEGA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ZVOJA ČLOVEŠKIH VIR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ZA OBDOBJE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6272-06AD-417C-B1E4-46BEBD43C0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avokotnik 4"/>
          <p:cNvSpPr/>
          <p:nvPr/>
        </p:nvSpPr>
        <p:spPr>
          <a:xfrm>
            <a:off x="379440" y="2217600"/>
            <a:ext cx="813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PRIPOROČI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umestitev klavzule glede pridobivanja podatkov o zaposlitvenem statusu za potrebe vrednotenja za obdobje 18 mesecev po prenehanju pogodbenih obveznosti v vse pogodbe s končnimi upravičenci pred njihovo sklenitvij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preučiti je treba, na kakšen način si lahko Organ upravljanja ali posredniška telesa zagotovijo enostaven dostop in križanje različnih podatkovnih baze (ISARR, ZPIS, podatkovno bazo ZRS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94D8-F2C6-453D-90FC-CA9E7C7DB9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avokotnik 4"/>
          <p:cNvSpPr/>
          <p:nvPr/>
        </p:nvSpPr>
        <p:spPr>
          <a:xfrm>
            <a:off x="755640" y="1346040"/>
            <a:ext cx="74883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nn-NO" sz="1600" spc="-1" strike="noStrike">
                <a:solidFill>
                  <a:srgbClr val="000000"/>
                </a:solidFill>
                <a:latin typeface="Arial"/>
                <a:ea typeface="Arial"/>
              </a:rPr>
              <a:t>regled uresničevanja strateških ciljev visokega šolstva v RS, ki so podlaga za načrtovanje in izvajanje ukrepov v OP 2014 – 2020 s področja visokega šolstv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začetek vrednotenja predviden v juliju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konec vseh aktivnosti do novembra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avokotnik 5"/>
          <p:cNvSpPr/>
          <p:nvPr/>
        </p:nvSpPr>
        <p:spPr>
          <a:xfrm>
            <a:off x="2567160" y="1136520"/>
            <a:ext cx="26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OSTOPKI V TE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avokotnik 6"/>
          <p:cNvSpPr/>
          <p:nvPr/>
        </p:nvSpPr>
        <p:spPr>
          <a:xfrm>
            <a:off x="755640" y="3475080"/>
            <a:ext cx="777708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MEN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strateškega vrednotenja dveh evalvacij v okviru Pregled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strateških ciljev visokega šolstva v RS, ki so podlaga za načrtovanje in izvajanje ukrepov v OP 2014 – 2020 s področja visokega šolstva je podati kvalitativno oc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esničevanja ciljev nacionalnega programa visokega šolstva na treh prednostnih področij ReNPVŠ11-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cij na področju visokega šolstva v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 RČ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programskem obdobju 2007 –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342D-848D-403C-9EF4-ACA3316C33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avokotnik 4"/>
          <p:cNvSpPr/>
          <p:nvPr/>
        </p:nvSpPr>
        <p:spPr>
          <a:xfrm>
            <a:off x="179280" y="1281240"/>
            <a:ext cx="8496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MET VREDNOT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uresničevanja nacionalnega programa visokega šolstva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kakovosti visokega šolstva, zlasti ukrepov številka 19, 20, 21, 22, 23, 24, 2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ov ReNPVŠ11-20 na področju internacionalizacije visokega šolstva, zlasti ukrepov številka 28, 29, 30, 31, 32, 33, 34, 3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ukrepa ReNPVŠ11-20 številka 5a (sodelovanje visokošolskih institucij z gospodarstvom in negospodarstv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gled realizacije drugih ukrepov ReNPVŠ11-20, ki so relevantni za načrtovanje oziroma izvajanje ukrepov v OP 2014 – 2020 s področja visokega šolstv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doseganja ciljev in meril ReNPVŠ11-20 na naslednjih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na ključnih deležnikov o doseganju ciljev in meril ReNPVŠ11-20, prvenstveno na področjih: kakovost, internacionalizacija ter povezanost z gospodarstvom, negospodarstvom in raziskovalnimi zavod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evalvacije operacij na področju visokega šolstva v Operativnem programu razvoja človeških virov v programskem obdobju 2007 – 2013 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iz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zvedbe in ocena uspešnosti operaci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log izboljšav za načrtovanje in izvedbo ukrepov v programskem obdobju 2014 – 202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8B07-6132-477C-BF73-11CCD9BF0D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ravokotnik 4"/>
          <p:cNvSpPr/>
          <p:nvPr/>
        </p:nvSpPr>
        <p:spPr>
          <a:xfrm>
            <a:off x="539640" y="1569960"/>
            <a:ext cx="7345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EDVIDENE AKTIVNOSTI V 201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valvacija politike aktivacije brezposelnih (predlog OECD "Connecting People with Jobs"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DDS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tegija razvoja  sistema poklicnega izobraževanja v RS, ki so vključeni v OP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sodelovanju z MIZ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Youth Employment Initiative (YEI) (do 31. 12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činkovita in uspešna javna uprava in Zdravstvo v informacijski dobi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ponovitev postop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prava Načrta vrednotenj 2014-2020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</a:rPr>
              <a:t>(v te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9A7B-2B49-45A5-BA05-6365F7AB73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286000" y="1496880"/>
            <a:ext cx="4572000" cy="38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5E4A-DB37-4B04-A0D8-2D100793A9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0320" y="2485800"/>
            <a:ext cx="7521840" cy="3422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ajanja nač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gled izvedenih vrednotenj oz. vrednotenj v t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09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b6bcf"/>
                </a:solidFill>
                <a:latin typeface="Arial"/>
              </a:rPr>
              <a:t>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232-687F-4A08-AC84-310C0B66E5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92088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222268"/>
                </a:solidFill>
                <a:latin typeface="Arial"/>
              </a:rPr>
              <a:t>SREDSTVA TP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98600" y="1892160"/>
          <a:ext cx="6095880" cy="1981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6b6bcf"/>
                          </a:solidFill>
                          <a:latin typeface="Angsana New"/>
                          <a:ea typeface="Angsana New"/>
                        </a:rPr>
                        <a:t>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TP SREDSTV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(SLO in EU del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2,9 m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ZA VREDNOTENJ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00.000 oz. cca. 1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9" name="Picture 18" descr=""/>
          <p:cNvPicPr/>
          <p:nvPr/>
        </p:nvPicPr>
        <p:blipFill>
          <a:blip r:embed="rId1"/>
          <a:stretch/>
        </p:blipFill>
        <p:spPr>
          <a:xfrm>
            <a:off x="324000" y="37288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1387440" y="4483080"/>
            <a:ext cx="610236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1D58-E9A9-4E1E-A978-3B8C31E472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712520"/>
            <a:ext cx="8497800" cy="5148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BA0F-69A9-47BF-A9EF-009BB0FFF9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641600"/>
            <a:ext cx="8497800" cy="5148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javnega razpisa za sofinanciranje projektov horizontalnih NVO mrež in regionalnih stičišč za let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razpisa za izbor razvojnih projektov za dvig zaposljivosti ranljivih družbenih skupin na področju kulture in podporo njihovi socialni vključenosti v letih 2008-2009 s pripravo poročil za nadaljnje izvajanje aktivnosti za doseganje ciljev prednostne usmeritve 4.3. v OP RČ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1. in 2. prednostne usmeritve Izboljšanje kakovosti in učinkovitosti sistemov izobraževanja in usposabljanja ter Izboljšanje usposobljenosti posameznika za delo in življenje v družbi temelječi na znanju 3. Razvojne prioritete OP ESS Razvoj človeških virov in vseživljenjskega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 CE"/>
              </a:rPr>
              <a:t>Vmesno vrednotenje komunikacijskega načrta cilja Konvergen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 prednostnih usmeritev s področja trga dela, ki jih v okviru OP RČV izvaja Ministrstvo za delo, družino in socialne zad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DFF7-9CA4-491A-AFB1-62CA2D6EF7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grada vsebine 1"/>
          <p:cNvSpPr/>
          <p:nvPr/>
        </p:nvSpPr>
        <p:spPr>
          <a:xfrm>
            <a:off x="457200" y="2144880"/>
            <a:ext cx="8229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ukrepov za spodbujanje raziskovalno razvojnih aktivnosti v gospodarstvu in institucijah znanja (ESRR&amp;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RP PROJEK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itucionalna evalvacija Zavoda RS za zapos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2da2b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rednotenje največjih programov aktivne politike zaposlovanja, vključno z ukrepi proti gospodarski in finančni kri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4400" y="1064880"/>
            <a:ext cx="7855200" cy="585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IZVEDENA VREDNOTENJA 2007 – DO D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1D30-317A-420B-87B5-A3574D8261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93240"/>
            <a:ext cx="7853040" cy="58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O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6b6bcf"/>
                </a:solidFill>
                <a:latin typeface="Arial"/>
              </a:rPr>
              <a:t>ZADNJEGA N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avokotnik 6"/>
          <p:cNvSpPr/>
          <p:nvPr/>
        </p:nvSpPr>
        <p:spPr>
          <a:xfrm>
            <a:off x="263520" y="2144880"/>
            <a:ext cx="835344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NAREJE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rednotenje krepitve kapacitet nevladnih organizacij s pomočjo vzpostavljanja podpornih struktur (julij 2014) </a:t>
            </a:r>
            <a:r>
              <a:rPr b="0" lang="sl-SI" sz="1600" spc="-1" strike="noStrike">
                <a:solidFill>
                  <a:srgbClr val="a6a6a6"/>
                </a:solidFill>
                <a:latin typeface="Arial"/>
                <a:ea typeface="Arial"/>
              </a:rPr>
              <a:t>(predstavljeno decem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V IZVAJANJ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 (zaključeno: do 20. 6. 2015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61960"/>
            <a:ext cx="8229600" cy="1806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b6bcf"/>
                </a:solidFill>
                <a:latin typeface="Arial"/>
                <a:ea typeface="Arial"/>
              </a:rPr>
              <a:t>Končno vrednotenje izvajanja ukrepov ESS za spodbujanje socialne vključenosti in zagotavljanja enakih možnosti v obdobju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28520"/>
            <a:ext cx="8229600" cy="56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vrednotenje četrte razvojne prioritete ESS 2007-2013 'Spodbujanje socialne vključenosti in zagotavljanje enakih možnost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EDMET KONČNEGA VREDNOTE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strumenti, ki so se izvajali v okviru treh prednostnih usmeritev četrte razvojne prioritete ESS 2007-2013 'Spodbujanje socialne vključenosti in zagotavljanje enakih možnosti', in sicer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1. Enake možnosti na trgu dela in krepitev socialne vključenosti (12 instrumentov, razpoložljive pravice porabe: 43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2. Povečati dostopnost in enakost možnosti v sistemu vzgoje in izobraževanja (10 instrumentov, razpoložljive pravice porabe: 7,9 M€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U 4.3: Dvig zaposljivosti ranljivih družbenih skupin in podpora njihovi socialni vključenosti (12 instrumentov, razpoložljive pravice porabe: 15,2 M€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ajalec: PITIJA svetovanje,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60F1-6810-499F-A8E2-DDBCA7A838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70640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NEKAJ UGOTOVITEV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eliko ugotovljenih pomanjkljivosti glede izvajanja četrte razvojne prioritete je v novem finančnem obdobju 2014-2020  odpravljeni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novo finančno obdobje je pripravljena jasna in podrobna metodologija zbiranja podatkov za kazalnike, ki vključuje tudi definicije kazalniko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ljive ciljne skupine so jasno definirane že v Operativnem programu, poenotene definicije pa naj bi se upoštevale tudi v razpisih posameznih posredniških te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vsakega končnega upravičenca naj bi se spremljalo ob vključitvi v program in ob izstopu iz programa. Na ta način naj bi se zagotovilo, da bo oseba obravnavana le enkr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b6bcf"/>
                </a:solidFill>
                <a:latin typeface="Arial"/>
              </a:rPr>
              <a:t>S stališča doseganja ciljnih vrednosti kazalnikov ali naslavljanja specifičnih ciljev četrte razvojne prioritete, bi lahko zaključili, da je bila 4. RP izvedena uspeš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NČNO POROČILO: 20. 6.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nčno poročilo bo objavljeno na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3"/>
          <p:cNvSpPr/>
          <p:nvPr/>
        </p:nvSpPr>
        <p:spPr>
          <a:xfrm>
            <a:off x="7462800" y="66610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ECF3-A87D-48D2-99D8-17E36BE7B9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Petra Jerina</cp:lastModifiedBy>
  <cp:lastPrinted>2015-06-01T09:23:34Z</cp:lastPrinted>
  <dcterms:modified xsi:type="dcterms:W3CDTF">2015-06-03T06:54:45Z</dcterms:modified>
  <cp:revision>52</cp:revision>
  <dc:subject/>
  <dc:title>Naslov</dc:title>
</cp:coreProperties>
</file>