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6533-4E04-4BB6-882F-58BAE023CA0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A93F-D586-4924-980C-3F9B743C0764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23FE-0C9A-42E6-8B42-4D8B849CC15B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CFA-ABD9-4A4B-97F8-F1803056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A76-9043-4AC7-AD1E-76350802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238-31E5-4493-A053-ABB2A1E3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D00-1677-4597-9C11-1A2CD7E9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8EEC-AE2B-40BF-AFB2-C04C6F4E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F071-4763-4F5C-ABE4-0124E90A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FEEB-056C-4D3D-8790-4010FE29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A909-0CD0-4DE0-8165-FD2C4866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93BF-4B0A-4C02-A5B0-5DADCEE1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7795-81B1-44E2-B7EF-2327FE49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6D16-531F-4658-B522-0F2B0D5A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F67-AB73-4BF3-B39E-DF1CD2FA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811E-6A05-480B-8A1C-DDEA6A51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694D-D6DC-45B2-8C45-CA8F8D67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EEF1-5254-43ED-A800-45DC6A7D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0DAB-842E-4136-A4BC-A89F4871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B0A9-4352-4506-871E-4CB7E8F6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AF5-1C72-4E91-B4A5-4E858E67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5CE-E831-455E-8A7C-0643A11B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5CC-CD21-47F4-BBC8-67F82E93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844-2C9E-4F89-ABC8-91A0F977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394-C9B2-4894-A0FD-F9D8EC45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CDE-E713-4C5E-9866-FB54FE7D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B0B-D086-4687-8C45-73BD23B2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1B33-4E00-422A-B11C-4A28170D4ABD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B4F9-CF65-42B8-AC2B-D4AB4D64B624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C590-ACC0-4AA1-82A2-1A2ED11F175E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6B5F-95A5-42F4-8A3D-C24AEEC1A62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8451-8826-42B7-8306-1A2FE941D5AE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FD31-1BF2-4F4E-ABB9-0C55B268B7ED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11E4-B87D-49FC-90EB-343A3CF7F7F0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AB60-C3FB-4F69-B7CC-EAC005029330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84040" y="1515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4113360" y="4162320"/>
            <a:ext cx="4159080" cy="282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395280" y="1790640"/>
            <a:ext cx="3456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E274-2F53-4836-BCA7-46BE6C92682F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ABD6-D1B6-489E-921A-1B573389D97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 5.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65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5: 588 v vrednosti 26,6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E8E6-65C4-44D9-8E2A-22727219D407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48FB-4AC9-4BD5-A3E6-E51A6F21FA20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6,94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0,0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5 na dan 22. 5. 2015 = 132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A4B2-7318-4D87-A9FA-A653F8BD1B5E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F5C1-D570-4E9A-A07B-6F3F5AFAFD9C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62200" y="19288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Finančni tokovi PO – EK 2015-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11280" y="2720880"/>
            <a:ext cx="75549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D6D9-D2A3-4DB5-A045-ADFCA9E79EDA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08B6-D7EE-478C-819B-429423E2EFC9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88040" y="1353960"/>
            <a:ext cx="74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Obravnava nepravilnosti na PO – knjiga dolž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71640" y="2505240"/>
          <a:ext cx="6095880" cy="1036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jatve do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rte terjat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9,9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,5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Mateja Mahkovec</cp:lastModifiedBy>
  <cp:lastPrinted>2012-06-04T14:32:47Z</cp:lastPrinted>
  <dcterms:modified xsi:type="dcterms:W3CDTF">2015-05-22T08:56:17Z</dcterms:modified>
  <cp:revision>171</cp:revision>
  <dc:subject/>
  <dc:title>Naslov</dc:title>
</cp:coreProperties>
</file>