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A3A5-1B53-4E98-8A92-E3820C60E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C47D-67A6-448C-B7EC-0B635FAFD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A481-3349-4034-A158-45AAB95BC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1F19-5379-4856-83CB-8B9B1B7E0B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2358-B5FF-4372-9A38-F5450CFDA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22FC-3BFE-4110-ACD9-D43162B8E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ACBE-49FB-4D52-8AF1-AE65AC582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1617-52C0-4171-9C1E-0C23CF946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71F6-9E34-455F-A03C-DA542BA02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DF58-C901-405B-B028-25D6082FD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2C70-4B44-4147-9EB8-508EF775D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3510-1FA2-40D6-AF4F-325A9423F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6607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B540-3333-4D1A-B6DA-83B4CD0562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3240" y="-1260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28760" y="2505240"/>
            <a:ext cx="610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PREDSTAVITEV IZVAJANJA NAČ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REDNOTNEJA OPERATIVNEGA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ZVOJA ČLOVEŠK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ZA OBDOBJE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E596-0408-4921-89CA-FB881AF858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avokotnik 4"/>
          <p:cNvSpPr/>
          <p:nvPr/>
        </p:nvSpPr>
        <p:spPr>
          <a:xfrm>
            <a:off x="379440" y="221760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PRIPOROČ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umestitev klavzule glede pridobivanja podatkov o zaposlitvenem statusu za potrebe vrednotenja za obdobje 18 mesecev po prenehanju pogodbenih obveznosti v vse pogodbe s končnimi upravičenci pred njihovo sklenitvij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preučiti je treba, na kakšen način si lahko Organ upravljanja ali posredniška telesa zagotovijo enostaven dostop in križanje različnih podatkovnih baze (ISARR, ZPIS, podatkovno bazo ZRS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593D-60EF-4213-80D2-D6CB6158AE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avokotnik 4"/>
          <p:cNvSpPr/>
          <p:nvPr/>
        </p:nvSpPr>
        <p:spPr>
          <a:xfrm>
            <a:off x="755640" y="1346040"/>
            <a:ext cx="74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n-NO" sz="1600" spc="-1" strike="noStrike">
                <a:solidFill>
                  <a:srgbClr val="000000"/>
                </a:solidFill>
                <a:latin typeface="Arial"/>
                <a:ea typeface="Arial"/>
              </a:rPr>
              <a:t>regled uresničevanja strateških ciljev visokega šolstva v RS, ki so podlaga za načrtovanje in izvajanje ukrepov v OP 2014 – 2020 s področja visokega šolstv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začetek vrednotenja predviden v juliju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konec vseh aktivnosti do novembra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avokotnik 5"/>
          <p:cNvSpPr/>
          <p:nvPr/>
        </p:nvSpPr>
        <p:spPr>
          <a:xfrm>
            <a:off x="2567160" y="1136520"/>
            <a:ext cx="26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OSTOPKI V TE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avokotnik 6"/>
          <p:cNvSpPr/>
          <p:nvPr/>
        </p:nvSpPr>
        <p:spPr>
          <a:xfrm>
            <a:off x="755640" y="3475080"/>
            <a:ext cx="77770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MEN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strateškega vrednotenja dveh evalvacij v okviru Pregle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strateških ciljev visokega šolstva v RS, ki so podlaga za načrtovanje in izvajanje ukrepov v OP 2014 – 2020 s področja visokega šolstva je podati kvalitativno oc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ciljev nacionalnega programa visokega šolstva na treh prednostnih področij ReNPVŠ11-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cij na področju visokega šolstva v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 RČ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programskem obdobju 2007 –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4327-12E7-4C80-A28B-ACA123EB2F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okotnik 4"/>
          <p:cNvSpPr/>
          <p:nvPr/>
        </p:nvSpPr>
        <p:spPr>
          <a:xfrm>
            <a:off x="179280" y="1281240"/>
            <a:ext cx="8496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MET VREDNOT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uresničevanja nacionalnega programa visokega šolstva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kakovosti visokega šolstva, zlasti ukrepov številka 19, 20, 21, 22, 23, 24, 2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internacionalizacije visokega šolstva, zlasti ukrepov številka 28, 29, 30, 31, 32, 33, 34, 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a ReNPVŠ11-20 številka 5a (sodelovanje visokošolskih institucij z gospodarstvom in negospodarstv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drugih ukrepov ReNPVŠ11-20, ki so relevantni za načrtovanje oziroma izvajanje ukrepov v OP 2014 – 2020 s področja visokega šolstv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doseganja ciljev in meril ReNPVŠ11-20 na naslednjih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ključnih deležnikov o doseganju ciljev in meril ReNPVŠ11-20, prvenstveno na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operacij na področju visokega šolstva v Operativnem programu razvoja človeških virov v programskem obdobju 2007 – 2013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zvedbe in ocena uspešnosti operaci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log izboljšav za načrtovanje in izvedbo ukrepov v programskem obdobju 2014 – 202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0A1E-9654-4869-B3BF-130AE34B1E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okotnik 4"/>
          <p:cNvSpPr/>
          <p:nvPr/>
        </p:nvSpPr>
        <p:spPr>
          <a:xfrm>
            <a:off x="539640" y="1569960"/>
            <a:ext cx="7345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VIDENE AKTIVNOSTI V 20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valvacija politike aktivacije brezposelnih (predlog OECD "Connecting People with Jobs"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DDS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tegija razvoja  sistema poklicnega izobraževanja v RS, ki so vključeni v OP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IZ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Youth Employment Initiative (YEI) (do 31. 12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činkovita in uspešna javna uprava in Zdravstvo v informacijski dobi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ponovitev postop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prava Načrta vrednotenj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te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EC2B-FDA9-43C4-A0F3-BB47F5CE9E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0" y="1496880"/>
            <a:ext cx="45720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B0B6-819B-45AA-8E69-A415DE2C89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0320" y="2485800"/>
            <a:ext cx="7521840" cy="3422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ajanja nač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edenih vrednotenj oz. vrednotenj v t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09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b6bcf"/>
                </a:solidFill>
                <a:latin typeface="Arial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CA46-21AD-471E-BEC1-6C103217B6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9208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222268"/>
                </a:solidFill>
                <a:latin typeface="Arial"/>
              </a:rPr>
              <a:t>SREDSTVA TP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98600" y="1892160"/>
          <a:ext cx="609588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6b6bcf"/>
                          </a:solidFill>
                          <a:latin typeface="Angsana New"/>
                          <a:ea typeface="Angsana New"/>
                        </a:rPr>
                        <a:t>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P SREDST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SLO in EU del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2,9 m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ZA VREDNOTENJ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00.000 oz. cca. 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324000" y="37288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1387440" y="4483080"/>
            <a:ext cx="61023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4316-0A60-44A3-A3FF-EB94932E72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125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1687-C459-4042-A96F-5652B48835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41600"/>
            <a:ext cx="8497800" cy="5148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DB2D-D4C6-4E02-8E62-3C3E7460C3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grada vsebine 1"/>
          <p:cNvSpPr/>
          <p:nvPr/>
        </p:nvSpPr>
        <p:spPr>
          <a:xfrm>
            <a:off x="457200" y="21448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krepov za spodbujanje raziskovalno razvojnih aktivnosti v gospodarstvu in institucijah znanja (ESRR&amp;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RP PROJEK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itucionalna evalvacija Zavoda RS za zapos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največjih programov aktivne politike zaposlovanja, vključno z ukrepi proti gospodarski in finančni kr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1064880"/>
            <a:ext cx="7855200" cy="585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397E-EA21-4E24-9166-368EF9AAC7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O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ZADNJEGA 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avokotnik 6"/>
          <p:cNvSpPr/>
          <p:nvPr/>
        </p:nvSpPr>
        <p:spPr>
          <a:xfrm>
            <a:off x="263520" y="2144880"/>
            <a:ext cx="835344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REJ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(predstavljeno decem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 IZVAJANJ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 (zaključeno: do 20. 6. 2015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6196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b6bcf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285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vrednotenje četrte razvojne prioritete ESS 2007-2013 'Spodbujanje socialne vključenosti in zagotavljanje enakih možnost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EDMET KONČNEGA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rumenti, ki so se izvajali v okviru treh prednostnih usmeritev četrte razvojne prioritete ESS 2007-2013 'Spodbujanje socialne vključenosti in zagotavljanje enakih možnosti', in sicer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1. Enake možnosti na trgu dela in krepitev socialne vključenosti (12 instrumentov, razpoložljive pravice porabe: 43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2. Povečati dostopnost in enakost možnosti v sistemu vzgoje in izobraževanja (10 instrumentov, razpoložljive pravice porabe: 7,9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3: Dvig zaposljivosti ranljivih družbenih skupin in podpora njihovi socialni vključenosti (12 instrumentov, razpoložljive pravice porabe: 15,2 M€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ajalec: PITIJA svetovanje,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B24F-59ED-4AED-B567-1363ED289F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UGOTOVITEV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eliko ugotovljenih pomanjkljivosti glede izvajanja četrte razvojne prioritete je v novem finančnem obdobju 2014-2020  odpravljeni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novo finančno obdobje je pripravljena jasna in podrobna metodologija zbiranja podatkov za kazalnike, ki vključuje tudi definicije kazalnik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ljive ciljne skupine so jasno definirane že v Operativnem programu, poenotene definicije pa naj bi se upoštevale tudi v razpisih posameznih posredniških te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sakega končnega upravičenca naj bi se spremljalo ob vključitvi v program in ob izstopu iz programa. Na ta način naj bi se zagotovilo, da bo oseba obravnavana le enkr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b6bcf"/>
                </a:solidFill>
                <a:latin typeface="Arial"/>
              </a:rPr>
              <a:t>S stališča doseganja ciljnih vrednosti kazalnikov ali naslavljanja specifičnih ciljev četrte razvojne prioritete, bi lahko zaključili, da je bila 4. RP izvedena uspeš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NČNO POROČILO: 20. 6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poročilo bo objavljeno na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2AFB-9240-4C77-9276-442DF4B67B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Petra Jerina</cp:lastModifiedBy>
  <cp:lastPrinted>2015-06-01T09:23:34Z</cp:lastPrinted>
  <dcterms:modified xsi:type="dcterms:W3CDTF">2015-06-03T06:54:45Z</dcterms:modified>
  <cp:revision>52</cp:revision>
  <dc:subject/>
  <dc:title>Naslov</dc:title>
</cp:coreProperties>
</file>