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.jpeg" ContentType="image/jpeg"/>
  <Override PartName="/ppt/media/image3.wmf" ContentType="image/x-wmf"/>
  <Override PartName="/ppt/media/image4.png" ContentType="image/png"/>
  <Override PartName="/ppt/media/image10.png" ContentType="image/png"/>
  <Override PartName="/ppt/media/image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1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13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73152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7480" y="742680"/>
            <a:ext cx="464364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56A82-390A-472E-92B6-EA4BA19D87EE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716F5-F47A-4930-8E80-C8F2F258D2AA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D137-3D74-42FC-AF24-66FB78090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1126-E283-4536-9EE9-DEFF425CC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2177-9664-43C1-8B40-5680A682D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4B97-57A2-46AD-9A63-104EC71F8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77CB5-240D-4732-A058-560385825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9E8B9-AFEA-427A-AF19-5C0748E77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97F41-6B66-4740-84D4-BA025530A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DE469-3D19-4896-9D81-3CD2AD91C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1005C-16C5-431B-B652-13E988DC6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4EA5F-1183-4291-989F-6F6FB50A6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2BEC1-FD73-4264-9C7F-5382540E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2DFB-0DAE-478E-8541-82CAB4327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695AA-9AFC-46F3-94E0-2FA2F811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6CA4E-65D7-4AA4-9302-48F8C5D3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83385-2037-4676-9961-CA7694987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A050A-40D1-4612-978F-848060F11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2C13C-0466-47B2-A169-C31728806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90D0-4897-4AE4-86D9-EBDE9FBF0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F07C-8137-4352-A9B7-C19B4B0A3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34B3-F7CB-4FD7-A156-638F5CEFB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63F6-6DEF-45F8-900D-3F38674D3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AA61-5D0C-43DB-ABF2-88777B09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707B-C89E-4BC3-9122-515CCED3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387B-E7D6-475A-8611-A807C3C1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A9598-40F5-438C-BFD2-993C2725C217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7035480"/>
            <a:ext cx="28958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72723-933A-4F17-BB6B-0EC477F2E864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89EB6-1719-47D8-A23A-46E5DC28989D}" type="datetime">
              <a:rPr b="0" lang="sl-SI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60720"/>
            <a:ext cx="2895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2C374-F784-4C1C-A8E2-A249AE8E9B51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B1CF2-80B2-448C-9791-21A515AE4A52}" type="datetime">
              <a:rPr b="0" lang="sl-SI" sz="1000" spc="-1" strike="noStrike">
                <a:solidFill>
                  <a:srgbClr val="00206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99685-F7FD-4183-BC66-09FF0CAA72D1}" type="slidenum">
              <a:rPr b="0" lang="sl-SI" sz="1000" spc="-1" strike="noStrike">
                <a:solidFill>
                  <a:srgbClr val="00206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1044720" y="1136520"/>
            <a:ext cx="28796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a2"/>
                </a:solidFill>
                <a:latin typeface="Century Gothic"/>
              </a:rPr>
              <a:t>MINISTRSTVO ZA 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</a:rPr>
              <a:t>Beethovnova 11, 1000 Ljublj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</a:rPr>
              <a:t>Tel.: (01) 369-65-10 Fax: (01) 369-65-3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</a:rPr>
              <a:t>SUSEU/PO - ORGAN ZA POTRJEVANJ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971640" y="2881440"/>
            <a:ext cx="7270560" cy="29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179280" y="3152880"/>
            <a:ext cx="849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Finančna realizacija izvajanja OP RR in OP ROPI za obdobje </a:t>
            </a: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2007-2013</a:t>
            </a:r>
            <a:r>
              <a:rPr b="0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9600" y="4233960"/>
            <a:ext cx="9104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7061-8A43-44D7-92E2-32E582F3F827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E13E4-7FBC-4BA2-9A8C-D3A5078B84B2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908000" y="3152880"/>
          <a:ext cx="5400720" cy="2073240"/>
        </p:xfrm>
        <a:graphic>
          <a:graphicData uri="http://schemas.openxmlformats.org/drawingml/2006/table">
            <a:tbl>
              <a:tblPr/>
              <a:tblGrid>
                <a:gridCol w="1224000"/>
                <a:gridCol w="2089440"/>
                <a:gridCol w="2087280"/>
              </a:tblGrid>
              <a:tr h="809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goji za certificir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zP v obdelavi na 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ESR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0,5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0,5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63,5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8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Rectangle 19"/>
          <p:cNvSpPr/>
          <p:nvPr/>
        </p:nvSpPr>
        <p:spPr>
          <a:xfrm>
            <a:off x="1932480" y="2149560"/>
            <a:ext cx="497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Stanje ZzP na PO - OP ROPI 2007-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0"/>
          <p:cNvSpPr/>
          <p:nvPr/>
        </p:nvSpPr>
        <p:spPr>
          <a:xfrm>
            <a:off x="1795320" y="286560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Prispevek Skupnosti (v EUR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9"/>
          <p:cNvSpPr/>
          <p:nvPr/>
        </p:nvSpPr>
        <p:spPr>
          <a:xfrm>
            <a:off x="411120" y="6321600"/>
            <a:ext cx="47214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Stanje na dan: 30. 4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CBFDA-E4B2-400D-9A36-6E91F9B0A7A3}" type="datetime">
              <a:rPr b="0" lang="sl-SI" sz="1000" spc="-1" strike="noStrike">
                <a:solidFill>
                  <a:srgbClr val="003366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907AD-6734-4B04-B688-F26A81D7FF00}" type="slidenum">
              <a:rPr b="0" lang="sl-SI" sz="10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1348560" y="1574640"/>
            <a:ext cx="60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Uresničevanje pravila n+2/3 za OP ROPI  07-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311040" y="230184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Calibri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4"/>
          <p:cNvSpPr/>
          <p:nvPr/>
        </p:nvSpPr>
        <p:spPr>
          <a:xfrm>
            <a:off x="684360" y="5972040"/>
            <a:ext cx="734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Calibri"/>
              </a:rPr>
              <a:t>Stopnja doseganja FN 2007-2013: 27% KS oz. 45% ESR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Calibri"/>
              </a:rPr>
              <a:t>V letošnjem letu se N+2/3 na OP ROPI KS z 293 mio € zniža za 206 mio € (čl. 94 uredbe ES 1083/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9"/>
          <p:cNvSpPr/>
          <p:nvPr/>
        </p:nvSpPr>
        <p:spPr>
          <a:xfrm>
            <a:off x="411120" y="6321600"/>
            <a:ext cx="47214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Stanje na dan: 30. 4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9" descr=""/>
          <p:cNvPicPr/>
          <p:nvPr/>
        </p:nvPicPr>
        <p:blipFill>
          <a:blip r:embed="rId1"/>
          <a:stretch/>
        </p:blipFill>
        <p:spPr>
          <a:xfrm>
            <a:off x="333360" y="2630520"/>
            <a:ext cx="777708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42E7C-8971-41DB-B58D-8CC5D009EA92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E6EBB-CB2A-4EE5-A756-36D100108732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1272600" y="1933560"/>
            <a:ext cx="551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Zahtevek za plačilo – napovedi za OP RO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95280" y="2936880"/>
          <a:ext cx="8209080" cy="1554120"/>
        </p:xfrm>
        <a:graphic>
          <a:graphicData uri="http://schemas.openxmlformats.org/drawingml/2006/table">
            <a:tbl>
              <a:tblPr/>
              <a:tblGrid>
                <a:gridCol w="2736720"/>
                <a:gridCol w="2735280"/>
                <a:gridCol w="27370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e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OP ROPI 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OP ROPI E</a:t>
                      </a:r>
                      <a:r>
                        <a:rPr b="0" lang="sl-SI" sz="25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SRR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66,38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5,37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51,63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,78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9"/>
          <p:cNvSpPr/>
          <p:nvPr/>
        </p:nvSpPr>
        <p:spPr>
          <a:xfrm>
            <a:off x="450720" y="4881600"/>
            <a:ext cx="1881360" cy="3070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Arial Unicode MS"/>
              </a:rPr>
              <a:t>Vir: SFC 2007 –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262080" y="5416560"/>
            <a:ext cx="5655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Realizacija napovedi 2013 na dan 30.  4.  2014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                                 </a:t>
            </a: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OP ROPI KS:                         0,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                                 </a:t>
            </a: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OP ROPI ESRR:                     0,00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541BA-8EBC-4C24-B38D-3AD709A5A899}" type="datetime">
              <a:rPr b="0" lang="sl-SI" sz="1000" spc="-1" strike="noStrike">
                <a:solidFill>
                  <a:srgbClr val="003366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66E36-69A4-4583-9B26-ED14AD97865F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9"/>
          <p:cNvSpPr/>
          <p:nvPr/>
        </p:nvSpPr>
        <p:spPr>
          <a:xfrm>
            <a:off x="490680" y="632160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Stanje na dan: 30. 4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0"/>
          <p:cNvSpPr/>
          <p:nvPr/>
        </p:nvSpPr>
        <p:spPr>
          <a:xfrm>
            <a:off x="767520" y="1065240"/>
            <a:ext cx="74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Letni pregled avtoriziranih/certificiranih izdatkov – OP 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3"/>
          <p:cNvSpPr/>
          <p:nvPr/>
        </p:nvSpPr>
        <p:spPr>
          <a:xfrm>
            <a:off x="490680" y="1641600"/>
            <a:ext cx="56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"/>
          <p:cNvPicPr/>
          <p:nvPr/>
        </p:nvPicPr>
        <p:blipFill>
          <a:blip r:embed="rId1"/>
          <a:stretch/>
        </p:blipFill>
        <p:spPr>
          <a:xfrm>
            <a:off x="582480" y="1919160"/>
            <a:ext cx="4535640" cy="2167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"/>
          <p:cNvPicPr/>
          <p:nvPr/>
        </p:nvPicPr>
        <p:blipFill>
          <a:blip r:embed="rId2"/>
          <a:stretch/>
        </p:blipFill>
        <p:spPr>
          <a:xfrm>
            <a:off x="4211640" y="4449600"/>
            <a:ext cx="418932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86C17-1142-49CB-92AB-9BF7410584E4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54D12-3F64-40ED-8A54-84A7DA27EAFF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835280" y="2936880"/>
          <a:ext cx="5400720" cy="1441440"/>
        </p:xfrm>
        <a:graphic>
          <a:graphicData uri="http://schemas.openxmlformats.org/drawingml/2006/table">
            <a:tbl>
              <a:tblPr/>
              <a:tblGrid>
                <a:gridCol w="1224000"/>
                <a:gridCol w="2089080"/>
                <a:gridCol w="2087640"/>
              </a:tblGrid>
              <a:tr h="809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goji za certificir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zP v obdelavi na 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4.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3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Rectangle 40"/>
          <p:cNvSpPr/>
          <p:nvPr/>
        </p:nvSpPr>
        <p:spPr>
          <a:xfrm>
            <a:off x="2133360" y="1951200"/>
            <a:ext cx="469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Stanje ZzP na PO - OP RR 2007-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7"/>
          <p:cNvSpPr/>
          <p:nvPr/>
        </p:nvSpPr>
        <p:spPr>
          <a:xfrm>
            <a:off x="1763640" y="264960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Calibri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8"/>
          <p:cNvSpPr/>
          <p:nvPr/>
        </p:nvSpPr>
        <p:spPr>
          <a:xfrm>
            <a:off x="2143800" y="4498920"/>
            <a:ext cx="505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Število prejetih ZzP v l. 2014: 341 v vrednosti 63,5 mio EUR</a:t>
            </a:r>
            <a:r>
              <a:rPr b="0" lang="sl-SI" sz="1600" spc="-1" strike="noStrike">
                <a:solidFill>
                  <a:srgbClr val="003366"/>
                </a:solidFill>
                <a:latin typeface="Calibri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9"/>
          <p:cNvSpPr/>
          <p:nvPr/>
        </p:nvSpPr>
        <p:spPr>
          <a:xfrm>
            <a:off x="490680" y="632160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Stanje na dan: 30. 4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F355A-1DB5-432F-8EC5-8FD9B8F9065C}" type="datetime">
              <a:rPr b="0" lang="sl-SI" sz="1000" spc="-1" strike="noStrike">
                <a:solidFill>
                  <a:srgbClr val="003366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16BA5-031F-4B5B-81EE-25BDD48C5F82}" type="slidenum">
              <a:rPr b="0" lang="sl-SI" sz="10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3"/>
          <p:cNvSpPr/>
          <p:nvPr/>
        </p:nvSpPr>
        <p:spPr>
          <a:xfrm>
            <a:off x="1347840" y="1574640"/>
            <a:ext cx="569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Uresničevanje pravila n+2/3 za OP RR 07-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4"/>
          <p:cNvSpPr/>
          <p:nvPr/>
        </p:nvSpPr>
        <p:spPr>
          <a:xfrm>
            <a:off x="210960" y="292104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387360" y="563256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Calibri"/>
              </a:rPr>
              <a:t>Stopnja doseganja FN 2007-2013 na dan 30. 4. 2014:  73,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9" descr=""/>
          <p:cNvPicPr/>
          <p:nvPr/>
        </p:nvPicPr>
        <p:blipFill>
          <a:blip r:embed="rId1"/>
          <a:stretch/>
        </p:blipFill>
        <p:spPr>
          <a:xfrm>
            <a:off x="250920" y="3240000"/>
            <a:ext cx="8296200" cy="227664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9"/>
          <p:cNvSpPr/>
          <p:nvPr/>
        </p:nvSpPr>
        <p:spPr>
          <a:xfrm>
            <a:off x="411120" y="6321600"/>
            <a:ext cx="47214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Stanje na dan: 30. 4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F8E12-73C6-4170-9EA0-55591B091930}" type="datetime">
              <a:rPr b="0" lang="sl-SI" sz="1000" spc="-1" strike="noStrike">
                <a:solidFill>
                  <a:srgbClr val="003366"/>
                </a:solidFill>
                <a:latin typeface="Calibri"/>
                <a:ea typeface="Calibri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FAF0D-5B3D-4E0D-882F-D0B7C5CFEC60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1271520" y="1933560"/>
            <a:ext cx="524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Zahtevek za plačilo – napovedi za OP 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332000" y="2936880"/>
          <a:ext cx="6095880" cy="155412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e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Vredn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60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7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Rectangle 47"/>
          <p:cNvSpPr/>
          <p:nvPr/>
        </p:nvSpPr>
        <p:spPr>
          <a:xfrm>
            <a:off x="1307520" y="4791240"/>
            <a:ext cx="1669680" cy="3070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Calibri"/>
                <a:ea typeface="Calibri"/>
              </a:rPr>
              <a:t>Vir: SFC 2007 –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4"/>
          <p:cNvSpPr/>
          <p:nvPr/>
        </p:nvSpPr>
        <p:spPr>
          <a:xfrm>
            <a:off x="1258920" y="552924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Realizacija napovedi 2014 na dan 30. 4. 2014: 0,00% (zaustavitev plačil EK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EF1B2-BA92-4995-AD5E-7C4ADAC43915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2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24AC0-41BF-4289-B9A7-99C8BB26C411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2236320" y="2001960"/>
            <a:ext cx="427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Finančni tokovi PO - EK za OP 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1"/>
          <p:cNvGrpSpPr/>
          <p:nvPr/>
        </p:nvGrpSpPr>
        <p:grpSpPr>
          <a:xfrm>
            <a:off x="324000" y="3081240"/>
            <a:ext cx="8100720" cy="3235320"/>
            <a:chOff x="324000" y="3081240"/>
            <a:chExt cx="8100720" cy="3235320"/>
          </a:xfrm>
        </p:grpSpPr>
        <p:pic>
          <p:nvPicPr>
            <p:cNvPr id="126" name="Picture 7" descr=""/>
            <p:cNvPicPr/>
            <p:nvPr/>
          </p:nvPicPr>
          <p:blipFill>
            <a:blip r:embed="rId1"/>
            <a:stretch/>
          </p:blipFill>
          <p:spPr>
            <a:xfrm>
              <a:off x="324000" y="3713040"/>
              <a:ext cx="8100720" cy="260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8" descr=""/>
            <p:cNvPicPr/>
            <p:nvPr/>
          </p:nvPicPr>
          <p:blipFill>
            <a:blip r:embed="rId2"/>
            <a:stretch/>
          </p:blipFill>
          <p:spPr>
            <a:xfrm>
              <a:off x="340920" y="3081240"/>
              <a:ext cx="8036640" cy="650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2DB81-68F0-46EB-8A76-42EEF872C040}" type="datetime">
              <a:rPr b="0" lang="sl-SI" sz="1000" spc="-1" strike="noStrike">
                <a:solidFill>
                  <a:srgbClr val="003366"/>
                </a:solidFill>
                <a:latin typeface="Calibri"/>
                <a:ea typeface="Calibri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19D83-5F8D-414B-9BBF-A00C9D4083A9}" type="slidenum">
              <a:rPr b="0" lang="sl-SI" sz="1000" spc="-1" strike="noStrike">
                <a:solidFill>
                  <a:srgbClr val="003366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395280" y="156996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Calibri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0"/>
          <p:cNvSpPr/>
          <p:nvPr/>
        </p:nvSpPr>
        <p:spPr>
          <a:xfrm>
            <a:off x="592200" y="1149480"/>
            <a:ext cx="772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Letni pregled avtoriziranih/certificiranih izdatkov – OP RO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9" descr=""/>
          <p:cNvPicPr/>
          <p:nvPr/>
        </p:nvPicPr>
        <p:blipFill>
          <a:blip r:embed="rId1"/>
          <a:stretch/>
        </p:blipFill>
        <p:spPr>
          <a:xfrm>
            <a:off x="468360" y="1857240"/>
            <a:ext cx="4681440" cy="2492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"/>
          <p:cNvPicPr/>
          <p:nvPr/>
        </p:nvPicPr>
        <p:blipFill>
          <a:blip r:embed="rId2"/>
          <a:stretch/>
        </p:blipFill>
        <p:spPr>
          <a:xfrm>
            <a:off x="3794040" y="4378320"/>
            <a:ext cx="4683240" cy="28638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39"/>
          <p:cNvSpPr/>
          <p:nvPr/>
        </p:nvSpPr>
        <p:spPr>
          <a:xfrm>
            <a:off x="411120" y="6321600"/>
            <a:ext cx="47214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Stanje na dan: 30. 4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738CD-721F-47D2-8463-03645981B4CD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CD3E4-5CCE-461B-A778-8262AD075C60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1849320" y="1209600"/>
            <a:ext cx="49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Finančni tokovi PO - EK za OP ROPI 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9"/>
          <p:cNvSpPr/>
          <p:nvPr/>
        </p:nvSpPr>
        <p:spPr>
          <a:xfrm>
            <a:off x="411120" y="6321600"/>
            <a:ext cx="47214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Stanje na dan: 30. 4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"/>
          <p:cNvGrpSpPr/>
          <p:nvPr/>
        </p:nvGrpSpPr>
        <p:grpSpPr>
          <a:xfrm>
            <a:off x="411120" y="2352600"/>
            <a:ext cx="7915320" cy="3148200"/>
            <a:chOff x="411120" y="2352600"/>
            <a:chExt cx="7915320" cy="3148200"/>
          </a:xfrm>
        </p:grpSpPr>
        <p:pic>
          <p:nvPicPr>
            <p:cNvPr id="140" name="Picture 7" descr=""/>
            <p:cNvPicPr/>
            <p:nvPr/>
          </p:nvPicPr>
          <p:blipFill>
            <a:blip r:embed="rId1"/>
            <a:stretch/>
          </p:blipFill>
          <p:spPr>
            <a:xfrm>
              <a:off x="411120" y="2352600"/>
              <a:ext cx="7915320" cy="69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8" descr=""/>
            <p:cNvPicPr/>
            <p:nvPr/>
          </p:nvPicPr>
          <p:blipFill>
            <a:blip r:embed="rId2"/>
            <a:stretch/>
          </p:blipFill>
          <p:spPr>
            <a:xfrm>
              <a:off x="427320" y="2804760"/>
              <a:ext cx="7886880" cy="2696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3A280-9AED-4ECD-807E-3058926ED3A0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2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78787-0E5D-4118-B84A-EC70521A4C41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1633680" y="1209600"/>
            <a:ext cx="52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Finančni tokovi PO - EK za OP ROPI ES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1"/>
          <p:cNvGrpSpPr/>
          <p:nvPr/>
        </p:nvGrpSpPr>
        <p:grpSpPr>
          <a:xfrm>
            <a:off x="108000" y="2217600"/>
            <a:ext cx="8543880" cy="2724120"/>
            <a:chOff x="108000" y="2217600"/>
            <a:chExt cx="8543880" cy="2724120"/>
          </a:xfrm>
        </p:grpSpPr>
        <p:pic>
          <p:nvPicPr>
            <p:cNvPr id="146" name="Picture 7" descr=""/>
            <p:cNvPicPr/>
            <p:nvPr/>
          </p:nvPicPr>
          <p:blipFill>
            <a:blip r:embed="rId1"/>
            <a:stretch/>
          </p:blipFill>
          <p:spPr>
            <a:xfrm>
              <a:off x="108000" y="2217600"/>
              <a:ext cx="8515440" cy="67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8" descr=""/>
            <p:cNvPicPr/>
            <p:nvPr/>
          </p:nvPicPr>
          <p:blipFill>
            <a:blip r:embed="rId2"/>
            <a:stretch/>
          </p:blipFill>
          <p:spPr>
            <a:xfrm>
              <a:off x="108000" y="2865600"/>
              <a:ext cx="8543880" cy="207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8" name="Text Box 39"/>
          <p:cNvSpPr/>
          <p:nvPr/>
        </p:nvSpPr>
        <p:spPr>
          <a:xfrm>
            <a:off x="411120" y="6321600"/>
            <a:ext cx="47214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Stanje na dan: 30. 4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Evelyn Filip</cp:lastModifiedBy>
  <cp:lastPrinted>2013-06-04T06:50:20Z</cp:lastPrinted>
  <dcterms:modified xsi:type="dcterms:W3CDTF">2014-05-14T14:30:54Z</dcterms:modified>
  <cp:revision>232</cp:revision>
  <dc:subject/>
  <dc:title>Naslov</dc:title>
</cp:coreProperties>
</file>