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CF91-4D58-4289-B1C7-A297E36B7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D636-3E65-40EB-BA72-81A32633C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337-4070-44F9-89B1-11F08AB7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BAB-FA5C-4833-99FE-491AB9C0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7DB21-0006-49AB-B678-C5AFC52A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6A982-0192-433D-9BDB-400D114F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D4995-5E16-4FA5-BB7A-5846DE91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5D5AB-E6E3-4423-AC55-1487F4B5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BFF00-676A-403F-8822-293F2CC7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42CF3-1B65-434E-B170-1E45B5AE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39EA0-C9C8-4D00-A735-88323DC6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172CE-3BC9-4E08-BA47-41C239A5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C6B40-8559-4814-8578-2D96C8AE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E224DF-48E7-4544-B025-3161D2A9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304-014B-40CA-A30A-98456356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CC1913-B17F-4FE3-A373-37195FDD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C2D1B2-6989-4DAF-89F0-9F69C0FF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FD6941-5A6C-4C17-9C2D-485C1920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984767-C58A-44D3-9692-D8A94068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5CE9FD-25EB-4753-A0B3-429AF7DE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F6C77D-9BF7-4F8D-8A18-A7B718F7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0D90AF-49C4-41B5-865B-D1394ACA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E3DB12-8240-4A2B-8681-D54AEC27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93C7AE-369B-46CC-AB0E-7FA01210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33B0A0-1DB6-4B0F-AA2C-9A571CD1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B69-8599-477D-BA12-74B7EDEB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6352C1-F446-4493-AE76-9D2E07ED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F9817-C526-45BD-8A69-C32C1862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1E619-1C8C-42FB-94AE-9EBAE050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CE8A5-0200-4E49-930F-52F221F8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DABCE-D4E2-47FB-BE30-87EAC4AF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FB2A5-C529-4D48-8F81-3B998097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6BB02-8C17-4BA0-B318-2965CF16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28755-EF87-44FB-9429-CC31053F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E7658-3F15-40C5-AD9E-7F8FC01D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363BA-9DB4-4FA4-89EC-8F544AA1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CA1C-225A-419E-8B6E-2985AE5F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B9005-A579-4B28-95B7-37FDF549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285ED-9DA2-47FD-9020-ABAC645D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19A5A-8BF9-443D-BE6A-FA472137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4CC5-84A7-4898-B468-88BF0489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CF41-C052-4707-B3D4-25122FEA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FDD6-B11A-4E3B-889E-EF606BE8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28B4-FFB0-474E-8507-1A98048E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BBB6-0AB5-4D77-BC7A-16A43127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DDD8-828B-44B3-BDC7-2094022D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AAA-E99A-40A4-A901-E8A2146E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336C-B23B-4892-9045-CEEA7A2B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B82E-3CA1-4644-8B0D-5314E569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6A20-6CAD-4C8D-859A-6FA72DD9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00F9-82F9-4628-A63C-BA0AA776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3CA8-D5F1-4D1B-9B86-2D33A595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04C49-F06E-40BA-BD25-80332109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CFCEE-2328-4E82-B18D-04E5AAE1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A75EA-68C3-4A8C-8A0C-856BEC11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85226-7532-4AB7-A09F-0AFDF48E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F2ED-1FAE-4DE0-9B89-BE381F94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DB0-DEA8-4F4F-9317-605A2322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F35E3-5ADB-4FA3-AEC7-2379994C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6FD8C-8FD7-490E-AE89-784FD5EE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80413-334D-484B-BC56-AC5B73AB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B2946-3D06-487E-9366-0BE99C37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25C5-65A6-47E7-BB71-1B2EBDBB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38DF-B115-4B28-BFC5-3841CC9A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7E55C-3248-417E-B400-C2AE8A61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7A0BE-7291-4B4B-A2F2-5D5D502D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577FA-9122-4DE2-971D-662CDB2F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911ED-737A-4724-A117-0174E4F5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5FA-CDC0-40EE-A50D-2D368FF9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3AB69-59F7-4161-BCBB-64F7F3E4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94D4D-DD70-4A39-9933-8D47BCB6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396803-DB38-492A-AD68-9F7E986A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7DD93F-862A-411E-A620-42C3E854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05F95C-CA16-4E5B-A4B6-59EAB75C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7002B6-3055-4D0F-B9F1-B85D19B2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01E91-8E52-4EEA-98ED-95D2819C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08D91C-55E4-4B65-8D05-0C4AA91C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D13CD7-83CC-4DF5-8888-ADC350EF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4592E-ED10-4CD9-91B4-73F0E1AE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A43-E593-4E7B-9910-A0242642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E4763-634A-42B0-BBDB-E1A582C2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9DC59-D4E3-41A9-A313-527138E4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07333-01BB-4266-BF1A-FF392D6B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EE43C-570C-42F9-AC91-3EB2073C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D16A8-8165-43FF-B6C8-BE9A85A5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5FA16-FF61-4798-BF9F-3A6F85B1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63177-084E-433E-AB37-6D937042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6BFA0-F503-48D9-981D-F67C3E42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9F5D4-C8BE-42E1-B9BB-942D6D79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405FA-F0A6-4BC8-B6BD-9F88777C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BC8-EADD-4664-AD4A-88536B07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8CFD4-7B26-483A-B75C-522F04DD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4BDC0-AFDE-4D8B-9B0A-87696A3E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CFC5BE-B1F2-4777-A966-E788DAD2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37A40-3D3E-4667-ABE2-1D0237CD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72C907-51DA-4602-9F88-7D134824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E0ECB-FB53-414D-A1D7-9CF341F8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F11FF-888E-4BD4-9683-BA45C117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060C6B-EFCD-43AE-B272-FADB49B4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A4A4A-F263-4FCC-934C-03EE0F6C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62E8E-9621-47DC-819A-266E3A62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C15-B9EA-46EA-8411-8C65F3A9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502B98-070E-4900-A76C-2122994C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055B4-D735-4251-9790-1EC41576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05ACA-2882-43E2-AC28-142532BA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8A417-0DF9-440F-83D5-241FD764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F7E4B-1D86-4BF8-A1CF-1C641C02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71A45-6F0E-4715-9FAA-FFE4E367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D8E00-5C72-496C-8C72-1C2FB56C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7A0F8-39F2-4AF6-A78D-F70A829B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4B02B-DBE2-49CD-B0DA-34799CFB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4E3F9-074F-4088-AED1-80E95D07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8C5-FF50-449D-84FC-5B8E0AC9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4F4F8-0077-48E0-81A0-A6338645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9BD1D-5BC2-44B3-B216-1AF537ED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93316-B201-4AEE-AEAE-5F96971B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6853C-2FE5-4D00-A8F0-6FD15741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E328C-9DAC-4698-B08C-640986EE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7A978-9678-4C62-A31E-3A4111F2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B7B1F-4977-46FB-9914-40802ACC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53DC2-0B82-4C37-AB00-7B46EA1D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7A17C-1B7D-418E-BA08-F995A213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1A14F-77BE-4968-BED8-0105CF9C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9C7-DF0B-4706-9726-0BAA2CFA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B0E24-F3B3-412E-9D6F-C9ADFED2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1EEDC-67C8-4552-AF6F-1D06A517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7FEB8-5266-4BBB-86FA-62D279C9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54577-807C-4C32-BF26-A254FBEE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8DC0A-7BE4-40BB-8ED9-E7514C48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425F0-0727-4604-B99F-3D142CFC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ED074-A7E7-4DAF-B048-105609C6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2D092-8BFE-49E6-B558-69580723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1FDF3-4287-49A0-9B9C-0B537F49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EEB04-2C0E-4F74-829D-3C18F448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01DA-2C00-40BA-BC26-9E50FD10856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0E01415-C044-4622-AE47-3F9431559764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9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DEBD-0AD1-4C0A-B661-5175A35C78FA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06A5-22DA-4A8A-B65C-11C4E6B1897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C4CC01AB-CE7F-4365-83A6-D993B4287D23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9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81E7-DF29-4FB9-A403-41196B6460D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2BA3-A9CB-4241-9D06-B0471DE5044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68F5C892-39F9-4FF7-B8EB-7DE1EAE3A104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9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D450-DE47-4B73-B14E-C31FE69C0109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03F2-35F8-4206-8E48-66D505B893E7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9B49D59C-4BCC-4DD4-8536-1F219645E659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9:39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EB23-97FA-4331-B236-E3487FC506B9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848C-2D8F-4BDB-8F10-122222D77D2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FF4AA987-15E5-4667-A1C2-23BE22976862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9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7184-CD4A-4F4F-9BB2-0C17940C31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842A-9977-4445-A9CC-FCCA76084CC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4107AA26-D1C6-4221-98CE-72281CB7408E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9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A24B-B966-4B0F-A2EF-6BA0D9DC3E0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21C1-A4B6-4340-986B-D42BD376882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A42B24CE-E4C5-44FE-A59D-FFB8BF04D761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9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B094-2C00-4173-B569-A035B8E2F2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C494-45DD-49E6-AB09-816AC41DBAD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31CAD91C-5D57-4810-82EA-3D65EE3F4FC6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9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4164-2194-4E4C-9A19-CB1FE83FAF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DC37-8579-4A2F-B41F-4397483D422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6214B145-8A6D-4E3A-AFAF-92EF5E8D0263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9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8615-C6C8-4B22-B456-50F8A715D3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2E39-C27F-470D-856A-887544ED2D1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EA8D6DE-21C8-469F-93D8-5DD2F9C0ADF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9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DEF4-82F1-43B8-A492-48D4071433C9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F333-5DEA-449A-AEF6-70187A24F98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982C4E63-DDEE-4EE8-91DA-B9C1115C918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9:3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D074-1E5F-45FE-B52C-F6D1AAE426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42960" y="1557360"/>
            <a:ext cx="64771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sl-SI" sz="4500" spc="-1" strike="noStrike">
                <a:solidFill>
                  <a:srgbClr val="eeece1"/>
                </a:solidFill>
                <a:latin typeface="Tw Cen MT"/>
              </a:rPr>
              <a:t>Javno naročanje v Sloveniji in ukrepi za njegovo učinkovitost</a:t>
            </a:r>
            <a:r>
              <a:rPr b="0" lang="en-GB" sz="4500" spc="-1" strike="noStrike">
                <a:solidFill>
                  <a:srgbClr val="eeece1"/>
                </a:solidFill>
                <a:latin typeface="Tw Cen MT"/>
              </a:rPr>
              <a:t>  </a:t>
            </a:r>
            <a:endParaRPr b="0" lang="en-US" sz="45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3203280" y="6049440"/>
            <a:ext cx="5864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Direktorat za javno naročanj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Maja Koković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6443640" y="53006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točec,  21. 5. 2014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0" y="6016680"/>
            <a:ext cx="30862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Visoka raven transparentnosti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zke mejne vrednosti za objave (20.000 EUR za blago in storitve, 40.000 EUR za gradnje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o javno odpiranje ponudb in možnost vpogleda v ponu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objava “Prostovoljnega” obvestila za predhodno transparentnost v postopkih s pogajanji brez predhodne objav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napoved zadnjega kroga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javljanje obvestil o izvajanju okvirnih sporazum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vseh udeleženih v postopku o predvidenem izboru ponudnika za večjo transparentnost o morebitnem  konfliktu interes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nadzornega organa naročnika o sklenitvi aneksa, zavrnitvi vseh ponudb, odstopu od izvedbe naročil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malu objava ključnih delov JN pogodbe na portalu javnih naroč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Poenostavitve in fleksibilnost postopkov J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d mejnimi vrednostmi EU en postopek z objavo povpraševanja na portalu javnih naročil in možnostjo vključitve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roki niso izrecno določen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ajprej razvrstitev ponudb, nato preveritev najugodnejše, če to omogoča potek postopka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uporaba do 4 mesece starih dokazil iz prejšnjih postopkov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okazila iz uradnih evidenc mora pridobiti naročnik in jih ne sme zahtevati od ponudnika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nudniki lahko predložijo zgolj lastno izjavo, naročnik naknadno pozove k predložitvi dokazil le najugodnejšega ponud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ela na gradbišču lahko tečejo nemoteno kljub nezaključenim pogajanjem o dodatnih gradbenih delih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Od formalizmov k vsebini in odpiranju trga J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naliza trga kot podlaga za določitev ocenjene vrednosti JN in zagotovljenih sredstev (razvid izračuna ocenjene vrednosti,  obvezna opredelitev vrednosti in roka veljavnosti pogodbe)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dprava računskih napak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ožnost odprave formalnih pomanjkljivosti in napak v ponudb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ax. delež dodatnih storitev ali gradenj 30 %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JN - instrument za doseganje ciljev okoljske, socialne in gospodarske politik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Integriteta, odgovornost in nadzo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oti-korupcijska klavzula in letno poročanje Komisiji za preprečevanje korupcije o premoženju sodelujočih v postopkih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rški v primeru kršite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Uvedba e-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osje ponudnika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za takojšnje preverjanje ponudb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istem bo povezan z uradnimi evidencami in omogočal deponiranje certifikatov, referenc in drugih dokaz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ražb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v primeru nesprejemljivih ponudb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oddaja ponudbe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žji stroški postopka JN za ponudnika in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interni postopek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plikacija za upravljanje, vodenje in sledljivost postopkov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računi in e-plači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ravno varstvo pri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luzivni rok za zahtevke za revizijo zoper razpisno dokumentac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 morebitnih napakah v razpisni dokumentaciji mora potencialni ponudnik preko portala javnih naročil obvezno opozoriti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ljub vloženem zahtevku za revizijo se postopek javnega naročanja lahko nadaljuje, naročnik pa ne sme skleniti pogo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taksa za predrevizijski in revizijski postopek je relativno visoka, vendar upošteva načelo sorazmernosti (predmet naročanja, vrednost naročila, sklopi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avno varstvo se lahko uveljavlja le zoper bistvene kršitve v postopku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dnostna obravnava zahtevkov za revizijo, ki se nanašajo na naročila, sofinancirana s sredstvi EU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izjemo kratki roki v predrevizijskem in revizijskem postopku ter avtomatično nadaljevanja pravnega varstva pred Državno revizijsko komis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284720" cy="38037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Za učinkovitejši sistem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Zakonoda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ddaja javnih naročil v praks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Spremljanje stanja in nadzo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Povratna informacija in usposabljanj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936720" cy="1006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imagesCAQWGSER"/>
          <p:cNvPicPr/>
          <p:nvPr/>
        </p:nvPicPr>
        <p:blipFill>
          <a:blip r:embed="rId3"/>
          <a:stretch/>
        </p:blipFill>
        <p:spPr>
          <a:xfrm>
            <a:off x="1403280" y="4221000"/>
            <a:ext cx="2413080" cy="1598760"/>
          </a:xfrm>
          <a:prstGeom prst="rect">
            <a:avLst/>
          </a:prstGeom>
          <a:ln w="0">
            <a:noFill/>
          </a:ln>
        </p:spPr>
      </p:pic>
      <p:sp>
        <p:nvSpPr>
          <p:cNvPr id="508" name="PoljeZBesedilom 8"/>
          <p:cNvSpPr/>
          <p:nvPr/>
        </p:nvSpPr>
        <p:spPr>
          <a:xfrm>
            <a:off x="2340000" y="616572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Hvala za pozornost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8:55:39Z</dcterms:created>
  <dc:creator/>
  <dc:description/>
  <dc:language>en-US</dc:language>
  <cp:lastModifiedBy/>
  <dcterms:modified xsi:type="dcterms:W3CDTF">2014-05-20T10:26:12Z</dcterms:modified>
  <cp:revision>5</cp:revision>
  <dc:subject/>
  <dc:title>SPREMEMBE NA PODORČJU JAVNEGA NAROČANJA (ZJBN-2D, ZJVETPS-D, ZJNPOV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9990</vt:lpwstr>
  </property>
</Properties>
</file>