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277-CD49-43F2-B641-EDA4E802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258-D755-4EB1-9949-74948E18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D46-5494-42CF-934A-FD0F058F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C82-585B-4528-A304-925E51D6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2C3B-3CF7-4651-A012-400D7055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AF80-2B79-4074-BAA8-17EB0902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065C-E0B5-4198-8DB4-5C0422CD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CBCF-7141-4A54-9753-9560669E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3ADE-D054-480E-8676-84CBBC26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8149-8F90-40E2-B7D4-DA36BBBB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5CF2-EACD-4118-AE7D-DB6E0161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B46-57C2-41B8-B5D4-1DDEFD0A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A69C-A220-47DB-A994-62C308FF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9640-8954-40AB-A53A-3F910F8A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585A-1A25-474C-B8A5-08E6683B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5D9E-BCAC-4EB6-B263-15A7FB37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255D-309B-4F62-9EFA-A87CEDE9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59D-215E-49C6-AEBE-79D98869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CBF-4379-470A-9840-51CC5422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0A3-B56C-47E7-BD55-19409F4E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54C-5645-4D93-A1E4-0DE818B5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685-CD1F-4939-8707-8273BA68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536-6DE4-4CBA-AAE8-6914FE88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A8F-87DC-4191-B00A-55AB387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136A-F7DB-495C-B7C6-FB1B59A8599E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Z:\JAVNA UPRAVA 2010\Si CGP\CGP_prirocnik_WEB\OUT\05 Medijsko promocijski elementi\11 PPT predstavitev\untitled folder\ozadje-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961920" y="755640"/>
            <a:ext cx="2779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GOSPODARSKI RAZVOJ IN TEHNOLOGI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grb moder za 10 pt.wmf"/>
          <p:cNvPicPr/>
          <p:nvPr/>
        </p:nvPicPr>
        <p:blipFill>
          <a:blip r:embed="rId4"/>
          <a:stretch/>
        </p:blipFill>
        <p:spPr>
          <a:xfrm>
            <a:off x="639720" y="760320"/>
            <a:ext cx="166680" cy="22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71640" y="6780240"/>
            <a:ext cx="149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135B-D440-40A4-A8E4-3D709117E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grada številke diapozitiva 2"/>
          <p:cNvSpPr/>
          <p:nvPr/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77AB-8388-42E2-B817-C95A65404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7326360"/>
          </a:xfrm>
          <a:prstGeom prst="rect">
            <a:avLst/>
          </a:prstGeom>
          <a:ln w="0">
            <a:noFill/>
          </a:ln>
        </p:spPr>
      </p:pic>
      <p:sp>
        <p:nvSpPr>
          <p:cNvPr id="87" name="Pravokotnik 9"/>
          <p:cNvSpPr/>
          <p:nvPr/>
        </p:nvSpPr>
        <p:spPr>
          <a:xfrm>
            <a:off x="1143000" y="2943360"/>
            <a:ext cx="6500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Horizontalni ukrepi v okviru kohezijske politike (tehnična pomoč)</a:t>
            </a:r>
            <a:br>
              <a:rPr sz="4000"/>
            </a:br>
            <a:br>
              <a:rPr sz="4000"/>
            </a:b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maj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5" descr="logo_nova vladna služba_SLO"/>
          <p:cNvPicPr/>
          <p:nvPr/>
        </p:nvPicPr>
        <p:blipFill>
          <a:blip r:embed="rId2"/>
          <a:stretch/>
        </p:blipFill>
        <p:spPr>
          <a:xfrm>
            <a:off x="433440" y="849240"/>
            <a:ext cx="3778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928800" y="871560"/>
            <a:ext cx="7500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Stanje izvajanja tehnične pomoči na dan 30.0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57360" y="54579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34ea2"/>
                </a:solidFill>
                <a:latin typeface="Arial"/>
              </a:rPr>
              <a:t>Do konca meseca marca 2014 je realizacija tehnične pomoči znašala približno 68,05 mio EUR ali 65,2 % vseh razpoložljivih sredstev tehnične pomoči. Do konca finančnega obdobja 2007-2013 (31.12.2015) je potrebno porabiti še 36.3 mio EUR ali 34,8 % razpoložljivih sredstev tehnične pomoč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on 6" descr=""/>
          <p:cNvPicPr/>
          <p:nvPr/>
        </p:nvPicPr>
        <p:blipFill>
          <a:blip r:embed="rId1"/>
          <a:stretch/>
        </p:blipFill>
        <p:spPr>
          <a:xfrm>
            <a:off x="542880" y="1158840"/>
            <a:ext cx="8352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Ukrepi na področju izvajanja tehnične pomo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281240"/>
            <a:ext cx="81374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Vlada RS je ob koncu leta 2013 sprejela akcijski načrt za pospešitev črpanja evropskih kohezijskih sreds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Ukrepe za pospešitev izvajanje tehnične pomoči s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o zaposlovanje iz sredstev tehnične pomoči – do sedaj smo jih na OU dodatno potrdili 58 zaposli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a usposabljanja/izobraževanja, ki jih organizira organ upravljanja - do sedaj smo jih na OU izvedli 21 usposabljanja/izobraževanja  za različna področja (učinkovita priprava ZZP-jev, upravljanje in vodenje projektov v državni upravi, javna naročila, državne pomoči, računovodenje, usposabljanje na področju gradbenih investicij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pripravljalne aktivnosti, ki se nanašajo na finančno obdobje 2014-2020 (vrednotena, študije, analize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4513" t="0" r="14402" b="10723"/>
          <a:stretch/>
        </p:blipFill>
        <p:spPr>
          <a:xfrm>
            <a:off x="1666800" y="2301840"/>
            <a:ext cx="460872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943280" y="4952880"/>
            <a:ext cx="58687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Načrti </a:t>
            </a:r>
            <a:r>
              <a:rPr b="1" lang="it-IT" sz="2000" spc="-1" strike="noStrike">
                <a:solidFill>
                  <a:srgbClr val="034ea2"/>
                </a:solidFill>
                <a:latin typeface="Arial"/>
              </a:rPr>
              <a:t>za leti 2014 in 2015</a:t>
            </a: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 v okviru tehnične pomoči 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641600"/>
            <a:ext cx="81356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dodatna izobraževanja/usposabljanja za konkretne ciljne skupine (npr. ločeno kontrolorji, skrbniki pogodb, upravičenci, ipd.) na konkretnih področjih (javno naročanje, računovodstvo in knjigovodstvo, državne pomoči, ipd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ev aktivnosti na področju vrednotenja in študij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i aktivnosti , ki se nanašajo na področje obveščanja javnos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kadrovska okrepitev na področju kjer so potrebe (npr. kontrolorj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financiranje pripravljalnih aktivnosti za 2014-2020 (npr. predhodne pogojenost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10:14:35Z</dcterms:modified>
  <cp:revision>216</cp:revision>
  <dc:subject/>
  <dc:title>Naslov</dc:title>
</cp:coreProperties>
</file>