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7F2-724C-4BB4-889D-EAD00CCD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2E0-D95C-4E64-8753-3236D87A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787-A53D-454E-9EAE-6265BA49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931-540C-4BE8-9CDD-65A6D765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113-274E-4336-B29C-346F448F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D71-A3A5-4955-9EE1-119ABCC0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7D0-A246-4776-8C33-91B66380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49E-CC08-4DCC-B57E-BA2BFECE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24D-C809-48CB-9527-D9C0B499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E44-5175-4727-97F9-FBE3E023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EE2-6C0D-4848-901A-3CAE679F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6E0-7984-4C2C-9728-7498FD07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D960-8806-40BB-8CBF-5DD1027497D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LETNO PORO</a:t>
            </a:r>
            <a:r>
              <a:rPr b="0" lang="sl-SI" sz="3200" spc="-1" strike="noStrike">
                <a:solidFill>
                  <a:srgbClr val="92d050"/>
                </a:solidFill>
                <a:latin typeface="Arial"/>
              </a:rPr>
              <a:t>Č</a:t>
            </a: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LO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PERATIVNI PROGRAM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KOLJSKE IN PROMET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NFRASTRUK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maj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1565280" y="102564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oljeZBesedilom 2"/>
          <p:cNvSpPr/>
          <p:nvPr/>
        </p:nvSpPr>
        <p:spPr>
          <a:xfrm>
            <a:off x="1038240" y="178596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i SKLEPI EK za 3 VELIKE PRO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-   Rekonstrukcija, elektrifikacija in nadgradnja železniške proge Pragersko-Hodoš – 1. Fa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onstrukcije, elektrifikacije in nadgradnje železniške proge Pragersko-Hodoš – 2. faza – Modernizacija nivojskih prehodov in izvedba podhodov na postaj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vedba sistema GSM-R na slovenskem železniškem omrež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jeZBesedilom 2"/>
          <p:cNvSpPr/>
          <p:nvPr/>
        </p:nvSpPr>
        <p:spPr>
          <a:xfrm>
            <a:off x="1038240" y="1832040"/>
            <a:ext cx="69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DATNE pravice porabe oz. overcommitm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e odločbe v </a:t>
            </a:r>
            <a:r>
              <a:rPr b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višini 250 mio EUR EU 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Parkiraj in pelji se“ – 8 mio EUR na R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bvoznica Ilirska Bistrica in izven nivojsko križanje OBJN Zgornji Log – 18 mio EUR na R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4 okoljskih projektov – 182 mio EUR na RP 5 – Področje 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Energetska sanacija stavb v lasti lokalnih skupnosti“ – 42,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oljeZBesedilom 2"/>
          <p:cNvSpPr/>
          <p:nvPr/>
        </p:nvSpPr>
        <p:spPr>
          <a:xfrm>
            <a:off x="1038240" y="183204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prememba OP RO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ep 2013 – ODPOVED projekta „Izgradnja potniškega terminala na letališču Jožeta Pučnika Ljubljana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“ v višini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KREP OU – SPREMEMBA OP ROPI – prenos sredstev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iz OP ROPI na OP RR – znižanje potencialnega tveganja izgube sredstev konec leta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jeZBesedilom 2"/>
          <p:cNvSpPr/>
          <p:nvPr/>
        </p:nvSpPr>
        <p:spPr>
          <a:xfrm>
            <a:off x="1038240" y="1832040"/>
            <a:ext cx="691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Velik dogod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ostavili aktivnosti na železniški infrastruk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stnost lokalne skupnosti (prevoz šolarjev), prisotnost 2 Ministrov, odmev v medij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6. septembra 2013 - organiziranega ogleda delovišč na odseku železniške proge  Pragersko–Hod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mdragar\AppData\Local\Microsoft\Windows\Temporary Internet Files\Content.IE5\ZLA96Y0X\DSC_2560[1].JPG"/>
          <p:cNvPicPr/>
          <p:nvPr/>
        </p:nvPicPr>
        <p:blipFill>
          <a:blip r:embed="rId1"/>
          <a:stretch/>
        </p:blipFill>
        <p:spPr>
          <a:xfrm>
            <a:off x="826920" y="4305240"/>
            <a:ext cx="3672000" cy="243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mdragar\AppData\Local\Microsoft\Windows\Temporary Internet Files\Content.IE5\EO7YWAEP\DSC_2571[1].JPG"/>
          <p:cNvPicPr/>
          <p:nvPr/>
        </p:nvPicPr>
        <p:blipFill>
          <a:blip r:embed="rId2"/>
          <a:stretch/>
        </p:blipFill>
        <p:spPr>
          <a:xfrm>
            <a:off x="4859280" y="4305240"/>
            <a:ext cx="37036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ravokotnik 1"/>
          <p:cNvSpPr/>
          <p:nvPr/>
        </p:nvSpPr>
        <p:spPr>
          <a:xfrm>
            <a:off x="2757600" y="1425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Finančni napredek v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oljeZBesedilom 3"/>
          <p:cNvSpPr/>
          <p:nvPr/>
        </p:nvSpPr>
        <p:spPr>
          <a:xfrm>
            <a:off x="1038240" y="2144880"/>
            <a:ext cx="69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 30.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LAČILA iz proračuna RS: 77.740.342 EUR – EU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VTORIZIRANO: 6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CILJ N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 letu 2014 potrebno certifici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HEZIJSKI SKLAD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.812.569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P ROPI – ESRR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.183.621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G:\DEKP\podrocje Kohezijski sklad\Fotke Ilirska Bistrica\WP_20140322_003.jpg"/>
          <p:cNvPicPr/>
          <p:nvPr/>
        </p:nvPicPr>
        <p:blipFill>
          <a:blip r:embed="rId1"/>
          <a:stretch/>
        </p:blipFill>
        <p:spPr>
          <a:xfrm rot="20958600">
            <a:off x="863280" y="1293480"/>
            <a:ext cx="4141800" cy="2324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mdragar\Desktop\Picture 203.jpg"/>
          <p:cNvPicPr/>
          <p:nvPr/>
        </p:nvPicPr>
        <p:blipFill>
          <a:blip r:embed="rId2"/>
          <a:stretch/>
        </p:blipFill>
        <p:spPr>
          <a:xfrm>
            <a:off x="4716360" y="849240"/>
            <a:ext cx="3706920" cy="2781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mdragar\Desktop\Picture 343.jpg"/>
          <p:cNvPicPr/>
          <p:nvPr/>
        </p:nvPicPr>
        <p:blipFill>
          <a:blip r:embed="rId3"/>
          <a:stretch/>
        </p:blipFill>
        <p:spPr>
          <a:xfrm>
            <a:off x="611280" y="3981600"/>
            <a:ext cx="3779640" cy="2835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mdragar\Desktop\Picture 339.jpg"/>
          <p:cNvPicPr/>
          <p:nvPr/>
        </p:nvPicPr>
        <p:blipFill>
          <a:blip r:embed="rId4"/>
          <a:stretch/>
        </p:blipFill>
        <p:spPr>
          <a:xfrm>
            <a:off x="4626000" y="3968640"/>
            <a:ext cx="36180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afikon 6" descr=""/>
          <p:cNvPicPr/>
          <p:nvPr/>
        </p:nvPicPr>
        <p:blipFill>
          <a:blip r:embed="rId1"/>
          <a:stretch/>
        </p:blipFill>
        <p:spPr>
          <a:xfrm>
            <a:off x="1116000" y="2000160"/>
            <a:ext cx="6480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857160" y="2279520"/>
            <a:ext cx="707724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258920" y="2362320"/>
            <a:ext cx="67546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76360" y="2073240"/>
            <a:ext cx="6064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185840" y="2217600"/>
            <a:ext cx="64213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1289160" y="1879560"/>
            <a:ext cx="62150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198440" y="2073240"/>
            <a:ext cx="63961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dcterms:modified xsi:type="dcterms:W3CDTF">2014-05-21T08:57:37Z</dcterms:modified>
  <cp:revision>46</cp:revision>
  <dc:subject/>
  <dc:title>Naslov</dc:title>
</cp:coreProperties>
</file>