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AD36-6C01-44DE-A1F3-43018DC3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7EB1-FAA4-43B7-ABA0-4BCE0E78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A8C2-F24E-41F2-B000-77C25604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55DC-0635-4FA9-8B0F-721C8CBC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1B49-1B12-4E13-8BEB-398A920B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47DE-B657-4FAA-B4D9-05698E9F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150B-4F21-4D95-832C-8D18464D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79FE-E631-4B52-BC94-D72F0B80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3F56-B964-45CF-B207-B449EE94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1A4E-57B0-4B75-831F-12C51D11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0C3D-C36C-4ECE-8F0B-4834A8B0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B54A-172F-4A02-8D48-C8902A16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4DD8-B138-41CB-9145-A3FE264860D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0T08:14:40Z</dcterms:modified>
  <cp:revision>36</cp:revision>
  <dc:subject/>
  <dc:title>Naslov</dc:title>
</cp:coreProperties>
</file>