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dt" idx="3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ftr" idx="3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 type="sldNum" idx="3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767F-2077-48D1-9C69-5EDC167A1D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1DAF-B467-4E57-9F9D-B04D8FA7B9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97E8-CBCD-400C-852B-11CFBF005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2FA0-E918-4DAB-BFE5-10340672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1BAF6-DE86-469A-BFA3-E093ADB6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31D20-B28E-4D7F-9431-EEE64F3C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B4098-B028-44F2-BD42-881FA112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B2B2F-9EEF-494B-A172-E9A3ED28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DB88B-F524-47C3-BEC8-FAE28FE5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8076F-F447-4FDB-955B-917A819E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4E2AE3-081A-4A7F-9289-2ACBCF21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E3F99-D4D4-4261-A5F2-F44EE1F5E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6DF9A-6BB9-49C7-A60B-C24FDB4C8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41A3A8-E30A-48B6-8203-DAF3168F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049E-9498-4B91-B012-755704FD7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DFE99E-58A8-4335-AE05-445C5A65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541758-B062-4458-9E38-09AA3260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DBD1A2-D0E5-415A-8C16-9CE74E2C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2D4BA1-9968-449B-B5D2-4411CAC9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73E160-6B53-40D8-A574-391AF68F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0DEA8F-CB79-49DC-804B-08EA64F3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16CA75-6835-44EE-8381-67ED64DB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E179E1-E6E5-4176-A3EA-2647D0D4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564586-D086-40D6-9555-7DEC70D5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002FFF-D4D1-45C6-BC84-1AF089923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8DE9-9A68-455B-A250-CBA37AEB8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0A94E9-FE3D-41BC-B386-C62131148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402C7-5333-4DC3-89A4-832B3EBA2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27231-1441-41CD-9DAB-6471F906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8FBA2-60BD-4024-B7BD-B93D4E18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BD975-6FB7-401A-9639-4F20676F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99EF9-0C83-4103-AFB0-68C1C6DB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3BFE2-B4BF-4615-B990-6382945D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C800A-317F-4449-83D3-65DC08E8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2DD73-7DED-4CBE-9E59-6D9A8386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CBDC0-8122-4795-9D52-894B0428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DBA7-DC93-4DFA-9C84-1389F622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49922-04A3-45EC-B4F9-D781FB92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67FB9-6C50-4C14-ADB7-A3C6A257D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DE0FF4-24FD-4FE1-B08E-39B03BE81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02C9-B716-49EC-B0A0-546885D9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7FEC-4A68-490F-A4AA-94429B27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EE7F-AE95-45E9-AEBE-5E2F4AF4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8216-C6BF-444A-B044-72FD05CD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895B-2112-4509-A259-2384DF93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AF7A-9864-46F3-B456-3900FF30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7D4B-31F7-4821-AF08-C489DDCC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8E2D-5859-405D-B1BC-92EB9B9A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D976-AC25-4373-9B34-98F7C309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637B-4B0E-4B94-AD32-4C10591F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24FD-107C-484B-B3E6-1B2571C7A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AFEF-C068-4457-B114-A9123408B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3BB77-AC10-4066-9255-6B37F4913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24681-F062-4C90-8C33-08269526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5B51A-404E-45A7-9DFC-29EDA759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215B1-83F1-479F-A87C-A7B3D455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F674D-14A4-429C-9174-99107293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43E5-568E-4A0E-B6C5-93424BA4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7A9EF-E8EA-4725-B323-CDA7149B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9E215-10E7-4FA0-9926-389EBB46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B03DB-302B-4C50-A290-9E5C151D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3607B-CC5E-400D-A7B2-C8B4C384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EA83E-F9E3-4F6B-AC6D-1AE7D6A4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48E7B-D320-40FB-8073-661D1A35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DF95A-0506-4521-9CB5-5BABC985D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EE9AD7-9C46-4EEA-8DA6-38D7E57B0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0951CA-F65D-47A4-AA7E-852EB2E8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3E4AAB-77AB-4CA2-81C8-803C1F10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5EAA-DA70-4D2D-AB13-FBB39F9C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2A6CAE-8F42-41B2-ADCE-B197E65C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BEC9FE-1053-4EA1-88DC-4FED8A35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789913-9165-41A0-897B-1B7BA4B2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9F9A5C-9C31-4E6E-973C-AC58D217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0F15D7-0C88-43B2-93A5-EEDBA3F5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4CBC4E-3FF7-4AF9-9FD6-3994883F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D9CECD-84A2-4179-AAE8-7134D2AD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131FBC-6DAF-4BEC-B831-F9E184973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855406-72C9-455F-9929-BB3121E1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6E17BD-A14C-4172-8922-3297EA1C2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D197-1850-412E-84DF-E25F4153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0FFC00-AF58-4BCD-9B1D-4694A7F5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0C1F62-F648-4CA1-AC1E-7E334625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298923-49A3-4D82-968A-64DA16C1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9AAF83-B999-4776-B86D-F1D40985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308426-965E-4654-97EE-14BCEADC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AFEBA9-A052-4DF6-8A1D-941E8B62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7835BB-B358-457F-845B-A68ED991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249185-5D49-466D-84FD-5C3519D5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D693EE-E88C-4FB9-AAB1-7BC2B114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123B35-CCC7-42EE-B2EF-05BD9F748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0183-98B3-490E-B921-E1D0D288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303B63-26B7-4DE7-AA00-1D4C35419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794D07-5E30-4C2E-B0D1-B59EC6AE2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4473F8-AC37-4BAC-98F6-E5B43110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3721AB-0737-4EC9-AC8B-4815E0C8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FF321F-3E72-4A7E-89B7-8DBE6F6A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7A6497-C706-4BE1-9821-5FACFB27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33CA6C-A5B5-491A-A5F7-D0E49EB0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655688-9C38-49FD-93AD-D3520868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B853CA-8C2E-4EC2-9083-261B86A2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576555-2DAC-4C76-BA19-47D62AE4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5997-29A8-4405-B30A-A4948413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1872C9-5982-4E58-974D-2F42B5D0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5589B0-489D-4621-A8CD-8F7B683D0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43BFDE-FC20-41B6-A418-E38B4B5CF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C59B2-9814-4C45-A7E4-7FD07E5F5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17BAC-1376-4DDF-9CE7-23E9564C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D1E58-8327-4251-BC4F-FB5BFD6C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77291-DEFF-4AC6-9756-D94C7342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D5705-3448-4866-A509-1D079F6C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DA45D-3B7D-4FB6-BBE1-8E23C31D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44FBD-85E6-4371-B374-9EFADA64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59ED-2A2B-47D7-B293-65BAA2D7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79D2F-C4D0-4EB5-8F4C-9AC18306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BFECE-D465-4BE8-A170-0552CDD0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BA00C-4494-4BC4-A488-462448C5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FF728-0ABA-4FCC-BEAE-BCF86EDE8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30CD0-FAFE-4181-9A95-EAC0274B0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CB084-AFA1-4736-BDAF-07CF64D83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13B7A-1076-4DC2-BEE3-D213CE4E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88E83-9BC4-4332-B7A9-9B723473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BE889-FEA4-435B-8E92-7E70EB93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D646E-36B8-4851-ABED-250D9642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B26C-9259-4E8E-9DCF-E9E74778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32A02-D6E3-4A77-B73B-23B65ADA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8B37E-3F6B-422B-96A4-67EC34DC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C05D2-6039-4B7A-8102-10E0B56D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BCE1F-51A9-4CC2-A5DF-BC63BADB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D14FD-B15E-40F6-8356-CD930F8D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CA47D-24C6-4A12-ACD4-0E5A457B9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F8DD1-B3B6-4C79-983B-221D204BD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85645-1076-4654-8578-008B21067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185AD-F84A-4921-8BF6-1DF845AF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341A3-E082-46F9-938D-A0093122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70A2-B8F7-4982-9798-3BE7C9E140A1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0CC01832-213D-424F-A427-13E1FEF63BCB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3:4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44C1-F8AF-41BB-8408-D61F7BF34504}" type="slidenum"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31F9-A713-43D7-9D64-D67D0052A3EF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AC33F8D8-638A-42E4-8E39-B0A994CAA062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3:4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DD33-9CD2-4503-957D-5ADF0AEE5EFF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D08D-FD58-4106-BDF8-E664BA883187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891E2951-5503-46C1-A085-C2991DCAA3F3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3:4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EB7F-720E-4B35-A001-E184FA3212F1}" type="slidenum"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8535-F489-4ABA-9086-DB4D0A6E43BD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88495EFB-B1EF-4404-86ED-005EB04E1911}" type="datetime10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3:4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1C58-D8C5-4BAC-AFE1-5956C2881EEA}" type="slidenum"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5563-897F-4F82-B89F-85F14F1C60F3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FE3263C7-C4E3-4034-AFA8-80EE5EF2EF49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3:4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F284-A34A-4EB2-B61B-88DEEB2795D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331C-2CDB-4C88-B379-AE4E3AD2A2A9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BE6557D8-571C-43A9-A096-F914F0EF3387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3:4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3D54-8D3F-4B7B-8149-5D6AF90AE557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A7B1-CF37-4506-ADB0-3D91A23097FC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1F349098-95F8-4D65-BA1B-D8670DBFAB0F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3:4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979F-4384-4F83-94E4-60E048CA9E6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B9FA-9716-4CA9-8C67-C7A68C3858F3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5DB7BBB7-B406-42D0-AB34-0B5A9312BCD7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3:4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7A38-1F1C-43B6-B532-C1759A1E7D8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853B-D92E-4560-863B-374DA41A4BE4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CC4BB5B9-5448-4556-AE2E-7836CB962BC5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3:4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E835-8417-49E5-A32A-CE2A0623E41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A5B7-A07A-41E8-B55C-C0D8147A43E5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B4F4A930-E217-4020-B9E4-3595679B55CB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3:4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A7F4-D088-4FFA-8F76-5C010B7C44C9}" type="slidenum"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EDBF-ACE8-4DF8-B765-7E5EC72376BA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06EBD0C5-3E21-47B4-9697-56E3D996D5B8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3:4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9093-6645-411C-964C-A8AD6006B39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542960" y="1557360"/>
            <a:ext cx="6477120" cy="25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sl-SI" sz="4500" spc="-1" strike="noStrike">
                <a:solidFill>
                  <a:srgbClr val="eeece1"/>
                </a:solidFill>
                <a:latin typeface="Tw Cen MT"/>
              </a:rPr>
              <a:t>Javno naročanje v Sloveniji in ukrepi za njegovo učinkovitost</a:t>
            </a:r>
            <a:r>
              <a:rPr b="0" lang="en-GB" sz="4500" spc="-1" strike="noStrike">
                <a:solidFill>
                  <a:srgbClr val="eeece1"/>
                </a:solidFill>
                <a:latin typeface="Tw Cen MT"/>
              </a:rPr>
              <a:t>  </a:t>
            </a:r>
            <a:endParaRPr b="0" lang="en-US" sz="45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3203280" y="6049440"/>
            <a:ext cx="5864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w Cen MT"/>
              </a:rPr>
              <a:t>Direktorat za javno naročanje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w Cen MT"/>
              </a:rPr>
              <a:t>Maja Koković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1" name="TextBox 4"/>
          <p:cNvSpPr/>
          <p:nvPr/>
        </p:nvSpPr>
        <p:spPr>
          <a:xfrm>
            <a:off x="6443640" y="5300640"/>
            <a:ext cx="27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Otočec,  21. 5. 2014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92" name="Picture 3" descr=""/>
          <p:cNvPicPr/>
          <p:nvPr/>
        </p:nvPicPr>
        <p:blipFill>
          <a:blip r:embed="rId1"/>
          <a:stretch/>
        </p:blipFill>
        <p:spPr>
          <a:xfrm>
            <a:off x="0" y="6016680"/>
            <a:ext cx="308628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Posebnosti nacionalne ureditve     I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900" spc="-1" strike="noStrike">
                <a:solidFill>
                  <a:srgbClr val="000000"/>
                </a:solidFill>
                <a:latin typeface="Tw Cen MT"/>
              </a:rPr>
              <a:t>Visoka raven transparentnosti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nizke mejne vrednosti za objave (20.000 EUR za blago in storitve, 40.000 EUR za gradnje)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bvezno javno odpiranje ponudb in možnost vpogleda v ponudbe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bvezna objava “Prostovoljnega” obvestila za predhodno transparentnost v postopkih s pogajanji brez predhodne objave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bvezna napoved zadnjega kroga pogajanj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bjavljanje obvestil o izvajanju okvirnih sporazumov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seznanitev vseh udeleženih v postopku o predvidenem izboru ponudnika za večjo transparentnost o morebitnem  konfliktu interesov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seznanitev nadzornega organa naročnika o sklenitvi aneksa, zavrnitvi vseh ponudb, odstopu od izvedbe naročil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kmalu objava ključnih delov JN pogodbe na portalu javnih naročil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Posebnosti nacionalne ureditve     II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900" spc="-1" strike="noStrike">
                <a:solidFill>
                  <a:srgbClr val="000000"/>
                </a:solidFill>
                <a:latin typeface="Tw Cen MT"/>
              </a:rPr>
              <a:t>Poenostavitve in fleksibilnost postopkov J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od mejnimi vrednostmi EU en postopek z objavo povpraševanja na portalu javnih naročil in možnostjo vključitve pogajanj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roki niso izrecno določeni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najprej razvrstitev ponudb, nato preveritev najugodnejše, če to omogoča potek postopka JN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uporaba do 4 mesece starih dokazil iz prejšnjih postopkov javnega naročanj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dokazila iz uradnih evidenc mora pridobiti naročnik in jih ne sme zahtevati od ponudnika;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onudniki lahko predložijo zgolj lastno izjavo, naročnik naknadno pozove k predložitvi dokazil le najugodnejšega ponudnik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dela na gradbišču lahko tečejo nemoteno kljub nezaključenim pogajanjem o dodatnih gradbenih delih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Posebnosti nacionalne ureditve     III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Od formalizmov k vsebini in odpiranju trga JN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analiza trga kot podlaga za določitev ocenjene vrednosti JN in zagotovljenih sredstev (razvid izračuna ocenjene vrednosti,  obvezna opredelitev vrednosti in roka veljavnosti pogodbe);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dprava računskih napak;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možnost odprave formalnih pomanjkljivosti in napak v ponudbi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max. delež dodatnih storitev ali gradenj 30 %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JN - instrument za doseganje ciljev okoljske, socialne in gospodarske politike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Integriteta, odgovornost in nadzor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roti-korupcijska klavzula in letno poročanje Komisiji za preprečevanje korupcije o premoženju sodelujočih v postopkih javnega naročanj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rekrški v primeru kršitev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Uvedba e-JN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E-dosje ponudnika: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za takojšnje preverjanje ponudb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sistem bo povezan z uradnimi evidencami in omogočal deponiranje certifikatov, referenc in drugih dokazil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E-dražba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bvezna v primeru nesprejemljivih ponudb;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E-oddaja ponudbe: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nižji stroški postopka JN za ponudnika in naročnik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E-interni postopek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aplikacija za upravljanje, vodenje in sledljivost postopkov JN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E-računi in e-plačil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Pravno varstvo pri JN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rekluzivni rok za zahtevke za revizijo zoper razpisno dokumentacijo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 morebitnih napakah v razpisni dokumentaciji mora potencialni ponudnik preko portala javnih naročil obvezno opozoriti naročnik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kljub vloženem zahtevku za revizijo se postopek javnega naročanja lahko nadaljuje, naročnik pa ne sme skleniti pogodbe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taksa za predrevizijski in revizijski postopek je relativno visoka, vendar upošteva načelo sorazmernosti (predmet naročanja, vrednost naročila, sklopi)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ravno varstvo se lahko uveljavlja le zoper bistvene kršitve v postopku JN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rednostna obravnava zahtevkov za revizijo, ki se nanašajo na naročila, sofinancirana s sredstvi EU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izjemo kratki roki v predrevizijskem in revizijskem postopku ter avtomatično nadaljevanja pravnega varstva pred Državno revizijsko komisijo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4284720" cy="380376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Za učinkovitejši sistem JN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Zakonodaj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Oddaja javnih naročil v praksi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Spremljanje stanja in nadzor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Povratna informacija in usposabljanj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6" name="Picture 3" descr=""/>
          <p:cNvPicPr/>
          <p:nvPr/>
        </p:nvPicPr>
        <p:blipFill>
          <a:blip r:embed="rId2"/>
          <a:stretch/>
        </p:blipFill>
        <p:spPr>
          <a:xfrm>
            <a:off x="7812000" y="189000"/>
            <a:ext cx="936720" cy="10065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7" descr="imagesCAQWGSER"/>
          <p:cNvPicPr/>
          <p:nvPr/>
        </p:nvPicPr>
        <p:blipFill>
          <a:blip r:embed="rId3"/>
          <a:stretch/>
        </p:blipFill>
        <p:spPr>
          <a:xfrm>
            <a:off x="1403280" y="4221000"/>
            <a:ext cx="2413080" cy="1598760"/>
          </a:xfrm>
          <a:prstGeom prst="rect">
            <a:avLst/>
          </a:prstGeom>
          <a:ln w="0">
            <a:noFill/>
          </a:ln>
        </p:spPr>
      </p:pic>
      <p:sp>
        <p:nvSpPr>
          <p:cNvPr id="508" name="PoljeZBesedilom 8"/>
          <p:cNvSpPr/>
          <p:nvPr/>
        </p:nvSpPr>
        <p:spPr>
          <a:xfrm>
            <a:off x="2340000" y="6165720"/>
            <a:ext cx="38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Hvala za pozornost!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08:55:39Z</dcterms:created>
  <dc:creator/>
  <dc:description/>
  <dc:language>en-US</dc:language>
  <cp:lastModifiedBy/>
  <dcterms:modified xsi:type="dcterms:W3CDTF">2014-05-20T10:26:12Z</dcterms:modified>
  <cp:revision>5</cp:revision>
  <dc:subject/>
  <dc:title>SPREMEMBE NA PODORČJU JAVNEGA NAROČANJA (ZJBN-2D, ZJVETPS-D, ZJNPOV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71259990</vt:lpwstr>
  </property>
</Properties>
</file>