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8304-28BE-4213-8E38-1B9E502A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463-2152-48DF-B12F-20BA2572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2AE-6C6A-4603-951E-EDDC25E5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0D1-55B3-4C91-A989-592D9302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5A34-D9B9-4BE0-A46A-B11AC06D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40CC-1B0C-4169-A805-4CFA34B3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E320-E159-4FE6-8FF4-D96B50FC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64EF-7454-4270-B8C7-CF326BD2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C4D2-0F2D-4A70-9AD1-FC31BD28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BEC1-2843-4A57-9467-C497A4D5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EECB-8359-4D32-95A6-333485A6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507-5C4D-4C4A-9B7D-D4E8CC1D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33CF-6F94-4B1C-8924-9C5D4398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D531-4356-4450-8FB8-DF459EB7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D92F-1BA8-4C61-BB07-3B9A2FC4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F4DC-8AF8-4595-8330-DEDFACC5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7462-0A82-45DE-9CE4-3DFF101D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3B4D-4EE1-4147-83A2-BC3121AB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8DD-24AD-4EFD-8068-B42E2A8C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FD3B-9590-4E98-8B07-606328C6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EDF-1F92-4AEA-BECD-A9DFD8D0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D032-DDB9-49C5-9B2B-9589EA05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6D1-D063-45FD-81A6-C0DEBE5B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81D-1A2A-4312-BDAC-C626B3BB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DB48-511A-481F-B97C-B5BEE2DD3B0D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Z:\JAVNA UPRAVA 2010\Si CGP\CGP_prirocnik_WEB\OUT\05 Medijsko promocijski elementi\11 PPT predstavitev\untitled folder\ozadje-01.png"/>
          <p:cNvPicPr/>
          <p:nvPr/>
        </p:nvPicPr>
        <p:blipFill>
          <a:blip r:embed="rId3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961920" y="755640"/>
            <a:ext cx="2779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GOSPODARSKI RAZVOJ IN TEHNOLOGI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grb moder za 10 pt.wmf"/>
          <p:cNvPicPr/>
          <p:nvPr/>
        </p:nvPicPr>
        <p:blipFill>
          <a:blip r:embed="rId4"/>
          <a:stretch/>
        </p:blipFill>
        <p:spPr>
          <a:xfrm>
            <a:off x="639720" y="760320"/>
            <a:ext cx="166680" cy="222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971640" y="6780240"/>
            <a:ext cx="1495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780240"/>
            <a:ext cx="13320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7FC1-3273-4337-B029-2DC6CC339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grada številke diapozitiva 2"/>
          <p:cNvSpPr/>
          <p:nvPr/>
        </p:nvSpPr>
        <p:spPr>
          <a:xfrm>
            <a:off x="6553080" y="6780240"/>
            <a:ext cx="13320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9F0B-5A3B-4DFC-AD32-75A4C61C1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7326360"/>
          </a:xfrm>
          <a:prstGeom prst="rect">
            <a:avLst/>
          </a:prstGeom>
          <a:ln w="0">
            <a:noFill/>
          </a:ln>
        </p:spPr>
      </p:pic>
      <p:sp>
        <p:nvSpPr>
          <p:cNvPr id="87" name="Pravokotnik 9"/>
          <p:cNvSpPr/>
          <p:nvPr/>
        </p:nvSpPr>
        <p:spPr>
          <a:xfrm>
            <a:off x="1143000" y="2943360"/>
            <a:ext cx="65008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Horizontalni ukrepi v okviru kohezijske politike (tehnična pomoč)</a:t>
            </a:r>
            <a:br>
              <a:rPr sz="4000"/>
            </a:br>
            <a:br>
              <a:rPr sz="4000"/>
            </a:b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maj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Slika 5" descr="logo_nova vladna služba_SLO"/>
          <p:cNvPicPr/>
          <p:nvPr/>
        </p:nvPicPr>
        <p:blipFill>
          <a:blip r:embed="rId2"/>
          <a:stretch/>
        </p:blipFill>
        <p:spPr>
          <a:xfrm>
            <a:off x="433440" y="849240"/>
            <a:ext cx="37782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928800" y="871560"/>
            <a:ext cx="7500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Stanje izvajanja tehnične pomoči na dan 30.0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57360" y="545796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34ea2"/>
                </a:solidFill>
                <a:latin typeface="Arial"/>
              </a:rPr>
              <a:t>Do konca meseca marca 2014 je realizacija tehnične pomoči znašala približno 68,05 mio EUR ali 65,2 % vseh razpoložljivih sredstev tehnične pomoči. Do konca finančnega obdobja 2007-2013 (31.12.2015) je potrebno porabiti še 36.3 mio EUR ali 34,8 % razpoložljivih sredstev tehnične pomoč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Grafikon 6" descr=""/>
          <p:cNvPicPr/>
          <p:nvPr/>
        </p:nvPicPr>
        <p:blipFill>
          <a:blip r:embed="rId1"/>
          <a:stretch/>
        </p:blipFill>
        <p:spPr>
          <a:xfrm>
            <a:off x="542880" y="1158840"/>
            <a:ext cx="8352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Ukrepi na področju izvajanja tehnične pomoč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281240"/>
            <a:ext cx="813744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Vlada RS je ob koncu leta 2013 sprejela akcijski načrt za pospešitev črpanja evropskih kohezijskih sredstev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Ukrepe za pospešitev izvajanje tehnične pomoči s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dodatno zaposlovanje iz sredstev tehnične pomoči – do sedaj smo jih na OU dodatno potrdili 58 zaposlitev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dodatna usposabljanja/izobraževanja, ki jih organizira organ upravljanja - do sedaj smo jih na OU izvedli 21 usposabljanja/izobraževanja  za različna področja (učinkovita priprava ZZP-jev, upravljanje in vodenje projektov v državni upravi, javna naročila, državne pomoči, računovodenje, usposabljanje na področju gradbenih investicij,…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pripravljalne aktivnosti, ki se nanašajo na finančno obdobje 2014-2020 (vrednotena, študije, analize,…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rcRect l="14513" t="0" r="14402" b="10723"/>
          <a:stretch/>
        </p:blipFill>
        <p:spPr>
          <a:xfrm>
            <a:off x="1666800" y="2301840"/>
            <a:ext cx="4608720" cy="2651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943280" y="4952880"/>
            <a:ext cx="586872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77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Načrti </a:t>
            </a:r>
            <a:r>
              <a:rPr b="1" lang="it-IT" sz="2000" spc="-1" strike="noStrike">
                <a:solidFill>
                  <a:srgbClr val="034ea2"/>
                </a:solidFill>
                <a:latin typeface="Arial"/>
              </a:rPr>
              <a:t>za leti 2014 in 2015</a:t>
            </a: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 v okviru tehnične pomoči s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3640" y="1641600"/>
            <a:ext cx="813564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dodatna izobraževanja/usposabljanja za konkretne ciljne skupine (npr. ločeno kontrolorji, skrbniki pogodb, upravičenci, ipd.) na konkretnih področjih (javno naročanje, računovodstvo in knjigovodstvo, državne pomoči, ipd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pospešitev aktivnosti na področju vrednotenja in študij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pospešiti aktivnosti , ki se nanašajo na področje obveščanja javnost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kadrovska okrepitev na področju kjer so potrebe (npr. kontrolorj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financiranje pripravljalnih aktivnosti za 2014-2020 (npr. predhodne pogojenost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0T10:14:35Z</dcterms:modified>
  <cp:revision>216</cp:revision>
  <dc:subject/>
  <dc:title>Naslov</dc:title>
</cp:coreProperties>
</file>