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wmf" ContentType="image/x-wmf"/>
  <Override PartName="/ppt/media/image4.png" ContentType="image/png"/>
  <Override PartName="/ppt/media/image6.png" ContentType="image/png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73152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7932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4804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077480" y="742680"/>
            <a:ext cx="4643640" cy="3714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0" y="940752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48040" y="940752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4201D-BE80-4FA2-A117-795C158F75D7}" type="slidenum">
              <a:rPr b="0" lang="sl-S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48040" y="940752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E92A1-377A-48B9-B4B4-3C8EC605F150}" type="slidenum">
              <a:rPr b="0" lang="sl-SI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077840" y="743040"/>
            <a:ext cx="4643640" cy="371484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l-SI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077840" y="743040"/>
            <a:ext cx="4643640" cy="371484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l-SI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848040" y="940752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E6F4A-1E79-4EFE-B081-BE4AEF5339D6}" type="slidenum">
              <a:rPr b="0" lang="sl-SI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2134D-18F6-48CB-B8EE-8A0FA0485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64D9B-6A5A-4A4C-9C18-F5D3F780B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F1068-F4C7-42E9-8EF8-A8FA63372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A7C0A-107A-4418-A6F7-48A225D35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E5EB5-CE59-41AC-A543-2B28AAC0D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D4ABD-C945-4F3F-A6FC-24A5BB393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699D2-7E06-45BC-80F7-7A586C79D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F6496-EF6F-4CF8-945B-F2DD25D3B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2EEAF-6760-46AC-8764-894C84511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3760"/>
            <a:ext cx="82296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DED7C-EF31-4F33-AB45-777C7B2CA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D1EDC-1D36-4E0B-9ADB-88082F7C5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50CDC-309A-457F-814C-DA6520284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5540B-D170-4FC1-B710-3B572A84D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0B6F4-4464-4C8F-A561-8C848CA11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383E9-3A11-4BE4-BD37-1D4184FE1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A1727-8DE1-4D12-A9CE-5C7E5489D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9E28C-65D1-4207-8A91-9AD0320CD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F3CBC-6C53-4F96-AAC0-EF052F76D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03201-D2D8-497F-943C-11F51C3C3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F423B-B9BE-46D5-B189-C5420A56C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3760"/>
            <a:ext cx="82296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F93B6-C7DC-4461-9A71-9EFB9FBF4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F0122-67A0-4FE6-90DD-FCE1CA1DB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B00E1-157A-4AEC-9E22-E9EE44726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64D22-48DF-4C76-A478-BCC4507F7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7035480"/>
            <a:ext cx="21337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000" spc="-1" strike="noStrike">
                <a:solidFill>
                  <a:srgbClr val="034ea2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5F10D-4BC6-4C5B-9C3E-5767BB445380}" type="datetime">
              <a:rPr b="0" lang="sl-SI" sz="1000" spc="-1" strike="noStrike">
                <a:solidFill>
                  <a:srgbClr val="034ea2"/>
                </a:solidFill>
                <a:latin typeface="Arial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7035480"/>
            <a:ext cx="289584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7035480"/>
            <a:ext cx="21337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000" spc="-1" strike="noStrike">
                <a:solidFill>
                  <a:srgbClr val="034ea2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1AA6B-9518-484B-8A4D-538CCE392099}" type="slidenum">
              <a:rPr b="0" lang="sl-SI" sz="1000" spc="-1" strike="noStrike">
                <a:solidFill>
                  <a:srgbClr val="034ea2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70640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660720"/>
            <a:ext cx="213372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E3479-1E31-4A68-AF66-03B35A5E8EBD}" type="datetime">
              <a:rPr b="0" lang="sl-SI" sz="14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660720"/>
            <a:ext cx="289584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660720"/>
            <a:ext cx="213372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FEAC9-4FDE-4AEF-B09D-508FA93F9C92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Date Placeholder 3"/>
          <p:cNvSpPr/>
          <p:nvPr/>
        </p:nvSpPr>
        <p:spPr>
          <a:xfrm>
            <a:off x="45720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53513-8663-4B58-B00A-03458741D64D}" type="datetime">
              <a:rPr b="0" lang="sl-SI" sz="1000" spc="-1" strike="noStrike">
                <a:solidFill>
                  <a:srgbClr val="003366"/>
                </a:solidFill>
                <a:latin typeface="Arial"/>
                <a:ea typeface="Arial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lide Number Placeholder 5"/>
          <p:cNvSpPr/>
          <p:nvPr/>
        </p:nvSpPr>
        <p:spPr>
          <a:xfrm>
            <a:off x="655308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71BC5-89AD-4FC0-BA06-909C04061CB9}" type="slidenum">
              <a:rPr b="0" lang="sl-SI" sz="1000" spc="-1" strike="noStrike">
                <a:solidFill>
                  <a:srgbClr val="003366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5"/>
          <p:cNvSpPr/>
          <p:nvPr/>
        </p:nvSpPr>
        <p:spPr>
          <a:xfrm>
            <a:off x="1044720" y="1136520"/>
            <a:ext cx="2879640" cy="108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3366"/>
                </a:solidFill>
                <a:latin typeface="Century Gothic"/>
                <a:ea typeface="Arial"/>
              </a:rPr>
              <a:t>MINISTRSTVO ZA FIN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808080"/>
                </a:solidFill>
                <a:latin typeface="Century Gothic"/>
                <a:ea typeface="Arial"/>
              </a:rPr>
              <a:t>Beethovnova 11, 1000 Ljubljan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808080"/>
                </a:solidFill>
                <a:latin typeface="Century Gothic"/>
                <a:ea typeface="Arial"/>
              </a:rPr>
              <a:t>Tel.: (01) 369-65-10 Fax: (01) 369-65-3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808080"/>
                </a:solidFill>
                <a:latin typeface="Century Gothic"/>
                <a:ea typeface="Arial"/>
              </a:rPr>
              <a:t>SUSEU/PO - ORGAN ZA POTRJEVANJ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7"/>
          <p:cNvSpPr/>
          <p:nvPr/>
        </p:nvSpPr>
        <p:spPr>
          <a:xfrm>
            <a:off x="971640" y="2881440"/>
            <a:ext cx="7270560" cy="29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9"/>
          <p:cNvSpPr/>
          <p:nvPr/>
        </p:nvSpPr>
        <p:spPr>
          <a:xfrm>
            <a:off x="179280" y="3152880"/>
            <a:ext cx="84981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3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sl-SI" sz="4400" spc="-1" strike="noStrike">
                <a:solidFill>
                  <a:srgbClr val="003366"/>
                </a:solidFill>
                <a:latin typeface="Calibri"/>
                <a:ea typeface="Calibri"/>
              </a:rPr>
              <a:t>Finančna realizacija izvajanj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3366"/>
                </a:solidFill>
                <a:latin typeface="Calibri"/>
                <a:ea typeface="Calibri"/>
              </a:rPr>
              <a:t>OP RČV za obdobje </a:t>
            </a:r>
            <a:br>
              <a:rPr sz="4400"/>
            </a:br>
            <a:r>
              <a:rPr b="1" lang="sl-SI" sz="4400" spc="-1" strike="noStrike">
                <a:solidFill>
                  <a:srgbClr val="003366"/>
                </a:solidFill>
                <a:latin typeface="Calibri"/>
                <a:ea typeface="Calibri"/>
              </a:rPr>
              <a:t>2007-2013</a:t>
            </a:r>
            <a:r>
              <a:rPr b="0" lang="sl-SI" sz="4400" spc="-1" strike="noStrike">
                <a:solidFill>
                  <a:srgbClr val="003366"/>
                </a:solidFill>
                <a:latin typeface="Calibri"/>
                <a:ea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0"/>
          <p:cNvSpPr/>
          <p:nvPr/>
        </p:nvSpPr>
        <p:spPr>
          <a:xfrm>
            <a:off x="39600" y="4233960"/>
            <a:ext cx="91044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Date Placeholder 3"/>
          <p:cNvSpPr/>
          <p:nvPr/>
        </p:nvSpPr>
        <p:spPr>
          <a:xfrm>
            <a:off x="45720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65754-150D-4D7C-974C-07518488224C}" type="datetime">
              <a:rPr b="0" lang="sl-SI" sz="1000" spc="-1" strike="noStrike">
                <a:solidFill>
                  <a:srgbClr val="003366"/>
                </a:solidFill>
                <a:latin typeface="Arial"/>
                <a:ea typeface="Arial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lide Number Placeholder 5"/>
          <p:cNvSpPr/>
          <p:nvPr/>
        </p:nvSpPr>
        <p:spPr>
          <a:xfrm>
            <a:off x="655308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BD99B-8A3D-482F-9A53-DF159B5AED63}" type="slidenum">
              <a:rPr b="0" lang="sl-SI" sz="1000" spc="-1" strike="noStrike">
                <a:solidFill>
                  <a:srgbClr val="003366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39"/>
          <p:cNvSpPr/>
          <p:nvPr/>
        </p:nvSpPr>
        <p:spPr>
          <a:xfrm>
            <a:off x="808200" y="6340320"/>
            <a:ext cx="47210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Stanje na dan:  9. 5. 20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Vir: IS-PA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40"/>
          <p:cNvSpPr/>
          <p:nvPr/>
        </p:nvSpPr>
        <p:spPr>
          <a:xfrm>
            <a:off x="1628640" y="1054080"/>
            <a:ext cx="637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3366"/>
                </a:solidFill>
                <a:latin typeface="Calibri"/>
                <a:ea typeface="Calibri"/>
              </a:rPr>
              <a:t>Letni pregled avtoriziranih/certificiranih izdatk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53"/>
          <p:cNvSpPr/>
          <p:nvPr/>
        </p:nvSpPr>
        <p:spPr>
          <a:xfrm>
            <a:off x="860400" y="1496880"/>
            <a:ext cx="5656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Prispevek Skupnosti (v EUR</a:t>
            </a:r>
            <a:r>
              <a:rPr b="0" lang="sl-SI" sz="1200" spc="-1" strike="noStrike">
                <a:solidFill>
                  <a:srgbClr val="003366"/>
                </a:solidFill>
                <a:latin typeface="Arial"/>
                <a:ea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9" descr=""/>
          <p:cNvPicPr/>
          <p:nvPr/>
        </p:nvPicPr>
        <p:blipFill>
          <a:blip r:embed="rId1"/>
          <a:stretch/>
        </p:blipFill>
        <p:spPr>
          <a:xfrm>
            <a:off x="971640" y="1785960"/>
            <a:ext cx="3456000" cy="2473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0" descr=""/>
          <p:cNvPicPr/>
          <p:nvPr/>
        </p:nvPicPr>
        <p:blipFill>
          <a:blip r:embed="rId2"/>
          <a:stretch/>
        </p:blipFill>
        <p:spPr>
          <a:xfrm>
            <a:off x="3851280" y="4335480"/>
            <a:ext cx="4584600" cy="27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Date Placeholder 1"/>
          <p:cNvSpPr/>
          <p:nvPr/>
        </p:nvSpPr>
        <p:spPr>
          <a:xfrm>
            <a:off x="45720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A49AA-FE92-412E-8026-640FE8F343A7}" type="datetime">
              <a:rPr b="0" lang="sl-SI" sz="1000" spc="-1" strike="noStrike">
                <a:solidFill>
                  <a:srgbClr val="034ea2"/>
                </a:solidFill>
                <a:latin typeface="Arial"/>
                <a:ea typeface="Arial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lide Number Placeholder 2"/>
          <p:cNvSpPr/>
          <p:nvPr/>
        </p:nvSpPr>
        <p:spPr>
          <a:xfrm>
            <a:off x="655308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69BD3-8CA9-4C70-8A58-9DF0CE427BE8}" type="slidenum">
              <a:rPr b="0" lang="sl-SI" sz="1000" spc="-1" strike="noStrike">
                <a:solidFill>
                  <a:srgbClr val="034ea2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Date Placeholder 1"/>
          <p:cNvSpPr/>
          <p:nvPr/>
        </p:nvSpPr>
        <p:spPr>
          <a:xfrm>
            <a:off x="45720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48694-F62E-47E2-BC8A-9799CA5C7085}" type="datetime">
              <a:rPr b="0" lang="sl-SI" sz="1000" spc="-1" strike="noStrike">
                <a:solidFill>
                  <a:srgbClr val="034ea2"/>
                </a:solidFill>
                <a:latin typeface="Arial"/>
                <a:ea typeface="Arial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655308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65490-296A-4436-90E7-1C88C3A2D84A}" type="slidenum">
              <a:rPr b="0" lang="sl-SI" sz="1000" spc="-1" strike="noStrike">
                <a:solidFill>
                  <a:srgbClr val="034ea2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74"/>
          <p:cNvSpPr/>
          <p:nvPr/>
        </p:nvSpPr>
        <p:spPr>
          <a:xfrm>
            <a:off x="826920" y="993600"/>
            <a:ext cx="727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3366"/>
                </a:solidFill>
                <a:latin typeface="Calibri"/>
                <a:ea typeface="Calibri"/>
              </a:rPr>
              <a:t>PREGLED FINANČNIH TOK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39"/>
          <p:cNvSpPr/>
          <p:nvPr/>
        </p:nvSpPr>
        <p:spPr>
          <a:xfrm>
            <a:off x="5740560" y="6332400"/>
            <a:ext cx="47210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Stanje na dan:  9. 5. 20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Vir: IS-PA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1"/>
          <p:cNvGrpSpPr/>
          <p:nvPr/>
        </p:nvGrpSpPr>
        <p:grpSpPr>
          <a:xfrm>
            <a:off x="250920" y="1641600"/>
            <a:ext cx="8353440" cy="4532040"/>
            <a:chOff x="250920" y="1641600"/>
            <a:chExt cx="8353440" cy="4532040"/>
          </a:xfrm>
        </p:grpSpPr>
        <p:pic>
          <p:nvPicPr>
            <p:cNvPr id="109" name="Picture 9" descr=""/>
            <p:cNvPicPr/>
            <p:nvPr/>
          </p:nvPicPr>
          <p:blipFill>
            <a:blip r:embed="rId1"/>
            <a:stretch/>
          </p:blipFill>
          <p:spPr>
            <a:xfrm>
              <a:off x="285480" y="1641600"/>
              <a:ext cx="8308440" cy="660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Picture 10" descr=""/>
            <p:cNvPicPr/>
            <p:nvPr/>
          </p:nvPicPr>
          <p:blipFill>
            <a:blip r:embed="rId2"/>
            <a:stretch/>
          </p:blipFill>
          <p:spPr>
            <a:xfrm>
              <a:off x="250920" y="2290680"/>
              <a:ext cx="8353440" cy="3882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3"/>
          <p:cNvSpPr/>
          <p:nvPr/>
        </p:nvSpPr>
        <p:spPr>
          <a:xfrm>
            <a:off x="45720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2CE7C-98F3-42CA-9B76-4A73D36ACAE4}" type="datetime">
              <a:rPr b="0" lang="sl-SI" sz="1000" spc="-1" strike="noStrike">
                <a:solidFill>
                  <a:srgbClr val="034ea2"/>
                </a:solidFill>
                <a:latin typeface="Arial"/>
                <a:ea typeface="Arial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lide Number Placeholder 5"/>
          <p:cNvSpPr/>
          <p:nvPr/>
        </p:nvSpPr>
        <p:spPr>
          <a:xfrm>
            <a:off x="655308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55792-547E-4CA5-8276-15E96585CE74}" type="slidenum">
              <a:rPr b="0" lang="sl-SI" sz="1000" spc="-1" strike="noStrike">
                <a:solidFill>
                  <a:srgbClr val="034ea2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908000" y="2936880"/>
          <a:ext cx="5400720" cy="1441440"/>
        </p:xfrm>
        <a:graphic>
          <a:graphicData uri="http://schemas.openxmlformats.org/drawingml/2006/table">
            <a:tbl>
              <a:tblPr/>
              <a:tblGrid>
                <a:gridCol w="1224000"/>
                <a:gridCol w="2089440"/>
                <a:gridCol w="2087280"/>
              </a:tblGrid>
              <a:tr h="80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Pogoji za certificiranj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ZzP v obdelavi na P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</a:tr>
              <a:tr h="6318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6. 5. 20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,00 mio EU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,1 mio EU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4" name="Rectangle 40"/>
          <p:cNvSpPr/>
          <p:nvPr/>
        </p:nvSpPr>
        <p:spPr>
          <a:xfrm>
            <a:off x="1117800" y="1698480"/>
            <a:ext cx="677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3366"/>
                </a:solidFill>
                <a:latin typeface="Arial"/>
                <a:ea typeface="Arial"/>
              </a:rPr>
              <a:t>STANJE ZzP NA ORGANU ZA POTRJEVAN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67"/>
          <p:cNvSpPr/>
          <p:nvPr/>
        </p:nvSpPr>
        <p:spPr>
          <a:xfrm>
            <a:off x="1835280" y="2649600"/>
            <a:ext cx="565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Prispevek Skupnosti (v EU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68"/>
          <p:cNvSpPr/>
          <p:nvPr/>
        </p:nvSpPr>
        <p:spPr>
          <a:xfrm>
            <a:off x="2425320" y="4665600"/>
            <a:ext cx="4475520" cy="58068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ffffff"/>
                </a:solidFill>
                <a:latin typeface="Calibri"/>
                <a:ea typeface="Calibri"/>
              </a:rPr>
              <a:t>4,1 mio € = 123 zahtevkov za povračil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ffffff"/>
                </a:solidFill>
                <a:latin typeface="Calibri"/>
                <a:ea typeface="Calibri"/>
              </a:rPr>
              <a:t>Št. prejetih ZzP v l. 2014: 654 v vrednosti 45,1 mio €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39"/>
          <p:cNvSpPr/>
          <p:nvPr/>
        </p:nvSpPr>
        <p:spPr>
          <a:xfrm>
            <a:off x="808200" y="6340320"/>
            <a:ext cx="47210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Stanje na dan:  9. 5. 20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Vir: IS-PA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Date Placeholder 3"/>
          <p:cNvSpPr/>
          <p:nvPr/>
        </p:nvSpPr>
        <p:spPr>
          <a:xfrm>
            <a:off x="45720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22710-9254-480E-9016-C6FBE1A38B81}" type="datetime">
              <a:rPr b="0" lang="sl-SI" sz="1000" spc="-1" strike="noStrike">
                <a:solidFill>
                  <a:srgbClr val="034ea2"/>
                </a:solidFill>
                <a:latin typeface="Arial"/>
                <a:ea typeface="Arial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lide Number Placeholder 5"/>
          <p:cNvSpPr/>
          <p:nvPr/>
        </p:nvSpPr>
        <p:spPr>
          <a:xfrm>
            <a:off x="655308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02A64-FC27-4ECE-81FF-F1B362193B66}" type="slidenum">
              <a:rPr b="0" lang="sl-SI" sz="1000" spc="-1" strike="noStrike">
                <a:solidFill>
                  <a:srgbClr val="034ea2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33"/>
          <p:cNvSpPr/>
          <p:nvPr/>
        </p:nvSpPr>
        <p:spPr>
          <a:xfrm>
            <a:off x="1333800" y="1569960"/>
            <a:ext cx="671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34ea2"/>
                </a:solidFill>
                <a:latin typeface="Arial"/>
                <a:ea typeface="Arial"/>
              </a:rPr>
              <a:t>Uresničevanje pravila n+2/3 za OP RČV 07-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34"/>
          <p:cNvSpPr/>
          <p:nvPr/>
        </p:nvSpPr>
        <p:spPr>
          <a:xfrm>
            <a:off x="324000" y="2433600"/>
            <a:ext cx="565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  <a:ea typeface="Arial"/>
              </a:rPr>
              <a:t>Prispevek Skupnosti (v EU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34"/>
          <p:cNvSpPr/>
          <p:nvPr/>
        </p:nvSpPr>
        <p:spPr>
          <a:xfrm>
            <a:off x="378000" y="4952880"/>
            <a:ext cx="5655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Calibri"/>
                <a:ea typeface="Arial"/>
              </a:rPr>
              <a:t>Stopnja doseganja FN 2007-2013 na dan 9. 5. 2014: 73,1%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401760" y="2627280"/>
          <a:ext cx="8151840" cy="162000"/>
        </p:xfrm>
        <a:graphic>
          <a:graphicData uri="http://schemas.openxmlformats.org/drawingml/2006/table">
            <a:tbl>
              <a:tblPr/>
              <a:tblGrid>
                <a:gridCol w="8151840"/>
              </a:tblGrid>
              <a:tr h="162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Uredba (EU) št. 539/2010 z dne 16.6.2010 o spremembi 93. člena Uredbe (ES) št. 1083/200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  <p:pic>
        <p:nvPicPr>
          <p:cNvPr id="124" name="Picture 15" descr=""/>
          <p:cNvPicPr/>
          <p:nvPr/>
        </p:nvPicPr>
        <p:blipFill>
          <a:blip r:embed="rId1"/>
          <a:stretch/>
        </p:blipFill>
        <p:spPr>
          <a:xfrm>
            <a:off x="385920" y="2827440"/>
            <a:ext cx="8073720" cy="203976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39"/>
          <p:cNvSpPr/>
          <p:nvPr/>
        </p:nvSpPr>
        <p:spPr>
          <a:xfrm>
            <a:off x="808200" y="6340320"/>
            <a:ext cx="47210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Stanje na dan:  9. 5. 20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Vir: IS-PA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Date Placeholder 1"/>
          <p:cNvSpPr/>
          <p:nvPr/>
        </p:nvSpPr>
        <p:spPr>
          <a:xfrm>
            <a:off x="45720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CDCD8-73F8-4221-810C-8B8A9C4F6FEE}" type="datetime">
              <a:rPr b="0" lang="sl-SI" sz="1000" spc="-1" strike="noStrike">
                <a:solidFill>
                  <a:srgbClr val="034ea2"/>
                </a:solidFill>
                <a:latin typeface="Arial"/>
                <a:ea typeface="Arial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655308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60D39-565B-4DA0-8818-2132F102A3F6}" type="slidenum">
              <a:rPr b="0" lang="sl-SI" sz="1000" spc="-1" strike="noStrike">
                <a:solidFill>
                  <a:srgbClr val="034ea2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4"/>
          <p:cNvSpPr/>
          <p:nvPr/>
        </p:nvSpPr>
        <p:spPr>
          <a:xfrm>
            <a:off x="1736280" y="1928880"/>
            <a:ext cx="456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34ea2"/>
                </a:solidFill>
                <a:latin typeface="Arial"/>
                <a:ea typeface="Arial"/>
              </a:rPr>
              <a:t>Zahtevek za plačilo - napoved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1332000" y="2936880"/>
          <a:ext cx="6095880" cy="1554120"/>
        </p:xfrm>
        <a:graphic>
          <a:graphicData uri="http://schemas.openxmlformats.org/drawingml/2006/table">
            <a:tbl>
              <a:tblPr/>
              <a:tblGrid>
                <a:gridCol w="3047760"/>
                <a:gridCol w="304812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e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34ea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redno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34ea2"/>
                          </a:solidFill>
                          <a:latin typeface="Arial"/>
                        </a:rPr>
                        <a:t>20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34ea2"/>
                          </a:solidFill>
                          <a:latin typeface="Arial"/>
                        </a:rPr>
                        <a:t>128,2 mio EU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34ea2"/>
                          </a:solidFill>
                          <a:latin typeface="Arial"/>
                        </a:rPr>
                        <a:t>20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34ea2"/>
                          </a:solidFill>
                          <a:latin typeface="Arial"/>
                        </a:rPr>
                        <a:t>  </a:t>
                      </a:r>
                      <a:r>
                        <a:rPr b="0" lang="sl-SI" sz="2800" spc="-1" strike="noStrike">
                          <a:solidFill>
                            <a:srgbClr val="034ea2"/>
                          </a:solidFill>
                          <a:latin typeface="Arial"/>
                        </a:rPr>
                        <a:t>78,7 mio EU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0" name="Rectangle 47"/>
          <p:cNvSpPr/>
          <p:nvPr/>
        </p:nvSpPr>
        <p:spPr>
          <a:xfrm>
            <a:off x="1328040" y="4788000"/>
            <a:ext cx="1927080" cy="30708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400" spc="-1" strike="noStrike">
                <a:solidFill>
                  <a:srgbClr val="ffffff"/>
                </a:solidFill>
                <a:latin typeface="Arial"/>
                <a:ea typeface="Arial"/>
              </a:rPr>
              <a:t>Vir: SFC 2007 – 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34"/>
          <p:cNvSpPr/>
          <p:nvPr/>
        </p:nvSpPr>
        <p:spPr>
          <a:xfrm>
            <a:off x="1258920" y="5529240"/>
            <a:ext cx="6192720" cy="276480"/>
          </a:xfrm>
          <a:prstGeom prst="rect">
            <a:avLst/>
          </a:prstGeom>
          <a:solidFill>
            <a:srgbClr val="034e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ffffff"/>
                </a:solidFill>
                <a:latin typeface="Arial Unicode MS"/>
                <a:ea typeface="Arial"/>
              </a:rPr>
              <a:t>Realizacija napovedi 2014 na dan 9. 5. 2014 = 39,1%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1T06:19:56Z</dcterms:created>
  <dc:creator>Z</dc:creator>
  <dc:description/>
  <dc:language>en-US</dc:language>
  <cp:lastModifiedBy>Evelyn Filip</cp:lastModifiedBy>
  <cp:lastPrinted>2012-06-04T14:32:47Z</cp:lastPrinted>
  <dcterms:modified xsi:type="dcterms:W3CDTF">2014-05-16T15:29:33Z</dcterms:modified>
  <cp:revision>166</cp:revision>
  <dc:subject/>
  <dc:title>Naslov</dc:title>
</cp:coreProperties>
</file>