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14CF5-88D7-4FC4-B99A-61B70A268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965C64-82E0-447A-ABD9-92D8F4DFBAB1}"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FC48C0-C5E7-4B7C-9A56-F4661171E3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E5DCA81B-2A9C-40B1-88A5-B7F8DF0F146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E3DF602-FAB4-4921-9AB9-E994192BB70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5514FC3-EF2E-43E7-9EB5-53A6A8CDF0B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19BD8EB-AE57-4149-BD68-741F2C40EB9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F7AB4B9-53E7-46D9-B2BF-6CBAD12841D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81BA253-72CC-44D8-94C9-F552F484F1F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BBA7777-D14B-42B3-B6AC-0679980BFF1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ABAA53B-4B43-48D7-9B83-0544209348C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964FD65-1BAF-4C67-BED1-80400DBF65E4}"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63777D9-B3D3-401C-BB49-D81133CAA53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0266C69-880A-440B-8081-33198A23B6C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B313E4DF-5154-474F-AFE1-B1529CAF4B5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2136BBE-6DAC-48C3-A67C-31756E220C2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A7C74C3-1D45-4E3D-B30E-53F1B2407BC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F023004-109B-4E95-8F14-322E0B94E34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1B2F344-98A2-4C7A-8457-323567C617A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7C3E4BB-ABD5-4753-843A-A57ED2A40F7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90C985F-64E4-404D-9DD3-5C427001C68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8B1CA3C-5854-4CDB-BDBE-8AFB466BFDC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97210E9-13A4-4BBF-804E-C7EE43AAEA4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E684FB5-6268-49DE-976D-FE2A99EF011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291AD99-4673-42CF-B5E1-D89E9548B91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EF2159E2-52A7-43C0-BB09-05FFBDB4447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9A6C31A-F58E-4CE6-AECD-A390E872784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F0CC0CC-30D8-4C4A-B3A7-B0B1D5884A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D4D0B98-858F-4AA2-A114-4D783C6E6B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3C501D3-B585-4346-BCA7-0BC421641B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45AA4AF-FD1B-4D6D-8A98-3834A93B3E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E86AD06-F7B1-43A9-8F7F-AA4F1EADC8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ABF974D-A297-46E5-9D34-BC037A827E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0697D53-02F5-4F2C-B924-B7BD77080D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FE0E00C-2505-4D6C-92BF-6516EE5F07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1DBE1BD-60A2-4DE1-9B25-F8E4005944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98B76BE-0C87-41DB-B62F-07C4C062B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85DABDD-A11C-4E55-A4D6-A21A7D34A1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A61BE79-4A9D-4405-B41F-792B52EB2F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B9B256FE-2BA3-409C-AB43-BC81F88EAC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7C2718C0-3425-4863-9200-FEF456F906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68A3E5E-8C03-415D-95F7-8E306C8225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D69046A-0367-4F04-AC79-4AFED45167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E09E913-C371-475B-996F-351267D767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F01A8AA-42AB-4BAD-BA29-9A740EB950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6747B8E-FA49-4B3C-9A08-AD32457C4E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A410D2A-05F8-450F-AD07-D1D164BDA5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B1C9C44-14E7-4446-BCBD-94B927DBE0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3A8C2C3-1B37-4411-AA9F-A9AD22B2B5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B88ECFB-8895-4CBE-81A4-2E816429CF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5EAE46E-C1DB-498A-89FE-4FA0C1C020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3842279-47E3-43FD-B716-50535839B1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0C6A862-2BAD-4556-8FDC-E1384B7BDF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E49D144-E467-4E07-B7A1-A3F4379D3E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290866E-83AE-47D8-B6F1-75E64EE98F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D8F02D9-1B54-4526-A854-8EDAE7A927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2A024F0-03AE-4E80-9F09-1487B45C64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9D2C389-8FCF-4F06-8FAE-64A8FC9311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8D12AF-346B-404F-9410-9D065D817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1BCACC0-C84D-4558-AC5E-0AAC8CA771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18AD6F6-C7FD-4862-8DE2-5AE853F3CB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30B1FAB-7836-4D17-9739-A78F5C5E7D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737FFC8-627E-47E9-94B4-5555F36C72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61200A7-C0FD-4E07-B0DD-8F4FBD7606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486B4F5-B302-4CBA-A24D-53B324C593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C9E72B76-572F-4D52-8649-EFBDBA5273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7DDC5240-42DB-4B27-A657-E33B4D1D3B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191307E7-5D1B-4A45-BF02-9F25943EBA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BF2A2BC-C174-4BD6-8D8B-7EB3DA557F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743F6D-1E84-43F0-806F-60EDCAEBA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72CDB53-A5A2-4629-8248-C948665B3E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3B9429A-8FFE-44AF-9799-780CE65B52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B2AE2F5-D471-4433-9B35-DCDE065B6B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769DDE8-C565-4114-A544-2486FBEAC0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FCEB86B-658E-4149-91A7-08D9A9E1F1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060E075-4173-47B4-A12D-787E23690C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B8BA95F-A0C9-4E21-A2D6-03E553BF31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4571B7A9-1DAA-4955-A30C-1F7AC2E626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3042904C-E9F1-4D10-B9FA-683AAFC75B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30DC083E-1161-4BD1-9E7E-59A17D2073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572D006-9697-42C7-BEF8-ECF4A2FF3F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4B156DE-4640-4ED8-8934-8BB4D54843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616D5BF-FCDC-439E-8B33-A6E83BB93A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B886EB7-4015-4DA2-88E5-C2DA9AF98E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BABAC6B-7DC5-4492-9E54-BEDAD84651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AF43620-C7B9-4C5C-8B11-05441AB655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55ACAFA-557D-4885-9C00-6DE407E37F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95BA4E9-36FC-409B-88E9-DD558421B6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D794D9C-3F80-44AE-B7FC-727C812861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24AC047-E625-40C7-84D1-F5589FEAAF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4779E614-24C8-41C4-A5F1-FCA2AB923E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FF4D79-B768-4FDB-A37F-25B501B13F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CD68AB73-A0ED-4FA2-AEE4-54100A2B5B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B51BD272-1934-40E0-914A-95552A0707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0469DD9-FBB0-4107-9637-88FA17A6B5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E6AC0DC-19BC-4457-9D64-4935486148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0BB821D-D76A-4074-8948-7301B92251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7E1B72F6-278A-4B40-9E3F-7C062DF1F1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C930548C-2E57-43E5-9A39-C7FF302604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9E7C3D4-3F1C-46E9-8FFE-ECC0575240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7DB38B7-6B11-4C32-B6AC-D91D038B96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315A5D0-F664-4D18-9A26-173FB9C751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EA7CC8-90D7-4081-8543-0CC371FE72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458FE85-65F6-49C7-B37D-7844890A2F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6C8186D3-1971-4D1E-B3D5-B24D46C29D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8FE30222-50C7-486A-9F4F-60AAFA0048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730E7D69-57AA-40DC-BDB8-7CC42D169B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488DDF1-1EF1-4A1F-A7F0-52BFA88DDA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086A6FD-4C90-4A9D-AEBE-121B90E8E2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8484CCAC-D089-4FF0-8BB9-65AB1486FA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B51C097-BBE0-4B6C-BB92-67577D138D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BCA4103-DA01-4B79-B93B-846910E0BA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2F5D6BC-023C-4CBD-A0B7-98DE5E2C97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8ED1A417-C0A0-4249-B2AE-0160EB2D50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C8268F-5E42-4E65-9B67-F4387AE923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A2C287B-F714-46E2-9F40-35B92E0C30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2728CB8-1E6A-497B-B97A-3B0996015A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D0EF34F-A624-4051-8AB2-E7D2ED1CF1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BF215B08-E66F-4C6A-9B73-59BC5CB859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0237F03B-1A10-40D9-8C55-F24286B8D3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B7D9003B-5A08-4755-86AE-C707862B1B8F}"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55AF56D-21B8-4D9A-904F-1C6B89B9D2E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86FD168A-35F4-4000-B7DB-DC9F6DF68D2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CBB66A74-454E-4B44-949E-85D91CE82E10}"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3007FF6E-91D9-4136-8491-FA2D171DC4C5}"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454EB7-9A5A-4D15-BDE5-49376829D1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1889782C-8526-49F0-83AA-D0CBE971B81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119D604-6564-4C22-98B4-685ABB68E34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3DD02412-48E0-4C44-B973-B03A11AC98F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886870E-D835-401E-B662-26036BFED51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6FC401E3-49D1-405F-B662-6E89FD0784D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C1F871C2-26B0-4620-8A1C-E38BB819BB0D}"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A62F8F67-CA47-461C-A0FE-7DE12C0BA7DD}"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E3931948-9277-4A13-A3F4-5195015E455F}"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F9DF3EA8-3569-44FA-A56F-68B2F666839A}"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EAB31A42-5561-4F61-954C-DBA4E90D4A4D}"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167C32A-1942-4AC9-80C4-5C30257AF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3C7BF26-97E2-4B12-A377-D55F1B60C00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92C1D9DA-1767-4702-94D4-41439ED5C00E}"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1BBFBC62-C9A0-48D6-9DD0-4703D7AEFE6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A5FE48B-CE5E-4330-A5B4-D5EFC75B822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4829649-A289-425F-8ECF-A456F7D29CE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AA56FE7-98BA-4FFF-906B-C8F4E0940EC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993EC25A-6E74-40C0-949A-802B2D669E6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403A7D18-FF38-49ED-AE65-9541115519D9}"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42C93290-C69B-4EA3-9349-37367B4AA346}"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9CCE949C-36AE-49DC-B010-27AB8E04DBCD}"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1EC0D9E-F58E-498B-B60D-B7B445FE056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611D30B-7075-432D-B4CE-57BB06B7BE3E}"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C694C4AE-0790-49FD-8C53-F821311651E1}"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21854E63-C105-4ED9-B819-06CE89460C32}"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6A931F49-D6F2-4239-AA87-5C10EFABEA0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541F28AA-9729-43EA-9781-AE8BAC195C5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8660E707-237D-4A06-9DA0-004ED5E4FD0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1B65D292-C76F-4AD4-B59C-42B8C479112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881D395-26FC-430A-B66A-ECA24759439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7D9FEAA3-6B31-41FE-B22A-C59236C216ED}"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B24E5C74-8C6D-430E-8823-5A5B90327C69}"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C9E96F-1298-4059-A1D7-7361A1FAA8C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FBAF42FB-AD08-4F90-B9EE-7F19C30F205C}"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9357A4D8-8ED2-4943-B4E1-0DF6E88A657B}"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C3B1EC3E-0C80-4CB9-84F7-9371EDAC4E06}"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EDDAD2E2-23D3-4A88-88C8-219298F1E55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63CC9E31-5F40-4988-AFAE-363235764D79}"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BC994FDE-A8A6-481E-A71C-710EFC4E2124}"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0405920C-38B9-4782-B0EF-FA242148C0CF}"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2330B60B-0AF6-48D7-94F3-BB258CDC923C}"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44B411C2-852A-4A5C-B879-C4B18579E19F}"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EFB4BE9F-858C-4056-B1BB-90D9FCB172C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61F8AAE-B3E3-4937-AFF6-3D25D696CA9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9AFD4D6E-D6EF-410E-903B-B6BE41E35C6F}"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AD2D5E8F-DA76-4B3A-873A-21D9406811AA}"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DA1BF8D2-76C9-4956-98B5-2903A518AC16}"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441CC269-B8A8-4960-AC55-EDE6F7FF02B0}"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AD3DCC4A-C839-48D4-8690-74ADB1AF7C29}"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BD34600-4E61-4C4D-BA56-C6BD0384198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8F1B303D-CB74-466D-9388-593C1545735A}"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6BA542BF-3E12-44B0-8417-C5C2D96C72C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4D34C2FD-BF08-4905-9FE0-9A7DCC00C4B4}"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2A80301-0CEE-4D20-8FB7-CC9005457CC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7EB7F11-2601-46B4-A715-A56183529DC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803C6AB5-F185-4CFF-B6B1-ADB17AD697B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1792D09-E3AD-4508-A858-9119FB33A111}"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10F9622E-BA49-4F8E-8CF4-659ED4E02990}"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8940E937-5F06-486C-871C-6483699D1178}"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7D85F5E6-2554-4E0D-BD09-BA1DAF990A0E}"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524E7A3E-04F6-4B87-B6AF-627275D6CD55}"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9286C081-B4DC-4802-841D-B37011975C50}"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4CC10170-8022-4DFD-8EAF-410CBD3BF73A}"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F79B8A22-2877-425B-BF94-905CAA09717C}"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A6DB0E23-C9FA-4CA9-9EBF-4F63CC9E383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C24D1A5-A283-450B-8063-115E1E70004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059D41C3-10D3-44C6-B2CD-0A7A4DF75D1A}"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32DCCBE-055B-4B6A-934F-2BF9C478287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532E5B62-BB10-440D-B29A-063B1706055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49E9622-ED4D-4C39-9870-548EE3E303D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D218AA1F-97B2-4DB2-AA24-905A946D4CA1}"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07DE2B9A-02F1-4223-B393-07EF6CAE3251}"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467FFA06-DA97-4971-95BB-F01F1A5E34D2}"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F0511AB6-8DCB-49B0-A503-CDDB7BC68D83}"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8627E946-7BAC-43CF-B166-D2EA91DA8FC6}"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D33B762B-FDC3-4C24-992D-297DF06E90F4}"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7CA8B93-9E89-44F8-89FC-60CB4A43DEE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6E31F7FF-13BF-46F6-8D60-6A617D518313}"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882FD232-4B39-418C-92FD-B5A34D764998}"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96F2DC1A-4F5F-4F40-850F-9A4030D24E05}"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F7D489D-6C64-4A9A-A0E9-E372AB96C53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ECF6926-2D0D-4BAA-A545-044E568E2181}"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7CD302E-E0EC-4143-8DCD-193607C71B1B}"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58B5A11B-A65F-4A0E-9DC6-BA5AACA5F316}"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C136A79B-BC09-4D10-81FA-6E72CD04C8AC}"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F3B0221D-C1EA-417A-B685-EE146DFB14A4}"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3108D136-A5C2-468A-8B7B-4462FEE2D74C}"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D815B90-230D-44F6-9F7E-69D7932E842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CAE56E3F-6236-4D67-9838-A62D0C200AD9}"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283580E1-F848-4DAA-964B-1F5D04C5D62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48FEE0D6-1D1C-48CC-B3E0-3955C561EC4C}"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179BC8CA-1B31-435B-90B3-197FE7EC5621}"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1936D36A-7394-4D03-9A6B-DD1E4E91F3A0}"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38763E82-4111-4918-BAB7-C1D9E63AE08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1D7D60BB-DDB7-42BC-894C-3AB5D7C75033}"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C2480175-1B13-43E5-AEFB-93411D3E7656}"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49D857AB-2294-4C2A-9DD2-04A0E8DBFF73}"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D0EC71D7-EF91-4A3D-9AC2-14EDDD6961AA}"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04D26AAF-7698-407B-BF69-0CCEAF903C5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0A1C244-B3D2-4216-95AF-A20350B7C11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D679A870-694C-4CCA-B465-50296D9BC7FA}"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56DDC63-9858-4B1B-86E4-4D16EFC558A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AD45BB4-B731-4282-BBEC-02D9AD35EBD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A02509E-27DF-437F-80CB-82AFCC183B2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689BD22-4764-4F68-B05D-258509BFC06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06B30A9-B6A6-43B1-9498-10A1B0A5904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265754F-5A1E-4ECB-9EC1-D9724EDC606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BE3D211-D0E1-4293-AE14-DB43D8A9209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9FF2E5E-7EE1-4949-86A5-3919F39A1E8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523EC83-17B5-43F5-8327-5586C62E5D7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8CD70737-E290-4DAD-8BCC-52A6732EB5F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2D33D59-F530-419D-96BC-503E3EFF973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F20DA37-99FC-4EA6-A826-F9945160118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17EEF44-385C-4386-A32C-E1E888E4A90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05DB49D-7A6E-4A24-A60C-991DE089709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7092111-1BC5-4B19-B77E-DD61A61DE7C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F6AE3C5-55D8-4806-BA90-C712C4C5E5D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588E4A9-C43D-416C-B4E1-A0F1D51EBDC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EC00A49-10A7-4888-A28A-9730E106681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DC524FD-6133-4BC2-ABDD-7480C1568E6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59C397F-1F09-4C25-A2F6-2A3F52243F2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5C5FBFD6-F147-441D-9A75-8FBE11CF997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88233D4-BAC6-4C37-A13A-326EB48EE8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635C00B-9EB8-4735-8B45-50F7D4E2FEB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F9228D2-A62E-4CF8-90FF-024553678EA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99000AA-1ABA-4757-B42C-5962B532CB8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A2C5E06-6878-43FC-B8AA-CF7B07BC416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E7E1332-9675-4D46-8DDD-1E9049A2FF3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FCE320B-7E7D-4219-AABA-7976F223900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3A9BED1-5E4B-41FA-A53E-21E4357B659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C4F839F-796F-411E-9D40-F2DAE95D15C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859B6E9-0227-4D61-BF6A-250A14960AB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5B93EC6E-25BF-46EC-8BCD-A0D4F5C7A7A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FFD4DA7-C929-41EA-B40D-72E5FEF05F2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7192B00-C88F-4FA2-8358-C8BBCB26574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254B8EB-65BC-4E1C-A176-98D580012CE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F5EA008-7D1F-4F51-A73B-46AEEA24E4E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9521182-F0EC-47FE-B0A0-7CC90CAED71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6F4D655-74B5-46EF-8192-3FB21621A6A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CDE426D-F5B9-4C4D-9940-886DCB6D631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0151991-2AD8-4502-80E1-567848B6214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2729F90-1146-4D27-A2A0-5062DCBB824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A74FEC7-C962-4155-97C1-165759D6032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4370970F-662A-4A17-B561-3793F8D0FB3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232E909-A814-4ACB-8019-CDA5DBCC6E5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45CC606-2FB7-4622-97D4-295A95C1772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D4889E1-62FC-4010-9D21-24F71F70FB2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033FB66-D224-4FBC-A070-4CEB90415BB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86945F4-0FD7-42EF-8047-5A7F4C479B0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236DECA-7A03-4864-BA23-A6614CE9C88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19A2ADC-76AA-47F9-A77F-36857FD87BC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99C5C9C-2818-4B71-BD2C-F5A22EFFF57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3A48AA5-8B93-4871-882E-E586576552C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8A67AEC-9160-4D69-9C58-61A9F09A4CA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F38D0AA5-AC7D-4D81-8FDC-2BA390DDC1D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B3F53BE-22EA-44D3-AD86-7FB9EEB4992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2FBFB1D-8261-44AE-B01F-EC882DA6E1C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A7C9F38-9D37-4D71-83CB-F5BAB927172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9F5703F-9BCE-4EF1-9741-D1A4EB8C6F4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892C79D-1A8E-41E1-BB15-B27ACC723E7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9621574-E84A-4720-A935-67D2D9544F6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33EB630-876E-4754-9670-210E331E724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2564B0B-AC4F-4CEE-9D55-0E24CA2FC96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0C2CDA4-6C5F-42B9-9975-78EF733AA70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139E3F8-B5A7-48EE-8BA9-8186B1563EC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76585DFC-6040-4480-B011-2AF1D23FA1D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782B07D-A383-4435-8A93-015A9B6392F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B011035-D092-4AE0-9D8C-8193769C26D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846800F-FE93-4F0B-A5B7-0D15292D4B2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F060EFF-476A-495F-9BBD-0F9F2717F53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EA69C11-F8DC-41D7-AA17-C157A3145AB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0CE0835-7EA6-4C43-8268-6C81C2AD565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F046A55-73F4-4BDF-AE91-E353021B98B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5DFF3BD-A93F-4781-9714-7DA48DCEDDB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4879281-E4BD-47B4-98E5-CA1D6C496D8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6949EFA-F14C-4CBE-B359-32FEAB646BA0}"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DA09-76C9-47B7-B49A-A2B260B2AA3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12EA-3335-4CAE-8634-8B2A60A273F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4CE9-836F-4DF8-8879-234CAC0385B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8392-39AC-4D7E-AFA5-7A3B6FAB880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FDE9-C700-4D3A-B28E-1929517ED4D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4A0F-39A2-4FF6-9548-28688CFA4F5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C227-EC62-4A4F-B9CE-BC83DEC6508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3BB5-397F-49F9-A4DC-09A9ACFCDBF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091C-2729-4EE3-A215-C8741B36C3B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8CBE-AD12-48FC-93FC-3F506C4B26C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4D46-EE63-4DE9-80FD-60D9336546D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9430-7A8B-4DBA-BBDF-3318CEE5FB3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27CC-B0D1-429A-A1BA-31300633D5DE}"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DED6-4DE9-4511-B7C4-736CEC14F62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1D30-9F17-40BB-B84E-D751EC5CD72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3805-615E-4130-BB2F-369183C9B58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9C48-FEDE-4FA3-92D0-8809F97E5CA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2869-F62E-458D-8319-8799A95F4D6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371F-FD24-460B-818C-80FFFF34819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85EE-3782-4062-971E-B211AC98085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BC00-F661-4325-AC3A-29C900059E3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30C1-60DD-4616-A899-5B773CAEAD8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3C41-6356-4125-8733-08613AFB02F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2205-5A5D-4D55-9183-BA9CAFF1189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16B1-A274-4A08-86CA-C8851967B66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C3F9-14F5-438C-9806-1E813AB534E4}"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B08A-66F0-48B6-BC18-FBE512077E4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3B45-5F03-4941-B47B-B54A7479EE1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729E-9986-4146-A3E9-051CCE5814E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44C5-517B-493F-A482-C75C045DCE3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