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76F49-7A37-455E-94ED-CD4AC35956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D0C541-E0FC-4B5B-AC34-5D4B77CC2A53}"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391F6E-F93D-46BD-AAEE-D2DD41F2E3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C0893A47-3BD3-49E9-8062-6FC5A85D242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86E5058-81F8-4EC5-A62F-AEC63498134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E0FF658-21D3-4511-BC31-A2D75040CF0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EEAD0ED-6F0B-450C-A778-20BC4C32BAD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EE6FB2E-862A-45CA-AFA7-BF9E9473A53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63D6F22-5F55-49C7-A488-931FF2EAC58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E32E5D8-D3F1-4149-B7BE-1C70EB809CF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6B6FF5C-33C9-4A68-8D3D-4B55E4DEA56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04B5D60-36E7-4803-8420-59E55804EFA9}"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0982D56-807C-4A24-9EA7-0F13197384E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B29C442-EB47-4D52-A976-CEC0A474E4A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882EC523-901C-45CD-BDA4-DA8E96EC221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9D3A553-F391-4FA9-875B-EA2F7D1D444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F86B292-3EEE-449F-8565-B17AF3049C7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F6E9E15-D1DA-4734-B8A0-34CD612F38F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7812654-E6BB-4F6F-A136-B8D5C1B33EB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656ED08-BE8B-49E0-84DE-F6F51E1D55B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3278257-00FC-48F2-9FD2-047191BC45D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4AB483D-F2DF-4864-A525-63AF8FB609B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D1695FC-E857-4DDA-8F06-FB41A119C1C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A3EE97B-12A2-4462-A5AD-3E4A092B5B0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683F4DE-CDE7-4D28-ABAC-E7F1938A832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2D9178F1-A7A8-4D9E-AADC-D10F9663E9D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F0E646F4-DE07-4B5A-9993-247F54A08DE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E7DF455A-DB2C-450A-BED9-0A03F8AB9E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F12C14F-BCA3-4E99-803F-6207F8F11D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7E13DBB-C390-4627-83D5-42619F7849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3CF325A-7798-43C4-9F7A-4B26A89EDC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72BA862-1A6D-4D6A-A4DF-0B1E0C055F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90ED175-1D7D-4E53-ADB0-C4FB31FEC4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8F111F6-751B-4A16-936C-830C8800A5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FC2847D-7969-41EF-9173-13B41EABF2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E404478-DE48-4AF3-9672-5FF75524DF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F8B7AC3-1AE8-4C5F-B584-6A5DC8629A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B9593D1-B674-4D5C-9A34-080F254EFA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ACC8FD19-0F5D-427A-AA6A-79AB2A3EA00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51A4F65-B49C-4BBE-8458-95BE60B042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CB1AF832-65CF-4A12-8950-40DAA205C11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8693DA7-C862-453D-B1A3-159A59D035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7947A56-4B69-407C-B647-56A7814892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0F13588-FF5B-46D2-ABD2-6478F30134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886E313-E1C7-441D-AA67-61ADD85ED0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D306B27-2A83-436F-B694-64C77C82EE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768863A-551B-4DCB-8315-C5C81B1CC2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B54CCD9-EA9B-416A-AA62-0DE141F68E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30E7141-19D3-44F5-90FE-41BB38B0C9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6CB15D3-40A0-4614-A97F-FDE01EEC9D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8FDACA0-BADD-4E56-B1CF-8DD61AA672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3F4D389E-B339-4DD0-B048-4B4DBF358D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4288342B-1535-47E7-A9C2-C98535DE683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8DAA12D2-0CF0-4F24-AC56-7DC5D5D328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3D50D93B-97D6-4878-B227-591DADD7AE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EB2B084-9C84-4410-B426-64B48E3822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7A89BE81-6649-4271-A76A-91E971AD80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C3B03313-0759-4F87-8CCF-6E975B52AD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D06663E-B435-4FD5-8039-5763828411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72DE388-C0BA-4700-B256-3F80912378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35A0D3D-EDCB-4299-BAE3-E03EF9FDDD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A92FCF7-6AE2-4DED-BFE6-C70BB19E12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62E2E30-0EF0-460B-B9C7-1B0BEE98AF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954C4E0-A49D-4F83-860A-8ECA82C8EE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4DC6A66D-47F9-4756-B1F1-68732BF226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497997B5-F2E5-4FF6-96B1-ABF85740EB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984499E2-5FFA-4FEC-8ECE-660D364AB7E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E1562B08-3F1D-45F2-A45E-FB0A54AD82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4F1F84BE-EFF1-4291-B78B-76553E5F14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54349BC-50D0-4E54-AC52-C166BBE497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15ED242E-B1A6-43DC-BE8D-8AB518AA96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64198CA3-4FDD-461E-8627-04C532813B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3FAF61C2-45F9-471F-A943-2AAAF300B5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4165E82-E122-492C-816B-2D2906B10E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2D58508-1921-4042-91E3-FE6C692426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D71C138-7108-41CB-B52E-A8A3466972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C99AFF66-B5FA-4891-A401-24DBDA60A9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6B6BD081-695E-4B95-A388-26AA930AAFA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FC7B70BF-1CA6-42D4-ADB6-F5D3648F55F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5134DF60-97CD-4E15-8074-C2E7B64E54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2CD1CA5-1319-4F0F-B974-42E23AABD9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0985172C-7569-4BC0-BAEF-A95F4CF733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6D4E6BA5-46AD-4F80-8E50-EAB02177A5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69E2695A-4B22-4B4B-BE94-3B176E2571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355E248E-745C-497B-8645-D64915D922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73B1DE45-80F0-4CED-AC90-7260CC8AD4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3AE644C-EFF4-410E-9662-97CD9375EE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2AB1B5D-369B-4249-A20B-462721EB9E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A25C9C2-E7FC-4783-94FC-89E0AFFE17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D5231B7-BE0B-467C-B94F-EB34974883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F6372635-327D-4DDB-AAA6-B0E511CCF41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C18743F-C8A3-4357-854C-851F975031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1256B277-B531-4CE1-BCDD-EDD55032EF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E400FC0A-C291-4320-9D62-A28FCC1FB54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1413E8AC-482F-410D-B1A8-154059FD74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622C2C10-D557-49E6-AC41-664839DF19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E85A2A8B-9D82-494F-9EBB-78CE573ADD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19A7364F-0A14-46C4-B6AE-4394F865B1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8A36C35F-45D4-4770-B116-42E4A3DE1A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40E009B-2CD9-4027-8973-FA8BC784E6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56C44D37-DE0B-4282-99D0-DD96B19F38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ED0132E-95FA-43D1-B17A-C74B3F6B17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A08D2F2-C0C7-428D-874E-D71BC872D8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A3F3CE6A-375E-447E-BAFA-20B7D65B47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76B764E8-699E-4F78-8155-CF6ED7E6FB6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0465AAF1-C292-42A6-87FB-CCD5078DFBD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7226B637-3418-4526-85A7-C269118B2D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F54A5903-8D63-49F7-AC99-83E3A50656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722774D0-6309-4206-81FC-8CC230B2DD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B3259B43-10B3-47DE-BE39-C4DFEDCDB0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78DDACDD-53F1-4F1D-B284-D7582536EF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E918BA2E-3A62-4B20-92F9-59D1A2C884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DEFCB40-2F23-43CB-8677-21EB06314F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4505E5D8-4EF8-4916-A6E9-0C7D478100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1C3DCD-1615-41A8-A3FB-FB36DDE472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C97ABCEA-EA16-4C0F-9540-4FF58BDF82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3E51369-C2B9-4B97-9033-05F6577F76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F8570545-D4C4-4152-91CB-6157A0BA29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A066F760-F969-4AF6-8DDB-12A22D3C4A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785D27AF-82DB-4368-93B6-76F854B86F7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B277B815-EF63-4863-9F03-084F61FB46F4}"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7B5404EF-DC60-47A3-982E-048DBB4F3E0A}"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8FBE7594-D338-47C8-91E4-8F5D4E446126}"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9E4CD7F9-4DBD-48AF-B7AE-74B8E398258C}"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06B5E835-2B41-4264-8F13-688A7E9C299A}"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84E7411-AFBF-400C-855D-9C5BC0F353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5B518ABA-8C84-4E74-A049-88FFC3487DBF}"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152AF7CF-3EA7-4179-AC45-C8BF31604A5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E085D82-9DD8-43C4-9DEE-AE478A6B7CF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A83B43CE-D9FB-4730-B21B-51D1AEC63B5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BC8DD6C6-3F31-45DE-8A6B-A1CFE976337F}"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07E65B86-BB6C-469E-8FC4-92FF1A8B37E3}"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03037833-2B33-43E6-A8D1-1BC6C236F494}"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64763A70-BF98-43B2-B7FD-199EC3437A31}"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52895FEE-CA9D-46B9-AAFC-331F5A339916}"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6B4D2CAB-A93D-4919-A6AF-E462F58ABE0D}"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DC28B7D-1905-41EC-8510-6107AFA090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73596BAB-5222-4FEC-8436-22F3F12B5895}"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212D0827-2DE7-4C88-960E-109F8A93D769}"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65858210-A2BD-4F3D-9149-7F8CF1915C63}"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5AC50853-93E0-4B8F-983F-67FFE9ED5D37}"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449367E5-2EEA-4ECE-ACA2-A72B4FC07469}"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A3F43162-A67F-4BB5-8CEE-639A960A6EC6}"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BE5487FB-B5B1-403D-92ED-CFD3E0CF6AE7}"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2F710F20-9EAB-4DF3-B864-283872B19728}"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18A7786E-4219-488C-BFD0-73E81A2B194F}"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79B663A9-F800-4D69-BDE2-FD1280B817F3}"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C282166-CB54-4588-AA7A-55345AFC4C4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C9015B5C-4B2B-4BE6-BA9A-5A8E77366DB8}"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C118A4D8-E5B7-486D-8D18-23B5C9886899}"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7E46F39D-540B-424B-BE9F-93EC36148ABA}"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1508C4A6-6489-44D6-9F70-BEA8A5C92A93}"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DBD5C10C-9BF8-46AE-9D01-E496F199C5BD}"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D4039933-7209-43B2-BDBB-CB2F37AA53CD}"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FAB1B26A-AB3D-4548-BF21-26970A6C8EFC}"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5BA8DFAE-A32C-469C-A4B4-A1DAAE2ECD17}"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450D2A91-E416-4B68-8443-32F5278754F6}"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E1E96798-F824-4C4D-94DB-91896C2E6693}"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BAA5470-3B80-4C05-BF96-BB8A767F4FC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AE6F8380-0B9D-4A31-B177-7BF43A10C1D4}"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5B21FBAD-25FB-407E-B74D-396A1FA69DCF}"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4DA6016A-94D9-4673-A19E-A5CB3C591E93}"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4F9A9B1D-742F-4CD5-809F-D40DCCE8ABBB}"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0AD125C8-1B5D-419A-B341-4F44E28243CE}"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5408B5B2-AD5C-4647-913B-B8ED348D158A}"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6A45706F-69C2-46B3-A292-C7302118AD54}"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7E308493-10F4-4236-9793-FC3A441EC2CC}"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8277B6C2-E01F-4D1A-80FB-7B666FDA9B2B}"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38A99FED-B516-4EBA-8AB0-3B7CDA3B49B2}"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540CCA4-7D47-49ED-BF88-33EAD729365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BFC6B612-0D81-4EA2-B5B4-E698117C9248}"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429A2CD1-0E40-49BF-8EBA-1F83CBB292D9}"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C86AA051-12E7-476D-9388-76E6E8109CEC}"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E98B3BBA-C3D9-4705-B270-7BE0CA283633}"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CB640182-C8B6-4E30-A4A0-384779E0B476}"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8D5129ED-6451-499F-B030-7ACF61BABEC6}"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362B9FA9-349F-41EB-AB36-A63A725914ED}"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09482C94-04E3-4937-A271-F51AAC05E7E8}"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E2CA1246-A88A-465E-97B4-65658E1EE7B0}"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228770AC-DA50-4F0C-B1E4-3B3760FC682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6A45D2C-BBD1-4D48-AC54-E36F010FC26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3E6D6E5D-C479-4BAF-B885-4BB03F26F2A9}"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CC69DD25-86DD-4C27-A638-C9E13F560C91}"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16E06E2B-557A-4411-8EA8-A0C8DE06B176}"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4F8608E3-3A80-441D-95A2-C449B2D7BCA1}"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5C2AAD8F-2857-47A2-9047-2C31A570682B}"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FFCAAAF2-08FC-4996-81C7-1582D03C4DDE}"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6694279F-50C5-493A-9135-1CED67A7BE51}"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D863D126-F4A0-41E9-AC3F-595B9D89F6B8}"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DD806829-AF0A-4DF9-BAE7-005E69AC107F}"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5A6E0E8C-6E46-47E3-9C07-02AF8430DB5E}"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895EF4F-1B49-4CE6-9F10-46C0D9F9D79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928238DF-F9DD-4183-9A65-B75CA0A1F720}"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4B32DF0F-5063-42A2-9953-2B89DF48DED5}"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D180B1A6-CDB8-4A52-873C-BF6928E448CD}"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1D1B6C88-1E6B-4820-8C6B-951CF07721E2}"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7A56AC36-BAF7-40BE-A518-085508C201E3}"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0BF4C166-484A-4C96-B6FF-C4D033B7B19F}"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67BD7473-0998-4247-916D-913E1A91B93F}"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CE0C80BC-E89F-455A-A438-621CCDCECF08}"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30BAD4DD-A980-4375-924A-7117CA79A6D9}"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0B743798-51D9-47D3-9347-1978CBE41ED8}"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99912E9-F44D-4DF7-9827-9CFF0F7924A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9114F6E5-E225-4216-A1CB-63E73F766196}"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50F93FC9-6CA5-44AF-9070-BC3635C4334D}"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07B8E058-A3B6-41A0-8509-BE01C4EEA0E7}"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F57958FD-4284-4A07-B825-E4385B61DBB0}"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A6D7B52C-9167-4A13-8665-8CE1AF854FE5}"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5B34CB98-C97F-4021-8347-6719CF8C6FFD}"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8021D48A-2F84-4AAE-B805-83523AF787C5}"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F399D000-F0E9-4313-93D6-F22C8F821F13}"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1FF92B33-25C7-470E-93A6-145E6FF2E11E}"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583DE0DD-F685-42CA-841E-AF6EB6BC7AF9}"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B8DEB2B-F46E-457A-A96D-4683D299A91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CD65CC1D-6BC9-4D27-857F-8ACAF6D5D4BB}"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D7789890-5167-4F48-9B61-FB41A298E7E2}"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2065A905-C18C-4240-997B-12D0D6A0E1DB}"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77DA2B1B-929B-4E85-B5CA-19C26AD89D5F}"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5BADA29D-4BA0-4395-A117-9321246E2FD9}"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77355B83-A7D2-48C0-A41F-45D633F22903}"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6B463162-ED8A-43D5-AD8F-2B6AFCC45A10}"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8D020EEE-FE87-499E-83BF-1A823F3ADC1D}"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0AA34821-0E7C-490C-B541-B6A28FC1457D}"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FF3F6E50-1ED3-4AC1-AF7D-BC912086FCEB}"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28B837CB-B3B3-4CA6-B135-D410D82FC93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1ED0041-EEF6-460A-8670-B8205BB864F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AE27536F-FE50-4A5F-9982-791F4A4129DF}"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688770B-0FA5-431B-BBA5-BBB8D216715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2167E09-CA6B-4ADC-AF02-8F6107FA5BB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6762576-5095-4936-865E-906067F9B77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B252551-B19C-4600-A18B-524E38661B3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29845F7-37D2-49CD-BEC5-22007995A30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F98B946-7E93-49C9-A601-9753E509E3A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3365BA8-5477-4D8E-882E-60D928CB080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DE4FBBF-03FD-4FF3-9E9D-D0B114CC722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E7391FC-58AB-46B1-9ACF-8CB795CAF30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3660AC66-0EB5-435A-9729-0D3DE4839C2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5EB167A-C5E9-46B2-92AD-9ED958309F3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B6C12B8-1B45-41AE-9D87-A8DBA1A0B84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899E8B4-4809-4D8E-8CBF-A5A926BA03F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41930D3-C2BF-4273-B514-AF118025B2B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B6E1303-487C-4897-AFB9-6FDD9A9A6AE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450A169-4236-48F2-851C-59FDF15C557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D1B85E1-34AE-4ED2-829E-1050547CD3B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6EA5B01-359D-4556-B438-A83D97A5043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6DE3A00-C26A-4802-BDB3-516C092EAB1A}"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58C03D9-CF31-4009-94FE-4DB1188BA97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8210569D-5A29-450E-A466-B137B56E345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9097253-4F1A-4CDD-A1CF-CBD588EA3EE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E3D2151-B74F-4A3D-ACBD-D50E785C8A0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9FBB71D-EA8C-46FF-9D51-A2754E00E72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7098339-701E-48A1-B74E-FD50F8077AA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48FB00A-8266-4C14-A54F-16D2846FA34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EABC69D-34B4-44AD-BCE7-FCD22EA77A4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3778B8B-19B5-443C-9D29-7EE833285F9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3138903-4FE0-4F9A-B9AC-92C9ACB83DE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6003F12-FA93-4858-B42E-8E59B6D4CC4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15CC3DB-B31B-4E8D-B923-BA181B3645A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E118A056-3390-4EBC-85E5-E6943B80D0F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0A416FA-B333-4044-A60C-7501B7F40ED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DA6BFF8-BB37-4006-83C5-AA9A41C2E59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9A8C7D6-59B3-4B10-B124-690E343CB78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B679039-B09E-4BD0-9023-64F7D1ABF38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7A51076-0EF8-482A-AFF3-35770F0F8C3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FF868E4-64D9-4D65-914D-253C345DEFA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089D7E8-13AC-4E34-A71E-733FDDB0AD3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F30A085-F2C4-44FE-882A-07DAC4B1400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E98C806-5141-49F8-B0AE-EAF424FD0EC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A44722E-C75E-4F3C-A87F-36AB8D367D0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398B6ACE-231C-4D81-8364-0D6E3524CDE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3C434C3-E352-45A4-AF75-65CC9D92F44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1A0A452-84B7-482A-B096-30B315E2B32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326B34F0-48B5-4F5A-98E6-477E111D8AB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215A91E-3819-43F6-8EED-60366C5C93B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4D81B31-04F5-4185-984F-2C08484D21F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DAA1D7C-EDCD-4B83-8ACF-4EF433F91AB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5EC447C-A23E-4B33-8C5D-1724F3DAABF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1588D59-514A-4C53-8EA0-5BE1E717C13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5C0CAF0-B278-441D-9341-DBBF5FBC88F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BA02D71-EBA2-49A5-84F0-9E55332EE7A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250502F9-AC19-4DA5-8CBC-368F6860E77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04728D1-A5D1-42E4-82AA-DEC31092422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629D6A6-19D7-422B-A1A7-607452E2F4B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21D9C0E-CB82-4AE5-AC6D-5C6BD3A4FD5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B63F429-3539-4C08-86C0-EAA96F2E1CF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4344CA5-6708-45AD-AA35-995C6F8EE6A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9A9E732-0C30-4C99-9902-863F5F20606A}"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A8183E4-4B4F-4FBC-8BB7-33D400F0F6A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991FE75-CB86-4379-B38C-8A52215CC78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CCFEAF1-959F-408A-B0B2-4492E4F32B6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8FA8814-6375-4D8F-9760-4C2BE2F6038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5A9148C3-963A-4687-82CD-96D239CB658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D95D1E0-3F73-4FCA-82C3-443C73BED28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8F8C2A4-0867-4959-A70F-B4441D5AF12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DBC7A73-8EBB-4F6E-8ACF-55DCD10A266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C394015-0007-4677-806A-25C1249E751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0B3AE9E-5971-4565-9BF1-493E91818CB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5A69D0E-8AD9-49DC-A6CE-FF28F7365AE1}"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8099B12-C562-46AA-B754-5A9D25C17378}"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23DBBB11-2394-43E5-A8AF-86DF0C98588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EF23459-370F-4FDE-B58B-15D16DA94E8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26A3FA7-B6B8-4E98-ABB7-BE725EA266E4}"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D05B2-44C6-46C2-A6BC-0ECA5944B61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9473-55A9-485D-8CCE-879064E25AD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A5BE-5037-41BB-B63F-C53CC0180C8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0EA07-F1CF-42D0-94BB-437BEADECAC9}"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3D437-D481-4417-809A-0A2E8BC0372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D92EF-5835-4839-861F-4E583D426BB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F239-0938-4AFB-9C11-9DF88065098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1178-16B8-4052-83E4-79DDF1E7295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C220-23A2-4681-954D-EA45B7B5F83B}"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C8C76-C6D1-42EC-9F32-F621EFA60CB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D1149-8F31-4CE7-AAD4-5B6F430FF1D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6E717-D8F4-4033-86DE-60351DB6937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FE47B-E44A-4B05-9944-00854F3D91E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B8119-3288-4676-B4F8-AC6F899C85F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98A26-9DD0-4FF0-8C11-97259A7F164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38BA-3B81-49BE-A8E6-B94972E173DA}"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8ED4-2882-4893-A331-18EA63F06E0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5459C-0296-4293-8E32-F067DE56F5F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D50C3-18F0-4EF1-9E5E-3D90CEF75AA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CBD2-18C6-46A6-B673-A219D25C687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CF98-4731-415F-A77B-0F4D1C348AF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955AB-66AA-4840-9BD6-CCC3E93BED8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0D3BC-46A5-4B6B-AAB1-A3F874F32B4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9389F-2D12-453E-A436-F44F090A716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DE42B-38A2-4332-BB1F-B17330659F3B}"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5BC1-EBF5-4C26-AAD2-620AA81F3C42}"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F092E-1FBF-4B94-80C9-C6B39363F91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93BEA-9FED-4FEA-913F-850B5077F77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2FAB3-0284-4EBB-B71C-9691BED7DFA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2B4E-9D2B-45A8-8B6E-1B5D0B6C2F3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