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9625-E8E9-45F8-9413-FD59A30347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2FDC-4887-4DC8-AA5C-A8E791D90D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0E0B-AC80-4791-9F9F-C06E950FA7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0B28-2534-4C7A-B531-D2BEE9DB16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60C1-9E83-4D1B-9DA0-CE8281BF32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076F-9A91-4CA4-9C0B-F384E5D8CB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91D0-7664-494C-A7D7-A72D1D44A3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A766-8976-4C7E-ABDA-F4FF841091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18DE-5F8D-4037-8F34-DB4EBA8E39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E038-3C80-4958-88C9-79D16604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F04F-1F9C-4922-A2E2-66A29773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9714-3785-44CA-A72F-14C1F92C6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035B-0267-45F8-BD9B-1CEEE97E2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F63E-62C9-47C4-B570-C7BFD911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7BC3-71CE-45D0-BA80-7FDE4A61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4C2C-CA4A-4415-9F02-F69133B4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C8A6-E4D3-4F07-BC54-63205D3C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EAD1-9044-4820-AD09-E5315B21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01B9-52D8-4E73-B93A-5E197620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C62F-9EF0-439F-B36A-60C0A3C5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FE1E-AD62-4BBD-A03B-955F90A8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C32B-97C8-4789-8AD6-AAE9905FF385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ddsz.gov.si/" TargetMode="External"/><Relationship Id="rId2" Type="http://schemas.openxmlformats.org/officeDocument/2006/relationships/hyperlink" Target="http://www.zdops.si/" TargetMode="External"/><Relationship Id="rId3" Type="http://schemas.openxmlformats.org/officeDocument/2006/relationships/hyperlink" Target="http://www.sops.s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ff"/>
                </a:solidFill>
                <a:latin typeface="Arial"/>
              </a:rPr>
              <a:t>DialogeS </a:t>
            </a:r>
            <a:br>
              <a:rPr sz="2800"/>
            </a:b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“ZDOPS in SOPS skupaj v socialnem dialogu do predlogov izvedbenih rešitev na področju pogojev dela in zaposlovanja    v obrti in podjetništvu”</a:t>
            </a:r>
            <a:br>
              <a:rPr sz="2600"/>
            </a:br>
            <a:br>
              <a:rPr sz="3600"/>
            </a:b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Nataša Cvetek, Tomaž Bernik</a:t>
            </a:r>
            <a:br>
              <a:rPr sz="2000"/>
            </a:br>
            <a:br>
              <a:rPr sz="3600"/>
            </a:br>
            <a:r>
              <a:rPr b="1" lang="sl-SI" sz="2200" spc="-1" strike="noStrike">
                <a:solidFill>
                  <a:srgbClr val="000000"/>
                </a:solidFill>
                <a:latin typeface="Tahoma"/>
                <a:ea typeface="Tahoma"/>
              </a:rPr>
              <a:t>28. 5. 2014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5589720"/>
            <a:ext cx="8353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51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53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000" spc="-1" strike="noStrike" u="sng">
                <a:solidFill>
                  <a:srgbClr val="ff0000"/>
                </a:solidFill>
                <a:uFillTx/>
                <a:latin typeface="Arial"/>
              </a:rPr>
              <a:t>Partnerji v projektu “DialogeS”</a:t>
            </a:r>
            <a:r>
              <a:rPr b="1" i="1" lang="sl-SI" sz="3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Razpisovalec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inistrstvo za delo, družino, socialne zadeve in enake možnosti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ddsz.gov.si</a:t>
            </a: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Izvajalca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Združenje delodajalcev obrti in podjetnikov Slovenije GIZ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zdops.si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Sindikat obrti in podjetnikov Slovenije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ops.si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ff0000"/>
                </a:solidFill>
                <a:uFillTx/>
                <a:latin typeface="Arial"/>
              </a:rPr>
              <a:t>Trajanje projekta: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1.8.2013 do 31.8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400"/>
            </a:br>
            <a:br>
              <a:rPr sz="24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Namen in cilji projekta: </a:t>
            </a:r>
            <a:br>
              <a:rPr sz="24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Okrepitev bipartitnega socialnega dialoga</a:t>
            </a:r>
            <a:br>
              <a:rPr sz="16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Priprava podlag za predloge rešitev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izboljšanje pogojev dela in zaposlova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krepov APZ in vse življenjskega učenja.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 * Priprava predlogov za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boljšo ureditev organizacije del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generacijsko sodelovanje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sklajevanje poklicnega in zasebnega življe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irno reševanje individualnih delovnih spor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 </a:t>
            </a:r>
            <a:br>
              <a:rPr sz="2800"/>
            </a:br>
            <a:br>
              <a:rPr sz="28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Dodana vrednost:</a:t>
            </a:r>
            <a:r>
              <a:rPr b="1" i="1" lang="sl-SI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boljše razumevanje potreb med socialnimi partnerji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zitivno okolje za soustvarjanje politik trga dela;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okrepljeno sodelovanje– delodajalci – delojemalci – ZRSZ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redlogi urejanja delovnega okolja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analiza potreb trga dela in kompetenčni model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a fleksibilnost in konkurenčnost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o razumevanje institutov ZDR in KPOP med  članstvom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ednarodno sodelovanje in prenos dobrih praks EU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28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Sodelovanje s tujimi partnerji:</a:t>
            </a:r>
            <a:br>
              <a:rPr sz="2000"/>
            </a:br>
            <a:r>
              <a:rPr b="1" i="1" lang="sl-SI" sz="1600" spc="-1" strike="noStrike">
                <a:solidFill>
                  <a:srgbClr val="0000ff"/>
                </a:solidFill>
                <a:latin typeface="Arial"/>
              </a:rPr>
              <a:t>z institucijami na področju zaposlovanja, izobraževanja, delodajalskimi organizacijami in sindikati</a:t>
            </a:r>
            <a:br>
              <a:rPr sz="2000"/>
            </a:b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Center znanja za poklicno izobraževanje (KBA, Nizozemsk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Javni zavod za zaposlovanje v Celovcu (AMS, Avstrij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Gospodarska zbornica za München in Zgorno Bavarsko, (IHK, Nemčija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dogodki in aktivnosti za partnerje in javnost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delodajalc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zaposlene 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osvet sindikatov - Žužkovi dnev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narodni posvet delodajalcev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o v strokovni delovni skupini ZDOPS-SOPS-ZRSZ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loženke, publikacij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spletne stra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kolektivna pogodba za obrt in podjetništvo s komentarjem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ključna mednarodna konferenc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izkušnje z izvajanjem projekta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+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med partnerj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z ZRSZ in inštitucijami iz tujin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pozitiven odziv članstv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elektronsko oddajanje dokumentov (poročanje naročniku)</a:t>
            </a:r>
            <a:br>
              <a:rPr sz="1600"/>
            </a:br>
            <a:br>
              <a:rPr sz="1600"/>
            </a:b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-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tehnična pomoč (EKC) za ISARR le preko e-pošte, odgovori so prepogosto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kasni, splošni in netoč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riročnik za uporabo ISARR (MVP) bi bil lahko dopolnjen s prilogo, kjer b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bile zapisane rešitve najpogostejših napak (posledična razbremenitev EKC)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htevno in zamudno je poročanje s sistemom ISARR (racionalnejše bi bilo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tudi, če bi lahko oddali osnutek poročila v predpregled in šele potem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zaključili vse postopke v ISARR-ju)</a:t>
            </a:r>
            <a:br>
              <a:rPr sz="1600"/>
            </a:b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  <a:ea typeface="Tahoma"/>
              </a:rPr>
              <a:t>HVALA ZA POZORNOS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95280" y="5516280"/>
            <a:ext cx="83534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69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19:06Z</dcterms:created>
  <dc:creator>Natasa Terzic</dc:creator>
  <dc:description/>
  <dc:language>en-US</dc:language>
  <cp:lastModifiedBy>Althea</cp:lastModifiedBy>
  <cp:lastPrinted>2014-05-27T07:25:43Z</cp:lastPrinted>
  <dcterms:modified xsi:type="dcterms:W3CDTF">2014-05-28T07:08:04Z</dcterms:modified>
  <cp:revision>39</cp:revision>
  <dc:subject/>
  <dc:title>Vstavite naslov dogodka   Predavatelj: ? Kraj?, ?. ?. 2013</dc:title>
</cp:coreProperties>
</file>