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73152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2720" y="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072800" y="744120"/>
            <a:ext cx="46530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3120" cy="4467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2720" y="942984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sl-SI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CB7B368-A333-439B-AFEB-2279A8D29C20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073160" y="744480"/>
            <a:ext cx="4653000" cy="372276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31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grada številke diapozitiva 3"/>
          <p:cNvSpPr/>
          <p:nvPr/>
        </p:nvSpPr>
        <p:spPr>
          <a:xfrm>
            <a:off x="3852720" y="9429840"/>
            <a:ext cx="2943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9C4CC12-2D3B-4F4D-B366-1331AB69C478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28B1-F911-47C9-83CB-F2D290A23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249C-7551-47CE-A8FB-1CA4CAC96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EA5F-EDA4-4B2F-8F7D-25483165A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5013-AAFB-482B-8A45-7650021F5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0F9E-DFD2-4692-A631-A2F6A2A5C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6A82-938E-4298-839F-A413827B1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71C8-67BE-475B-9E27-94339CCEC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09E4-A11B-4D1A-9F1E-15EA8A29D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0E01-A7B8-4866-B519-8DF60E130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FEB0-EB17-4117-94B7-B923C7CF5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9EFA-F256-41A4-854A-9C47203BD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5B7A-0A36-463E-92F2-C7F01C33F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61080"/>
            <a:ext cx="289584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15647-2878-4F3C-AEBE-9D65AE4D57C2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u-skladi.si/" TargetMode="External"/><Relationship Id="rId2" Type="http://schemas.openxmlformats.org/officeDocument/2006/relationships/hyperlink" Target="http://www.facebook.com/EUskladi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Slika 3" descr="euskladi_template.bmp"/>
          <p:cNvPicPr/>
          <p:nvPr/>
        </p:nvPicPr>
        <p:blipFill>
          <a:blip r:embed="rId1"/>
          <a:stretch/>
        </p:blipFill>
        <p:spPr>
          <a:xfrm>
            <a:off x="4680" y="0"/>
            <a:ext cx="9134640" cy="7315200"/>
          </a:xfrm>
          <a:prstGeom prst="rect">
            <a:avLst/>
          </a:prstGeom>
          <a:ln w="0">
            <a:noFill/>
          </a:ln>
        </p:spPr>
      </p:pic>
      <p:pic>
        <p:nvPicPr>
          <p:cNvPr id="49" name="Slika 3" descr="euskladi_template1.bmp"/>
          <p:cNvPicPr/>
          <p:nvPr/>
        </p:nvPicPr>
        <p:blipFill>
          <a:blip r:embed="rId2"/>
          <a:stretch/>
        </p:blipFill>
        <p:spPr>
          <a:xfrm>
            <a:off x="4680" y="0"/>
            <a:ext cx="9134640" cy="7315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"/>
          <p:cNvPicPr/>
          <p:nvPr/>
        </p:nvPicPr>
        <p:blipFill>
          <a:blip r:embed="rId3"/>
          <a:stretch/>
        </p:blipFill>
        <p:spPr>
          <a:xfrm>
            <a:off x="457200" y="777960"/>
            <a:ext cx="4114800" cy="7254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71240"/>
            <a:ext cx="7772400" cy="156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Arial"/>
              </a:rPr>
              <a:t>Izvajanje </a:t>
            </a:r>
            <a:br>
              <a:rPr sz="3600"/>
            </a:br>
            <a:r>
              <a:rPr b="1" lang="sl-SI" sz="3600" spc="-1" strike="noStrike">
                <a:solidFill>
                  <a:srgbClr val="000000"/>
                </a:solidFill>
                <a:latin typeface="Arial"/>
              </a:rPr>
              <a:t>Operativnega programa razvoja človeških virov 2007-20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4145040"/>
            <a:ext cx="6400800" cy="186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dr. Jasminka Dedi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Urad za kohezijsko politiko – Sektor za skla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Ljubljana, 28.5.201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428760" y="11574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1600" spc="-1" strike="noStrike">
                <a:solidFill>
                  <a:srgbClr val="034ea2"/>
                </a:solidFill>
                <a:latin typeface="Arial"/>
              </a:rPr>
              <a:t>V letu 2014 bo OU z izvajanjem projektov tehnične pomoči še naprej zagotavljal učinkovito izvajanje operativnega programa, razvojnih prioritet, prednostnih usmeritev ter operacij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34e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34ea2"/>
                </a:solidFill>
                <a:latin typeface="Arial"/>
              </a:rPr>
              <a:t>financiranje izvedenih zaposlitev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34e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34ea2"/>
                </a:solidFill>
                <a:latin typeface="Arial"/>
              </a:rPr>
              <a:t>usposabljanje zaposlenih na področju kohezijske politik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34e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34ea2"/>
                </a:solidFill>
                <a:latin typeface="Arial"/>
              </a:rPr>
              <a:t>obveščanje javnosti v skladu s komunikacijskim načrtom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34e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34ea2"/>
                </a:solidFill>
                <a:latin typeface="Arial"/>
              </a:rPr>
              <a:t>financiranje študij in vrednotenj v skladu z zahtevami iz evropskih uredb in smernicami in načrtom OU za vrednotenje OP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34e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34ea2"/>
                </a:solidFill>
                <a:latin typeface="Arial"/>
              </a:rPr>
              <a:t>ostale aktivnosti, potrebne za učinkovito izvedbo OP (delovna srečanja, kontrole na kraju samem, organizacija dogodkov, aktivnosti upravljanja in izvajanja, financiranje usposabljanj, storitev nadgradnje IS ISARR itd.),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34ea2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34ea2"/>
                </a:solidFill>
                <a:latin typeface="Tahoma"/>
                <a:ea typeface="Tahoma"/>
              </a:rPr>
              <a:t>priprave na novo programsko obdobje 2014-202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34ea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28760" y="51444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034ea2"/>
                </a:solidFill>
                <a:latin typeface="Arial"/>
              </a:rPr>
              <a:t>Načrt izvajanja za preostanek 20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71240"/>
            <a:ext cx="7772400" cy="156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34ea2"/>
                </a:solidFill>
                <a:latin typeface="Arial"/>
              </a:rPr>
              <a:t>Vprašanja, pripombe, predlogi…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714240" y="4145040"/>
            <a:ext cx="7429680" cy="186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034ea2"/>
                </a:solidFill>
                <a:latin typeface="Arial"/>
              </a:rPr>
              <a:t>Obiščite nas tudi na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34ea2"/>
                </a:solidFill>
                <a:latin typeface="Arial"/>
              </a:rPr>
              <a:t>www.facebook.com/EUsklad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34ea2"/>
                </a:solidFill>
                <a:latin typeface="Arial"/>
              </a:rPr>
              <a:t>www.eu-skladi.s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Ograda številke diapozitiva 1"/>
          <p:cNvSpPr/>
          <p:nvPr/>
        </p:nvSpPr>
        <p:spPr>
          <a:xfrm>
            <a:off x="655308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91306-EE56-498A-9352-D7887DFABD64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0" y="1209600"/>
            <a:ext cx="8964720" cy="61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034ea2"/>
                </a:solidFill>
                <a:latin typeface="Arial"/>
              </a:rPr>
              <a:t>Napredek pri finančnem izvajanju OPRČV do 30.4.20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0" y="4162320"/>
            <a:ext cx="8229600" cy="23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grada vsebine 2"/>
          <p:cNvSpPr/>
          <p:nvPr/>
        </p:nvSpPr>
        <p:spPr>
          <a:xfrm>
            <a:off x="428760" y="4157640"/>
            <a:ext cx="822960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"/>
          <p:cNvPicPr/>
          <p:nvPr/>
        </p:nvPicPr>
        <p:blipFill>
          <a:blip r:embed="rId1"/>
          <a:stretch/>
        </p:blipFill>
        <p:spPr>
          <a:xfrm>
            <a:off x="108000" y="1425600"/>
            <a:ext cx="885672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Ograda številke diapozitiva 2"/>
          <p:cNvSpPr/>
          <p:nvPr/>
        </p:nvSpPr>
        <p:spPr>
          <a:xfrm>
            <a:off x="655308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CCC0A-9A15-48CD-84DF-DD9BD9CD252A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108000" y="849240"/>
            <a:ext cx="878508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800" spc="-1" strike="noStrike">
                <a:solidFill>
                  <a:srgbClr val="034ea2"/>
                </a:solidFill>
                <a:latin typeface="Arial"/>
              </a:rPr>
              <a:t>Finančno izvajanje OPRČV po letih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grada številke diapozitiva 2"/>
          <p:cNvSpPr/>
          <p:nvPr/>
        </p:nvSpPr>
        <p:spPr>
          <a:xfrm>
            <a:off x="655308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A7155-FB98-4BF9-8089-700F554D96F3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"/>
          <p:cNvPicPr/>
          <p:nvPr/>
        </p:nvPicPr>
        <p:blipFill>
          <a:blip r:embed="rId1"/>
          <a:stretch/>
        </p:blipFill>
        <p:spPr>
          <a:xfrm>
            <a:off x="179280" y="1281240"/>
            <a:ext cx="8713800" cy="60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1591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34ea2"/>
                </a:solidFill>
                <a:latin typeface="Arial"/>
              </a:rPr>
              <a:t>Potrjeni instrumenti v 20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250920" y="1065240"/>
          <a:ext cx="8429400" cy="6273720"/>
        </p:xfrm>
        <a:graphic>
          <a:graphicData uri="http://schemas.openxmlformats.org/drawingml/2006/table">
            <a:tbl>
              <a:tblPr/>
              <a:tblGrid>
                <a:gridCol w="1500120"/>
                <a:gridCol w="735120"/>
                <a:gridCol w="4206600"/>
                <a:gridCol w="1987560"/>
              </a:tblGrid>
              <a:tr h="63108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osredniško tel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nstru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Vrednost v EUR (EU + SI de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</a:tr>
              <a:tr h="75384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DDSZ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odjetno v svet podjetništva 20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761.4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5420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DDS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Zaposli me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</a:t>
                      </a: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.00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5240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DDS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povednik zaposlov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  </a:t>
                      </a: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94.7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644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IZ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kupaj do znanja – Uresničevanje ciljev Strategije vzgoje in izobraževanja Romov v Slovenij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</a:t>
                      </a: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50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040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DDS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olnomočenje ranljivih skupin preko informatorjev na centrih za socialno delo Sloven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971.6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5412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e karierne perspektive 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</a:t>
                      </a: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00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5124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KUPAJ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instrumento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427.8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grada številke diapozitiva 2"/>
          <p:cNvSpPr/>
          <p:nvPr/>
        </p:nvSpPr>
        <p:spPr>
          <a:xfrm>
            <a:off x="655308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A7181-9796-4EF5-BB5E-554E9851F705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250920" y="1065240"/>
          <a:ext cx="8429400" cy="5575320"/>
        </p:xfrm>
        <a:graphic>
          <a:graphicData uri="http://schemas.openxmlformats.org/drawingml/2006/table">
            <a:tbl>
              <a:tblPr/>
              <a:tblGrid>
                <a:gridCol w="1500120"/>
                <a:gridCol w="735120"/>
                <a:gridCol w="4206600"/>
                <a:gridCol w="1987560"/>
              </a:tblGrid>
              <a:tr h="63036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osredniško tel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nstru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Vrednost v EUR (EU + SI de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</a:tr>
              <a:tr h="45072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DDSZ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z faksa takoj praksa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0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892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IZ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o kreativni poti do znanja 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.0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032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IZ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 spodbujanja podjetnosti v VIZ z namenom razvoja podjetništva med mladim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528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IZ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Dvig poklicnih kompetenc učiteljev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81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200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DDSZ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isarna za delodajal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4.2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164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IZ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pestrimo šol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4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200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IZ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drav življenjski slo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.1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308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IZ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nzivni tečaj slovenskega jezika za migra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76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200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N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Polici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25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632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N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R za spodbujanje NVO in civilnega dialoga 2014-20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.5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5268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KUPAJ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instrumentov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4.431.2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28760" y="37116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034ea2"/>
                </a:solidFill>
                <a:latin typeface="Arial"/>
              </a:rPr>
              <a:t>Izvajanje v letu 2013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13840" y="1371240"/>
            <a:ext cx="8215560" cy="500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150000"/>
              </a:lnSpc>
              <a:spcBef>
                <a:spcPts val="349"/>
              </a:spcBef>
              <a:buClr>
                <a:srgbClr val="034ea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400" spc="-1" strike="noStrike">
                <a:solidFill>
                  <a:srgbClr val="034ea2"/>
                </a:solidFill>
                <a:latin typeface="Arial"/>
              </a:rPr>
              <a:t>Obveščanje javnost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spletna stran </a:t>
            </a:r>
            <a:r>
              <a:rPr b="0" lang="sl-SI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eu-skladi.si</a:t>
            </a: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Socialno omrežje Facebook:  </a:t>
            </a:r>
            <a:r>
              <a:rPr b="0" lang="sl-SI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facebook.com/EUskladi</a:t>
            </a: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Dogodki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OU Javne razprave o novi finančni perspektivi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3148560" indent="-22392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s področja znanja in trga dela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3148560" indent="-22392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s področja okolja, urbanega razvoja, kmetijstva in ribištva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3148560" indent="-22392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s področja vključujoče družb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3148560" indent="-22392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s področja pravne države, učinkovitega javnega sektorja in nevladnih organizaci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Organizacija srečanja Višegrajske skupin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Organizacija IQ konferenc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Veliki informativni dogodek »Razvojni potencial v Zasavski regiji«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Organizacija dogodka v okviru Pop-up doma v Tobač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E-kohezijski kotiče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349"/>
              </a:spcBef>
              <a:buClr>
                <a:srgbClr val="034ea2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400" spc="-1" strike="noStrike">
                <a:solidFill>
                  <a:srgbClr val="034ea2"/>
                </a:solidFill>
                <a:latin typeface="Arial"/>
              </a:rPr>
              <a:t>Upravljanje in izvajanje programa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249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34ea2"/>
                </a:solidFill>
                <a:latin typeface="Arial"/>
              </a:rPr>
              <a:t>financiranje zaposlitev iz sredstev tehnične pomoči pri upravičencih, vključenih v izvajanje OP RČV, (SVRK, MGRT, MDDSZ, JSRKŠ, ZRSZ, MIZŠ, MNZ, MK, SPIRIT, MZ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249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34ea2"/>
                </a:solidFill>
                <a:latin typeface="Arial"/>
              </a:rPr>
              <a:t>usposabljanja, delavnice za delo na področju evropske kohezijske politike in delovna srečanja</a:t>
            </a:r>
            <a:r>
              <a:rPr b="0" lang="sl-SI" sz="1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249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34ea2"/>
                </a:solidFill>
                <a:latin typeface="Arial"/>
              </a:rPr>
              <a:t>razvoj in nadgradnja informacijskega sistema za spremljanje in vrednotenje – ISAR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50000"/>
              </a:lnSpc>
              <a:spcBef>
                <a:spcPts val="249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8760" y="51444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034ea2"/>
                </a:solidFill>
                <a:latin typeface="Arial"/>
              </a:rPr>
              <a:t>Kazalniki (presečni datum 31.12.2013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"/>
          <p:cNvSpPr/>
          <p:nvPr/>
        </p:nvSpPr>
        <p:spPr>
          <a:xfrm>
            <a:off x="4481640" y="-473400"/>
            <a:ext cx="18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0" y="0"/>
            <a:ext cx="301788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" descr=""/>
          <p:cNvPicPr/>
          <p:nvPr/>
        </p:nvPicPr>
        <p:blipFill>
          <a:blip r:embed="rId1"/>
          <a:stretch/>
        </p:blipFill>
        <p:spPr>
          <a:xfrm>
            <a:off x="179280" y="1714680"/>
            <a:ext cx="8496360" cy="43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1T06:19:56Z</dcterms:created>
  <dc:creator>Z</dc:creator>
  <dc:description/>
  <dc:language>en-US</dc:language>
  <cp:lastModifiedBy>Jasminka Dedić</cp:lastModifiedBy>
  <dcterms:modified xsi:type="dcterms:W3CDTF">2014-05-29T06:59:02Z</dcterms:modified>
  <cp:revision>202</cp:revision>
  <dc:subject/>
  <dc:title>Naslov</dc:title>
</cp:coreProperties>
</file>