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50DF-9650-45AB-9D56-813DDAE8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3197-579F-4746-8938-DE690F5A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F1DE-AF2A-4224-8944-A23B0D40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767C-F14E-43F3-B235-A99321A85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4873-FDA5-48B1-B61E-7F8A5A92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23C7-272C-42C0-B0BB-AC1D8D86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7C50-0AD4-40F7-AF33-295FC8EA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7FD2-8D98-4844-88D0-3583E9E9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5DDE-85B6-4BB7-80C4-6D51C10C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090A-E24E-416E-9DF0-5553F7D1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AEBD-E4E4-40EE-9DE0-C71B3E99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46F0-1476-4B89-9B62-74D2F8AB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6A21-8950-426B-A11E-F1DEA5C47677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9T07:04:26Z</dcterms:modified>
  <cp:revision>37</cp:revision>
  <dc:subject/>
  <dc:title>Naslov</dc:title>
</cp:coreProperties>
</file>