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73152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7480" y="742680"/>
            <a:ext cx="46436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F4BF-4797-4478-805D-E1AB7FC64754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5D91-BA48-4BB8-BC74-5C1FC57CB1A8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1C5E-B39A-437E-BF6F-AFD2905D71B2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E69B-8B2A-4F33-87AE-40F05E0F7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721D-94A2-4DD7-B9CE-85F0343B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7BE3-2B65-43C7-8E98-87009C243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B1F7-CE68-4B2E-82E8-7DB224BE9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670F-725D-4B24-85FA-694202189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3EA8-8193-4789-B5C3-AED03CB7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66837-39F0-4D31-946F-D88300BF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8B52-1C45-424F-A34B-8027BEB5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CAFBA-CB32-47BC-8554-FE4B93C7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4FE2-341F-478E-9AD7-6A349626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1728-819F-46EA-8392-CCC5D872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7501-A634-4B3D-A26D-AD6FCCC9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5F1BE-CC29-45B1-8390-B292C0CD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55A3-C730-4BAC-A585-5E25061F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F405-18D5-4195-8147-B538175D3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6968-8F09-49E9-BC60-A670195AF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982B-0EA5-42FA-9890-6353677BB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3090-1C14-4C10-ADAD-FC587706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FC46-0CCA-476B-8928-82721EA4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2331-CD29-4555-9230-CCEFCF59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7763-0808-4D91-BDF4-B73BE101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9ABE-2CAA-4AD8-BE83-3A4CFDFF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C97A-0367-43AE-AF4D-47EBDE52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1F25-AF7B-45B0-8EE3-970EE7E3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9750-B4BC-4886-A80C-18975EE8505B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035480"/>
            <a:ext cx="28958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526E-3381-4654-8538-86EC66839535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850E-1A7F-417B-AF83-7692D083E11B}" type="datetime">
              <a:rPr b="0" lang="sl-SI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4D75-5F17-4BD2-AB03-EF5BCB9B5DAA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99FF-D131-469B-8661-D4BE56F3C895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9FEC-0E87-41FF-8373-008789A583DC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44720" y="1136520"/>
            <a:ext cx="2879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3366"/>
                </a:solidFill>
                <a:latin typeface="Century Gothic"/>
                <a:ea typeface="Arial"/>
              </a:rPr>
              <a:t>MINISTRSTVO ZA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Beethovnova 11, 1000 Ljublj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Tel.: (01) 369-65-10 Fax: (01) 369-65-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SUSEU/PO - ORGAN ZA POTRJEVAN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71640" y="2881440"/>
            <a:ext cx="7270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79280" y="3152880"/>
            <a:ext cx="849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Finančna realizacija izvajanj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OP RČV za obdobje </a:t>
            </a: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2007-2013</a:t>
            </a:r>
            <a:r>
              <a:rPr b="0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9600" y="423396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C64B2-7EBF-4968-8EFD-5AAC9EDEC173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EEC9-938B-43F3-A06A-A57DEDE82BD3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1628640" y="105408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860400" y="149688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</a:t>
            </a:r>
            <a:r>
              <a:rPr b="0" lang="sl-SI" sz="12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971640" y="1785960"/>
            <a:ext cx="3456000" cy="2473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2"/>
          <a:stretch/>
        </p:blipFill>
        <p:spPr>
          <a:xfrm>
            <a:off x="3851280" y="4335480"/>
            <a:ext cx="45846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3C13-3642-445E-A05C-9E2D254B404C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7097-39AD-40BE-910E-47DF6813E6ED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2FCF-BFA1-4E24-90D2-1A4400AAE72A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9252-51B9-4ED1-8591-676880009E95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4"/>
          <p:cNvSpPr/>
          <p:nvPr/>
        </p:nvSpPr>
        <p:spPr>
          <a:xfrm>
            <a:off x="826920" y="9936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PREGLED FINANČNIH TO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9"/>
          <p:cNvSpPr/>
          <p:nvPr/>
        </p:nvSpPr>
        <p:spPr>
          <a:xfrm>
            <a:off x="5740560" y="633240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"/>
          <p:cNvGrpSpPr/>
          <p:nvPr/>
        </p:nvGrpSpPr>
        <p:grpSpPr>
          <a:xfrm>
            <a:off x="250920" y="1641600"/>
            <a:ext cx="8353440" cy="4532040"/>
            <a:chOff x="250920" y="1641600"/>
            <a:chExt cx="8353440" cy="4532040"/>
          </a:xfrm>
        </p:grpSpPr>
        <p:pic>
          <p:nvPicPr>
            <p:cNvPr id="109" name="Picture 9" descr=""/>
            <p:cNvPicPr/>
            <p:nvPr/>
          </p:nvPicPr>
          <p:blipFill>
            <a:blip r:embed="rId1"/>
            <a:stretch/>
          </p:blipFill>
          <p:spPr>
            <a:xfrm>
              <a:off x="285480" y="1641600"/>
              <a:ext cx="8308440" cy="6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0" descr=""/>
            <p:cNvPicPr/>
            <p:nvPr/>
          </p:nvPicPr>
          <p:blipFill>
            <a:blip r:embed="rId2"/>
            <a:stretch/>
          </p:blipFill>
          <p:spPr>
            <a:xfrm>
              <a:off x="250920" y="2290680"/>
              <a:ext cx="8353440" cy="3882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7A21-9734-45BE-82E9-B0DB9172BE9E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5E5F-4E52-43E4-80B6-86D989350926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908000" y="2936880"/>
          <a:ext cx="5400720" cy="1441440"/>
        </p:xfrm>
        <a:graphic>
          <a:graphicData uri="http://schemas.openxmlformats.org/drawingml/2006/table">
            <a:tbl>
              <a:tblPr/>
              <a:tblGrid>
                <a:gridCol w="1224000"/>
                <a:gridCol w="2089440"/>
                <a:gridCol w="208728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 5.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00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1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40"/>
          <p:cNvSpPr/>
          <p:nvPr/>
        </p:nvSpPr>
        <p:spPr>
          <a:xfrm>
            <a:off x="1117800" y="1698480"/>
            <a:ext cx="67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Arial"/>
                <a:ea typeface="Arial"/>
              </a:rPr>
              <a:t>STANJE ZzP NA ORGANU ZA POTRJE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7"/>
          <p:cNvSpPr/>
          <p:nvPr/>
        </p:nvSpPr>
        <p:spPr>
          <a:xfrm>
            <a:off x="1835280" y="2649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8"/>
          <p:cNvSpPr/>
          <p:nvPr/>
        </p:nvSpPr>
        <p:spPr>
          <a:xfrm>
            <a:off x="2425320" y="4665600"/>
            <a:ext cx="4475520" cy="580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4,1 mio € = 123 zahtevkov za povrači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Št. prejetih ZzP v l. 2014: 654 v vrednosti 45,1 mio €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6BFD-F752-4F14-ADCF-23C0A2D45F0D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BF48-1EBD-43BE-8AF5-3255E117E313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3"/>
          <p:cNvSpPr/>
          <p:nvPr/>
        </p:nvSpPr>
        <p:spPr>
          <a:xfrm>
            <a:off x="1333800" y="1569960"/>
            <a:ext cx="67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Uresničevanje pravila n+2/3 za OP RČV 07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4"/>
          <p:cNvSpPr/>
          <p:nvPr/>
        </p:nvSpPr>
        <p:spPr>
          <a:xfrm>
            <a:off x="324000" y="2433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  <a:ea typeface="Arial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378000" y="4952880"/>
            <a:ext cx="565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Arial"/>
              </a:rPr>
              <a:t>Stopnja doseganja FN 2007-2013 na dan 9. 5. 2014: 73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01760" y="2627280"/>
          <a:ext cx="8151840" cy="162000"/>
        </p:xfrm>
        <a:graphic>
          <a:graphicData uri="http://schemas.openxmlformats.org/drawingml/2006/table">
            <a:tbl>
              <a:tblPr/>
              <a:tblGrid>
                <a:gridCol w="8151840"/>
              </a:tblGrid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Uredba (EU) št. 539/2010 z dne 16.6.2010 o spremembi 93. člena Uredbe (ES) št. 1083/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24" name="Picture 15" descr=""/>
          <p:cNvPicPr/>
          <p:nvPr/>
        </p:nvPicPr>
        <p:blipFill>
          <a:blip r:embed="rId1"/>
          <a:stretch/>
        </p:blipFill>
        <p:spPr>
          <a:xfrm>
            <a:off x="385920" y="2827440"/>
            <a:ext cx="8073720" cy="20397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41F7-53FF-4916-BE29-08EE7807C75B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7E24-8E8B-4720-94A6-3E62D4C6B95D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736280" y="192888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Zahtevek za plačilo - napov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332000" y="2936880"/>
          <a:ext cx="6095880" cy="15541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34ea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ed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128,2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  </a:t>
                      </a: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78,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47"/>
          <p:cNvSpPr/>
          <p:nvPr/>
        </p:nvSpPr>
        <p:spPr>
          <a:xfrm>
            <a:off x="1328040" y="4788000"/>
            <a:ext cx="1927080" cy="307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Arial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4"/>
          <p:cNvSpPr/>
          <p:nvPr/>
        </p:nvSpPr>
        <p:spPr>
          <a:xfrm>
            <a:off x="1258920" y="5529240"/>
            <a:ext cx="6192720" cy="276480"/>
          </a:xfrm>
          <a:prstGeom prst="rect">
            <a:avLst/>
          </a:prstGeom>
          <a:solidFill>
            <a:srgbClr val="034e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Arial Unicode MS"/>
                <a:ea typeface="Arial"/>
              </a:rPr>
              <a:t>Realizacija napovedi 2014 na dan 9. 5. 2014 = 39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Evelyn Filip</cp:lastModifiedBy>
  <cp:lastPrinted>2012-06-04T14:32:47Z</cp:lastPrinted>
  <dcterms:modified xsi:type="dcterms:W3CDTF">2014-05-16T15:29:33Z</dcterms:modified>
  <cp:revision>166</cp:revision>
  <dc:subject/>
  <dc:title>Naslov</dc:title>
</cp:coreProperties>
</file>