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9FFE-9D8D-4CAD-BE02-820EDBFB9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AA9F8B-BC24-48F4-BEB4-55A230A7C831}"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865A68-5B10-4AF6-93DC-4A18DEB2F9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B32720E1-9931-4E4C-9113-A709C53CB05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51B4DDB-EC20-4E21-8483-4A8295FC5B8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B3DCC0A-9CC4-4B6F-ADF2-1BBDDA15B22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7817668-97A9-4D11-8325-A8DFB031CB7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444F6B4-4940-4010-8BC1-3218E0B1763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8B6B597-917C-462A-9DD7-60A485D3C96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10A37AD-5516-4A59-98BA-9705CD0D9C6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E76FFD0-7129-41AF-A0B2-9291D0FFF15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0540E68-22FE-4114-A3B4-B7C7479585D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15EB26A-7CEE-4D51-9EF7-2D920CD4CF4E}"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1913FED-FAAF-4A5B-96AE-48B8C8BE1B6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91ED4151-B60E-4FCA-A54C-CDF7300165C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B947587-AE9C-4D8E-B272-88EA7DDF884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060A4A0-4AA9-4B91-A983-3EC8F123A42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70134E8-BC50-4866-A0B6-2E9094DEE2A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8EFCDCC-B9F6-41F7-A5CD-2BDE5D31A0F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C03572F-CC13-407A-A6ED-C5B4BD76B10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FD1D4DF-E5C5-4B65-AC58-B803CA3DA81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463E2FF-DAE0-48F9-B8E3-6E9EE40CF09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9AF7B02-8C94-4C48-8B45-8DC909E7B7D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12DA0B9-058D-481A-8956-E2C86FC27CF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F9CFF2A-C670-43E2-A8EC-6A5653FE315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AC52A974-3F71-4C53-9B3A-3A029C78CA4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B199750-0EA2-4649-A05B-68B07371048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B9D2229D-9C5D-4BC4-9248-6EC9BABC3E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8E17AD7-808E-436E-87D7-BD7D5DFBEC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DDCA3AA-41E5-4595-BFEB-CE4CF2159A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4A3D5BA-5909-448A-8035-A4C9C8391F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9454868-CA73-43CC-A659-7C10DA9F74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2566B6D-5A88-4A4C-934C-0ECC0708A5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C8550F2-CC16-4093-B290-57C8C76B25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1D9E7CE-C6DD-4906-8ACD-AE37F2BBCE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F928008-2080-48B5-96EC-BA871A3395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D4D0BD8-F3B9-4AED-8631-8CE997997B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FE4F531-E06C-45D9-B175-A4AEFC33C7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037290A-86F7-407C-A03A-88B72C668C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D25E119D-E89E-400F-B503-ED33D76EEC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4BB71A5-DF7A-43CD-A155-E3D59A90CA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75EEF7D-42F3-460A-B8C9-DC6BA2F3F3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95A2BB3-E901-4FB4-B21F-BCED31BAB2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84CC820-0838-460C-894D-C1C7680599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5B4C87C-1F11-4DAA-B0ED-59815B4D9C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9D5DC08-3AF1-4E63-9721-6CB84E834A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25525DD-B5A5-4CC6-9784-5921A84AC9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1B5E0B2-BECD-4A62-B109-53CE7F69C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E409B86-4780-4B16-A6FA-FC90D2C203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DAAE57D-7D6C-40C5-9D18-F142BF9C03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C5F8ADD-57B8-4222-BF8F-BCEBB7618F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507983C8-A617-4C58-A3A5-19A3CD1519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27FA61D9-A5CF-44BF-9AE0-BE4B84A3D8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2D163A14-ABB0-4C19-A594-5CA2CF2FB8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435B5AD-16A3-481D-A5B5-0E6229ABA1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28B0DE0-66A0-40B5-8D6F-89516D34EB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10C5247-23CB-4B96-A7F9-E6F615E660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A28FA55-2452-4FBA-801D-2A5D523DC4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BCB265-CAC0-44F6-954A-FAB5DC61CD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C529736-ED0E-401E-B609-3353E39739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0A61D34-2C29-4BB6-ADC7-2D5B3682A7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C968A4F-62E1-4B3C-B244-B1FCF42230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E5713AB-76E7-4758-9C28-1E47EB52F9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929575E-579B-4E34-80CA-AB708CD049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3ADB0B8-4B8E-4CC1-AD9A-2F0BFAB052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80659CE-F58A-4B26-9CC0-36FED537B7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5D0C5654-4DAE-45FA-84EA-4267B20412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36F8F2C-C4A3-4207-B894-54E4F5F389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DF589C6C-4417-4748-9D02-AF0ACF4079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A37C45-5DB2-44A1-8E44-6EBBC3C5C1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55B51C8-A88E-48C5-8971-A550038CC2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5C12DEC-3711-47CD-8CE0-1B562DFB58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B4EB985-8DB3-46FC-9878-BAA27AB19D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47B1F01-453F-4988-9E27-1A087E0B0C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DB64D0C-01EC-4127-8E11-981E09B1E2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302A880-424C-4F1C-A766-434FB5F02E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2A882C6-C735-4A32-92D8-860A30CE48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EB22D7D1-0C72-4652-AF1F-6C18CC675D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0787469-BC39-452B-B15A-1705BC000C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0E4C2679-29E4-47DF-A5AA-F32655C757B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BA032D-88CB-47B0-BA4E-DC7FB36D9D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5F9C401-6107-4BF9-959D-F7991B9ADE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7988AB9-FE01-467D-B51D-8DC8B6CA83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7BEF48A-AD9F-40F9-AD3B-8837DB887C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9834DD1-3ED7-42D9-9385-76B3742F38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484B1DA-C4C6-4479-8A13-0D4E79FBA1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5E07015-141E-4812-AD36-166A50CB4E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D3AFD17-7A47-4F97-985A-1C4C07D728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23A0413-6F4C-4B49-95D8-0B0F5A8604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21FFF3B-2599-4806-BD21-C4CD70E8A4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D428B8CA-3FE2-47C2-AAC5-C4CEEB7A3D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90AB22-B683-475F-A329-5C9A453208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204FEE55-4CB1-40DF-8E59-AE1CD9F029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12CE7B25-1C4C-4708-A9D8-08F277E0D1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18F776C-D58A-46B5-8BFA-32ABD1A4A1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1E4910D-1E68-4324-9F01-2A1CA3DAE9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F45003F-1956-4674-A68E-B1A7A838B9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10ABC26-762E-4716-A9AC-C8DA0F42A8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FAE2568-7FF1-4D1B-A2F9-276A363ECD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1AE8E71-F698-445F-9368-E71FD84CD8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8246652-C8CF-4D65-A914-F5FA9499D1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325AFAB-888B-46F6-B7B1-266C8012C2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AAC3B02-2AF4-4F19-B11C-BBC2F7E88C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6A1440B-E444-4189-9767-7CE41A7CC8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58486D2A-ED73-4F3C-9678-A287A93D40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D52C242E-FC6B-4720-A128-1AF7952BAB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47BD4D83-8745-44AB-AD5E-9E3F387643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8969C74-4770-4E90-99B8-E1F8AB0C3E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B2C39883-1800-4A09-B17D-117D1F6BD1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7D4BBDB-C948-45C3-9A28-CFBCDCF485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6334F93-6EAB-4642-A6DD-10E7604E30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B9F5D78-3EEB-431F-BBC2-A2FA907179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0276644-32C2-4AA9-8D06-1115934C11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46EEA3CB-207D-41D1-A1E5-A061FC1EB4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705705-1B66-4F7B-B756-2D46E11BA0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9731DA9-99B5-4985-A414-6856A13978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51889AA-1C9F-4BC9-8E84-D3FD8BA424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19BB2BB-6142-4910-A0CA-44090ACE8F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34623039-3304-454C-8D5D-A6901CB44D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8613CAB6-AF48-4339-B46D-B17D04099D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8BB77DF7-0D10-4F78-BFDA-37A15BFE4FF5}"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97633BF3-AD8B-42D8-A210-F21760E067B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73B84EDE-FDB5-4ABD-9EC5-5039C0C8ACD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C465D17F-62DF-4085-9872-8B745E109FF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CE50F5F6-C976-40BA-9417-22B398C998A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A15D47-9308-4848-9C26-957AF6E074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64046835-54E7-4749-84C3-52028E55D27D}"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EBFC3CF-BB55-4024-893C-5BCB3116AE4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D009E02-D866-4888-98BF-8BBBDA9B6F9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6C29316-E3D3-4660-8B94-69F52C91111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73C420EB-3B5B-48D7-87D0-6D441CD39FB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0A463FF8-E39C-4F70-BF94-6395185F49DE}"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56ACD1DB-E05C-4D00-8E47-5213CD92E144}"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383D5F1E-E985-4AEA-93F5-817BDE1FA54D}"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FF234A75-6C27-4E60-A2A7-249B15EF102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CE571CA6-6CCA-4D7C-BB29-0E11FAC3571B}"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6173F3-C5D2-466B-AF6A-6BD5812043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662ABDA-CB51-4BC5-B8B3-31BE5A1794A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70954A92-13BF-47BF-9597-C94B72284E0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5825E4DE-F21C-4F64-B33F-B84E7B73F73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F8E26B5-79E1-450B-BB80-6C475BDEBB0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B788AC3-82CF-4095-A106-5CBA772E2C1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080BE21-445D-41C9-AC7A-2B49116B732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DA8A7F56-AF8C-492C-A03C-45FCEE9F4849}"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AB904179-20B2-43F9-8947-6E8FE92CC602}"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DA9C790E-28A5-4567-927A-991C798E74BA}"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F9239948-C559-470B-97BE-50162AC487D5}"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4215250-74F4-4B9D-8FD4-378480976A1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15C00959-20A0-47E6-B44F-B528E9C82DE1}"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CC019363-C818-4ED1-AA95-716A8FAEFA0F}"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25903DD1-E432-4D01-AB67-257BA6E7AF3A}"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A5BBC7A1-C398-4512-93D2-888BFF06EA4C}"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59D0822F-B9C8-4570-AE15-D16CFDA865DC}"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3348317-8607-4C53-89B8-F1CD91CA909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BE0BED2-EBCB-4193-AD60-DD4D80B5329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1F33DDDB-D066-49B5-99A8-2AD23B3E634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7983662A-18C5-4BCA-8280-D21F300D7E6A}"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68060D62-0C68-4AD8-9919-A64BF8DA6C0D}"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47D40A6-43A9-40FE-A52C-BDF45140092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6C9DC1E1-17B2-493A-8D40-6DAA2C49C9C6}"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BB25760E-76F7-46FB-80E6-63415702EA62}"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75ADF89E-29BA-451B-AF10-CFCB71DE6865}"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EC28299D-D694-4C4E-8B8D-3B8B8BD0206D}"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92FA83F5-B513-4230-B312-CC722B74548B}"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11583127-22ED-4BD6-B70A-30FEE989F02D}"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134C1118-9C7D-4DA7-80F3-755D56B4D6A5}"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149E18C6-D189-4E91-9891-3039AA576C5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44C8CA2F-A1BC-406D-99B2-8A75DC0812F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B8AE6D5E-C6BE-490B-B3CF-25863249EC93}"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6972EA2-64DF-447A-88EA-302C3B2F1DD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200E1BE7-54DC-4822-84D6-BF8D9C5193B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E7C380B4-7593-487C-B1CE-33A5896BB032}"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BA9C8B92-9FA5-4431-B91B-2EAC73DE559E}"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30047601-28D4-41DB-9869-DB80AE3F34B7}"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630F42B9-E7D0-45BA-9159-38DCF9608CB7}"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FAFB5BBD-5846-4168-918C-C1AE48F01CAF}"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C543A21F-669E-44CC-9594-BFE2D94E20D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B0BED3BB-AD3F-45BA-B8DC-F18F95D75220}"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720649A4-8B3A-4052-BE16-B0BACDD68F3D}"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2EF03C17-C078-4E55-A84F-4393DFFBEF6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C45B1C6-90C3-4345-80FC-33E43999193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6AE7476-033B-4B1D-A2B6-EDEBA1B5AF2E}"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B0B72B88-6109-48B3-BE44-393AB4D2FCA9}"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EE41733B-DFA1-4BDF-930D-94E7B56D6377}"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0D475B53-6B4B-448C-84FE-574CF2270DC4}"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E7154E37-2015-4FCB-ABE2-2BC9B73E9DE8}"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DEF23AFB-064E-46AC-AA65-5899AB9CD233}"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47C9D2B5-0749-4B00-9AF9-B2452C7C69C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03D3F059-28DB-4325-B08A-85012C2808C0}"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32540136-A717-4D8B-B0B4-08D181B12B9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B7D46A21-0107-4BB8-BBF3-039B4C06170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D3B1379-610E-4F5A-AF8F-3F4F230FFF4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8A0CE4D1-78AF-40B2-AF92-7A96A0A5E3D9}"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C7E68A84-DAF1-4A4F-BCD4-A3E82CB544D5}"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00E579B7-1FB2-49F0-8B87-285AAC6BDD5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D93EB14E-3EC8-4C34-B3D7-F6A4F0605B5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85F927BF-E2AE-4A6B-9BDE-FB0D819689B0}"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1911E3D4-9F12-47B6-8FD1-E12B99AECD52}"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BEF89AF3-1339-4215-9E7B-7AD56A30ACE1}"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46E1C237-17DD-4908-A2E1-57EFA093285A}"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42BB9F4D-40D7-4C07-BFD1-ED9729C11963}"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FA4A2F1E-8126-438C-90F3-3F93C426830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A743E6D-2119-4C49-9D89-5442E75EAE8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2E51F0DD-0D11-465E-9971-ECCD3841FD52}"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0B586341-5797-4FC1-9E81-313C1AED1B6C}"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3BFFD62C-10AB-43DB-AF81-145D5A02D0C9}"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C35751C-523A-4CBC-9F25-9FBED02124E3}"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8393139-85B0-4732-AE1A-0A443FBF835F}"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48A813F9-9004-4480-A4EB-574637750B3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50ECBB21-CCE5-47F3-A3AB-A0210FF3BF3B}"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4ED88B4C-EDA4-40F7-B1E8-07C6B2F05FB2}"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1A06EE97-AB0D-4148-8592-1C38BF228516}"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90144289-71DD-4551-A94D-17A1B1EAD055}"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ECECDA6-EEFA-49C3-A6FA-41423D20773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7C5B9996-C741-4F56-92E4-4A512810EB11}"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990A4EF7-E862-4A0D-B2F5-0A5CC3BA99BD}"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803099CB-FA40-43ED-B1CD-10534005A1DF}"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01743C87-5915-40E0-96E1-9F5936FEBF0B}"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2CA050FD-219A-4ACB-9628-27EAB9ABF83A}"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DF23EA70-8B0E-4494-87D6-22ED82914F4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A957F6AB-069B-4199-9AE5-B964D21DD88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A9AFF3C8-525E-40C7-B3D0-1EEEC665C547}"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058EF2E7-8B2E-48BE-A1F0-41A49AB1E4E5}"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F274FE47-0EED-401C-A405-B718C9186F0D}"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009C0388-6AF6-41FA-9A06-657233E3ABB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362F33F-85EC-451A-B766-52D141FBDD2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AEDFF603-50EC-46D3-A01E-0B2B3E6BE801}"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8E01761-2AB2-49F9-9BF9-816E330D478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350AB59-241F-4AA5-8746-7B74239E9D1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07F7D33-DA21-4B23-8507-FC9BAE0D2B1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239BAC0-64F5-483D-9E78-9604D4FD7AE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9A486E1-8F57-41BC-9B4C-A577AE3977B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A277FAD-4C3A-4753-9299-3331D441F58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D778D2D-51D7-4822-BA75-9154B6F9B85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75428A9-5848-4C27-8675-A1B19A647DE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01F4991-5C15-4070-9CB5-C83B45D6031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114215A8-5120-4510-A99F-DDFF1747740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1182F8E-D9FC-4F95-BA96-BB58DA35804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EEE1C53-84BF-4DC2-B172-6F441851E6D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2BCF25B-2ED5-4C58-B160-42A1EC44316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497EAA0-1CB8-482C-8597-A29116B4E5A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09AC9D2-3D25-459D-AEE2-45A65A42031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072F4C2-D366-4E2D-9C2B-9CB42FC70F7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FF95B5D-6A34-4704-A078-F06F685B014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37026CA-A1D0-4D19-A953-5C41BE0DAE1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D236564-6B89-4858-8ABA-E0E7458CC70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C0DEF49-2104-41BB-B77E-58B51798841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EE47F430-0A31-4DAF-B8E4-99ADDCBDFB9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B243256-37B7-4382-912C-D493565FB29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AAF3644-3C50-4FDD-9650-02DC8600C80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413501D-D038-4A63-9D94-6B6617B54A6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44CAA76-1858-4DE1-840E-70119DE860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39179B4-DDCE-4295-9BAF-956C6AF30D6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3E073B7-24FC-4A6A-A892-E55537CE80E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1133B86-FCB3-4941-94BB-30DA70CFA7C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E43AA2C-0A5D-4469-BD30-FD9015530E4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CBA44FE-CC38-4D32-A570-051902FD1BA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F86C2E6-AB34-4FAD-8049-3D9EDF0CA53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C280A205-EF73-4BD1-B480-DBBDCC0BCE2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259D278-F06F-4C2A-97D3-282C187C2A4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0B8EC3B-8281-4864-8C89-E46FF2A311A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5D81A80-0E1B-412E-B00E-2537021A74F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CA4FE6C-5635-4B8E-B368-B33A93235F9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1103FEE-3134-44C1-8389-F7095CA07D7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AC64AB8-333C-4495-855A-6D529B000E6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B652870-42D2-4499-B6AB-75C00B73BA3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64CC862-13BB-40E3-AAA5-4397613578B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F071133-FE52-444B-88E1-FF51FEBFDBB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74A5321-54E9-47D0-A2B2-79238F44A3A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3543BACF-9A54-4FCA-A88D-48D3416A124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CCFB4B7-72F3-4E34-8285-DD3855BF0E2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F6DDC46-4BAA-4F66-9631-9353D41FFA3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65BEF53-F7ED-4B7D-BDF5-C3A42910F77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9F27216-FA59-466E-9D92-2BB5FDF5E01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5ADEDD2-7E1E-4583-86BD-BBF9F184455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A8038EC-3338-48C2-AC24-A928A82E269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8DC08EB-9505-4BEA-BE7C-8816EE96DB1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8B4485B-18C8-4A82-BC80-C8BCAE18DB9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A79C3E4-98FD-4D44-8620-4BC95BF2665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C4C2D55-4421-45BF-9A7A-5AD8A024ACC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4C2F3163-6BA0-45D4-A742-2C03E04DAF4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B489FC5-45C4-40CA-8CB6-0F6F398E192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8146671-0D6B-4BFC-A404-9EA2F087360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3E6A0F6-9D68-48DB-AA1A-529DE63C02E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327B526-8C49-4829-8AC7-A07180FCAEF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E3BC092-D1BB-42A5-B494-8B67737DF46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AC834A9-7B62-4C93-B118-3AFC848A471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761B866-6EA9-4DC4-ABA6-B1C5890FEC3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A3DD5B6-E4E4-4409-AB95-ED247116A67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CCE6D0D-B95A-4909-9C4C-47DF99A1B2F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1E66487-72CB-4D5D-BCF9-4E97BD0714D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FCD303F0-47C4-4703-B8BD-3F1EACE351A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EDD25DE-9B12-4253-8EC1-3699D98CDB2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2D42D44-B715-4DF7-9ECC-07EF01FB187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F8A571B-A9A1-487F-954E-94EDCCF6133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86F73F8-1878-42BE-9AFF-1050C8CF002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C163AFE-08F4-49AF-BF3F-52895B67FE9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DFE97E9-6C15-490B-8860-60535B9429E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5E4FB00-766A-4063-979F-8874533F28A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4CC5646-AC87-4CD7-9F4F-DA59EFA1804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1E46E4D-66D9-4AF2-B128-4306B51186E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09E4488-D7A8-4A35-8404-2CCB2E2E5ED5}"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1918-5597-4BC9-9F57-ACC67A68322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F554-EF9C-4897-8A30-B2463C0C25A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1587-C939-49C8-B9A0-10F0DA53D8F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60AF-78D7-4A85-A0C8-0CAEE131AD3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AFD4-3B91-4AAB-BEFA-61E414EB767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D50C-AA64-4628-B22C-C476F844E7D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ADD8-27B3-4586-9980-ED16D3ADACE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184B-23E4-464D-8C24-5E49DC5BAD9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4A38-45FA-40EC-B81C-8735419783A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12C7-C330-4B52-AC2F-4130903D391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51BC-CC0C-4164-8E09-3EE8EB412BA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C8F4-422C-4357-A7BC-E3101479C42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0951-A055-4631-A08E-B041ACFE549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FDF4-3D1C-47A1-9CFA-2ECBA58B2CB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A2E2-56E7-4A9F-AB81-1CFB7FC3F9B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F4D0-6603-4032-97EB-772257222D5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FF3C2-4BE3-45DA-97F4-8DE0B869DE1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678F-BF63-4DA6-8CF1-88C705C1F83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D4A5-47C5-4CBA-AF2B-8513E44FC3E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BE83-0CA7-41EC-AB4C-887E9A66DEF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E4C4-0B39-4A7F-A6C1-0579AE85E55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CBEB-C594-4491-AB33-6574AFF443E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0C5D-2A37-4CDC-A576-B1CE8390535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3F4E-66A6-492F-ADCF-C37D89E0A65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39EA-ABB7-44E7-AFFF-FAA7FE19A2C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5768-4B1B-4D12-8F12-EE00D45B9608}"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C002-E2F0-432D-9880-548DCEEB97C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E4EC-7F11-490F-B208-FDA8DF5136E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998D-4707-475C-B90C-F8EEAE347B6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5AB2-E2BD-42B6-98BC-FA61E7FF910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