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164C6-1E6D-43B5-AE43-7A1F35AEA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BC3B1-BEDA-4B16-8850-4C9FAB371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EE757-2914-4F34-8E03-537F1A074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91BBD-77E8-4E1D-99A1-516FC7F26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5FB53-5809-4A7A-9ABF-6E7945A7B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01BCB-1F50-4E7E-9746-E888EA0D7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F6CF7-04A3-4DDA-A514-AB145D3B5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7D35E-6A83-43EE-831F-FC011A79E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A5ABA-7D39-407F-B09E-FCD3F3237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D5FD6-3907-407B-980A-881B0A68B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728C1-A71C-491B-8817-C3E2149A8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810AC-3304-495F-A51A-ECAC4612B6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D2E8A-FBB7-4E51-BD00-8D85531798A3}" type="datetime">
              <a:rPr b="0" lang="sl-SI" sz="1200" spc="-1" strike="noStrike">
                <a:solidFill>
                  <a:srgbClr val="898989"/>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5A7ED-C123-41BB-AC39-057044987E5D}"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