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72800" y="744120"/>
            <a:ext cx="46530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2D28272-F220-40AA-921A-5E0B1D7999A4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073160" y="744480"/>
            <a:ext cx="465300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grada številke diapozitiva 3"/>
          <p:cNvSpPr/>
          <p:nvPr/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ADCA033-3D43-4A83-A508-49A3A36C3B83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35D9-CC46-4B62-A298-C319681A5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DDAA-88C6-4F54-83B1-338E5675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7B05-EB57-4D7A-A82E-855139D7F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1275-B88D-47AF-ABA7-F4529DC03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1766-2FC4-489D-BAD3-5C3176D5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FD56-8888-4207-B3D5-C23DFCA3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A447-2D0B-40B4-AAF9-F86BAEAE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95E5-5CDD-449A-B970-37434A2C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64C8-4086-43CF-A322-4DCBEFB2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C0D9-79F6-4E9D-8F26-CEB8E793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913D-1160-4F02-A05D-95FC0271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4391-EF76-40F7-8FD6-5E8AB047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FC8F-7B46-47FE-BF50-FF33DFC4BA18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u-skladi.si/" TargetMode="External"/><Relationship Id="rId2" Type="http://schemas.openxmlformats.org/officeDocument/2006/relationships/hyperlink" Target="http://www.facebook.com/EUskladi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lika 3" descr="euskladi_template.bmp"/>
          <p:cNvPicPr/>
          <p:nvPr/>
        </p:nvPicPr>
        <p:blipFill>
          <a:blip r:embed="rId1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9" name="Slika 3" descr="euskladi_template1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Izvajanje 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Operativnega programa razvoja človeških virov 2007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4504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dr. Jasminka Dedi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Urad za kohezijsko politiko – Sektor za skl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Ljubljana, 28.5.20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28760" y="11574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V letu 2014 bo OU z izvajanjem projektov tehnične pomoči še naprej zagotavljal učinkovito izvajanje operativnega programa, razvojnih prioritet, prednostnih usmeritev ter operacij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izvedenih zaposlitev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usposabljanje zaposlenih na področju kohezijske politik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bveščanje javnosti v skladu s komunikacijskim načrto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študij in vrednotenj v skladu z zahtevami iz evropskih uredb in smernicami in načrtom OU za vrednotenje OP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stale aktivnosti, potrebne za učinkovito izvedbo OP (delovna srečanja, kontrole na kraju samem, organizacija dogodkov, aktivnosti upravljanja in izvajanja, financiranje usposabljanj, storitev nadgradnje IS ISARR itd.)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Tahoma"/>
                <a:ea typeface="Tahoma"/>
              </a:rPr>
              <a:t>priprave na novo programsko obdobje 2014-202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Načrt izvajanja za preostanek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34ea2"/>
                </a:solidFill>
                <a:latin typeface="Arial"/>
              </a:rPr>
              <a:t>Vprašanja, pripombe, predlogi…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14240" y="4145040"/>
            <a:ext cx="742968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34ea2"/>
                </a:solidFill>
                <a:latin typeface="Arial"/>
              </a:rPr>
              <a:t>Obiščite nas tudi n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facebook.com/EUskla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eu-skladi.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grada številke diapozitiva 1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0A2B-B248-45AE-9766-6B580B2218FB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1209600"/>
            <a:ext cx="896472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34ea2"/>
                </a:solidFill>
                <a:latin typeface="Arial"/>
              </a:rPr>
              <a:t>Napredek pri finančnem izvajanju OPRČV do 30.4.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4162320"/>
            <a:ext cx="8229600" cy="23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grada vsebine 2"/>
          <p:cNvSpPr/>
          <p:nvPr/>
        </p:nvSpPr>
        <p:spPr>
          <a:xfrm>
            <a:off x="428760" y="4157640"/>
            <a:ext cx="82296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108000" y="1425600"/>
            <a:ext cx="8856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E762-16CE-4617-913A-1CD45581147E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8000" y="849240"/>
            <a:ext cx="8785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34ea2"/>
                </a:solidFill>
                <a:latin typeface="Arial"/>
              </a:rPr>
              <a:t>Finančno izvajanje OPRČV po leti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CB83-CB93-4B4E-8A5D-C9805BC263D3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79280" y="1281240"/>
            <a:ext cx="87138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15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Potrjeni instrumenti v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065240"/>
          <a:ext cx="8429400" cy="62737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1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7538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jetno v svet podjetništva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61.4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2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Zaposli me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2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ovednik zaposlo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4.7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4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aj do znanja – Uresničevanje ciljev Strategije vzgoje in izobraževanja Romov v Sloveni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olnomočenje ranljivih skupin preko informatorjev na centrih za socialno delo Sloven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71.6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41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 karierne perspektive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2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instrument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27.8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907F-6998-4AAF-8E04-7F238CC7984D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065240"/>
          <a:ext cx="8429400" cy="55753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036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4507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z faksa takoj praks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 kreativni poti do znanja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spodbujanja podjetnosti v VIZ z namenom razvoja podjetništva med mlad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vig poklicnih kompetenc učitelj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isarna za delodajal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estrimo šo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rav življenjski sl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zivni tečaj slovenskega jezika za migr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6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olic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 za spodbujanje NVO in civilnega dialoga 2014-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5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26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instrumen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.431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3711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Izvajanje v letu 201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3840" y="1371240"/>
            <a:ext cx="821556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349"/>
              </a:spcBef>
              <a:buClr>
                <a:srgbClr val="034ea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Obveščanje javnost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pletna stran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skladi.s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ocialno omrežje Facebook: 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acebook.com/EUsklad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Dogodk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U Javne razprave o novi finančni perspektiv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znanja in trga del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okolja, urbanega razvoja, kmetijstva in ribištv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vključujoče družb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pravne države, učinkovitega javnega sektorja in nevladnih organizaci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srečanja Višegrajske skupi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IQ konferen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Veliki informativni dogodek »Razvojni potencial v Zasavski regiji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dogodka v okviru Pop-up doma v Tobač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E-kohezijski kotič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34ea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Upravljanje in izvajanje program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financiranje zaposlitev iz sredstev tehnične pomoči pri upravičencih, vključenih v izvajanje OP RČV, (SVRK, MGRT, MDDSZ, JSRKŠ, ZRSZ, MIZŠ, MNZ, MK, SPIRIT, MZ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usposabljanja, delavnice za delo na področju evropske kohezijske politike in delovna srečanja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razvoj in nadgradnja informacijskega sistema za spremljanje in vrednotenje – ISAR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Kazalniki (presečni datum 31.12.20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4481640" y="-4734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30178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79280" y="1714680"/>
            <a:ext cx="84963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sminka Dedić</cp:lastModifiedBy>
  <dcterms:modified xsi:type="dcterms:W3CDTF">2014-05-29T06:59:02Z</dcterms:modified>
  <cp:revision>202</cp:revision>
  <dc:subject/>
  <dc:title>Naslov</dc:title>
</cp:coreProperties>
</file>