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Lst>
  <p:sldSz cx="9144000" cy="73152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15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7" name="PlaceHolder 2"/>
          <p:cNvSpPr>
            <a:spLocks noGrp="1"/>
          </p:cNvSpPr>
          <p:nvPr>
            <p:ph type="dt" idx="7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58" name="PlaceHolder 3"/>
          <p:cNvSpPr>
            <a:spLocks noGrp="1"/>
          </p:cNvSpPr>
          <p:nvPr>
            <p:ph type="sldImg"/>
          </p:nvPr>
        </p:nvSpPr>
        <p:spPr>
          <a:xfrm>
            <a:off x="1073160" y="744120"/>
            <a:ext cx="4651200" cy="3722760"/>
          </a:xfrm>
          <a:prstGeom prst="rect">
            <a:avLst/>
          </a:prstGeom>
          <a:noFill/>
          <a:ln w="12600">
            <a:solidFill>
              <a:srgbClr val="000000"/>
            </a:solidFill>
            <a:miter/>
          </a:ln>
        </p:spPr>
        <p:txBody>
          <a:bodyPr lIns="90000" rIns="90000" tIns="46800" bIns="4680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5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60" name="PlaceHolder 5"/>
          <p:cNvSpPr>
            <a:spLocks noGrp="1"/>
          </p:cNvSpPr>
          <p:nvPr>
            <p:ph type="ftr" idx="7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1" name="PlaceHolder 6"/>
          <p:cNvSpPr>
            <a:spLocks noGrp="1"/>
          </p:cNvSpPr>
          <p:nvPr>
            <p:ph type="sldNum" idx="7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42743-6A76-4243-A96C-39B43349F2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73160" y="744480"/>
            <a:ext cx="4651200" cy="3722760"/>
          </a:xfrm>
          <a:prstGeom prst="rect">
            <a:avLst/>
          </a:prstGeom>
          <a:ln w="0">
            <a:noFill/>
          </a:ln>
        </p:spPr>
      </p:sp>
      <p:sp>
        <p:nvSpPr>
          <p:cNvPr id="11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Arial"/>
            </a:endParaRPr>
          </a:p>
        </p:txBody>
      </p:sp>
      <p:sp>
        <p:nvSpPr>
          <p:cNvPr id="1181"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1CB998E-66AC-4B52-8103-6DCE6A6EC7B2}"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1473F2-5C5B-41CB-ADAF-856580915F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84861A6A-FD3D-44C9-BCBC-137360F2915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BF42C32-F92A-4554-9848-3D6BDFC1ED7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D1B172C-CA75-44FF-88FF-A8CF114305C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05CB050-4A6D-44C6-8350-674AAED0464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AB8AE7F-954C-4167-9DDB-64B65D977AB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6EEDD70-5AD9-4DAF-B8A4-496673D9CB7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F7C63D4-D247-4485-BC76-6612E22F092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1B72B2E-9E60-47B0-8AEF-BF8F79A8EB2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80CC31F0-FEF6-48C1-8589-A687A69AE2F5}"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2A14F9C1-0653-4AE6-B515-F8E494096A6A}"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0A47B19E-57A3-4B54-B83D-D6886A91F82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sldNum" idx="1"/>
          </p:nvPr>
        </p:nvSpPr>
        <p:spPr/>
        <p:txBody>
          <a:bodyPr/>
          <a:p>
            <a:fld id="{01D0E628-CB68-4E05-A4AA-14B4181D726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642CAA2-AF66-42B7-8A70-089E8DAC273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1D24037-D763-481B-9B48-F8DA9F52F1D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9272184D-2018-4B5A-AA04-0C8D0FC4475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D9BD780C-47E9-4A4D-8752-F4CECD8F5D4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F1551C4B-C07C-4DC2-A555-4222F0A72B6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8F1AE4D-F49E-4153-B36D-A0C5F579C93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0F8D691-E38A-4750-9359-80854D516F7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05FEBF2-2387-4932-B6F4-DAC3D317EE5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14ABC10-5D13-425F-9EB0-3E11BCE346F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0B0319E1-A4F4-4FF7-9B82-A27E1A87689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sldNum" idx="1"/>
          </p:nvPr>
        </p:nvSpPr>
        <p:spPr/>
        <p:txBody>
          <a:bodyPr/>
          <a:p>
            <a:fld id="{B34A6136-BBF5-4B7C-8AE5-FD2E6A60DF8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2E6885E7-E234-4EC6-97EF-0F1A18503C9E}"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7E198654-6EB3-42F2-A192-7611B0FD9C3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A2C6E99D-8686-40CF-84F5-104A10F538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F985DF20-6979-4C19-B786-795E94241A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DB4F1A66-C718-46D4-A171-71BEB59F0A9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F109C38D-9A92-4897-AF7D-718A4B2FF79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C772B2B7-AE49-4840-B7F0-C59C43E92A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7206D44A-B827-4900-AE59-0D1320E2B5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5B143CC-D506-4BAF-BEB4-F6D0DD48B0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616BC37-73BE-4C3E-8057-F039D375D3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AFD2B4E-8B9E-4D15-A0B0-A973129FE6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1DABDBF6-5E56-46FF-B0DB-C868D83ACD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458D6DBC-E784-4DE8-B3CE-2D3943B935C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AD63EB26-982F-4EF8-91E6-7136675B338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09DB296E-9F9F-4B4E-832E-84132A5CFE3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97A3E08D-8026-4585-A94B-A0379A65EF8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7D52B66E-8475-4E38-A9B9-2B7B54D61D3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5181E28F-AC5A-4D34-BE41-7B8620498D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8C37D2A6-934B-48A9-923C-54D36A91E9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1A5938A9-022F-4E99-B859-7806DC8123E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A5DA2EB4-DD52-4A1B-8BFB-E259177957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A573498-0555-4C2A-9CDC-96F150C2EA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6B03BC9-8DC8-4EB9-9756-BFC2118E1A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676EF9D-E0D7-4361-8E95-4CEC2BE30E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51DC952D-6DB4-49AA-AC20-94E306CB34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66E2747D-82DC-44E9-93B2-7FE765E536A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1E411729-8E6B-4EBD-A94D-631BC5A8A07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A03A19DA-AA5D-4D76-BF22-C49F9EA1037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23E7FFC1-4D8D-410B-B738-CF2498D514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695FDE33-D08B-4B71-B9A4-9F59ABC3C0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9847E6D3-4456-4D3A-A38C-AE36D990D1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4149ADB1-F045-442F-8C60-23DB7E14D5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136A190-0568-4B91-87B4-1DDEE569F1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9641A3F9-EE8D-4286-B7C4-C5780E6873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0132140A-2B65-45A7-B6A7-321283F779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0514CE8A-FD84-4F4E-99D8-C4BF8DC231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F31F202-6273-42CE-A640-3368DBFFE1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DC67A6D2-699C-4026-838F-E7E450C22BF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2C053336-D699-4C4D-AFC0-C80220A9E56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E9050C67-1D84-4D0A-B679-07AD9442855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9165D61E-1D9B-4D9E-9110-BA7D8BF875E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38125D19-8913-4DF9-939F-DB274E5C47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DA9877F5-031D-456A-95AE-5F56A82B71E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6D86740-7C62-416C-A52D-7CB905B890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69BC646E-605C-4AE6-A6A2-73E2A522BBA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C0AC7EAE-DFE3-4780-8959-00965B9AD7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8857A742-4639-4FEC-9A74-60AC7CAD95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B3846892-FBE0-4F80-B26C-225305DDDF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22861392-090C-46D3-8F68-63491194A6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598DC973-9411-4284-9EBA-4B75BEA5D2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CED8D2C6-799F-421E-818E-59FCF2B174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0C1ACD7C-75C4-4C5E-B379-A695EE962EA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7FBDFAA5-A129-4C93-BB49-4543A7B14AF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CE34E168-1F23-4F72-984A-C7332A35FC8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4BAFBC6-28A2-49AB-AE64-0F3BCC3161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466473F2-BA6F-431E-9BAB-48BA7921DCE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510DA43F-1208-4BD5-BAA2-BD5BC7D65F7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9469BD5E-9D5B-4B04-BFEA-E73A98F5CED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45FC95A2-834E-4778-A264-BB4D6C1FB9B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4D07AC82-EF12-4A10-BB7C-4876E8B4C2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D36AE647-6168-40EA-B6D2-78E7B4E2A2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E9E84F1B-13A6-46EB-88FA-CA92936258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FE3DA4E3-BF29-480B-94CF-7C24CC1900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3C23FF41-C0A2-44DE-8A0E-8EAB546765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F123D60B-A611-4C1A-858B-5AD76B09634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96BF00D-9EF3-42EA-8D2D-867E561CEF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F59D8A02-662D-44AC-BB21-3EE6F6F0942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39CDBB1F-BA70-42CE-B82D-C0BD0EAE947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D98584A4-AABB-4073-A082-7342110AEB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BA516512-2E6E-439D-8C63-CE0693B37BD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C5965EF4-1B0B-43CC-82C1-19E6DEAF027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6762F927-C69B-4827-95AD-9B22BFB5D3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714F407B-4DBA-4BC6-9DB6-6C629A6F298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AFB51797-E8F1-4130-BD04-7DF7710605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300CEA0C-BD3D-41DB-8D30-0B0E3818D8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63A6EE60-658B-4F30-81E7-1432D00C18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2AE828D-8E00-42C4-BB08-868DADA3B2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3EF235F3-02CA-409D-89F5-8832E0E2FEF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6F52202D-CF3A-4183-B603-18C6DBB0C30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4C61050B-0331-4307-B3BF-BF197B53022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08E24EE5-EB49-4E82-8832-CC0A14062D2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42CA8A03-9C8F-4998-A5D4-11FB240246A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9F749B48-FF1F-4BD8-97CC-DE01313AE30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6B09B7CE-3119-4F19-ABE4-D1454F0A654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CF0E7944-5095-4E9C-91A8-3AE8A793D87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4D47D166-1632-4BFB-826D-6FC225AC6D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AB9FF58E-38DC-43BF-9FBA-E744063913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CA54CFB0-9E5A-4A02-B4A1-D76045C231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9CF68CB-F4AB-408E-BAD3-DA766C323B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C01B4B38-2054-4FC4-979C-810C60EC34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72BE614D-D0AE-4F28-946C-A2D48B0722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83BE7125-85E5-47FB-82C2-C6F96B0FC2B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D2DF8A28-461B-4F1B-B529-D6570B975EE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71C6422B-E3B2-442F-AE61-0E56F1E8F25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8C8DA1E6-6C2B-4EF3-B0EA-8B28E8B87969}"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94446C92-21D0-4B6B-9498-CCA48EC5C1AD}"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858339B3-9230-4F74-926B-5DF8ABB2F0C8}"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499F964C-8CE1-476A-984B-CD8251FC6DC0}"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8502351A-A3A1-4BA7-BE80-ABA78872F933}"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38BEC31-8488-447B-B5CC-6773CF0E0A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98156607-A91E-4144-BE06-0FF968B2CCE9}"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2E29AD1A-8B4E-4BCF-875F-F27CE26E3418}"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84E1ABA8-AEB0-444B-AB60-08C17E9BDBC0}"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5DF59A5A-0A5F-42F6-967E-5416B1259DEC}"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7FF4C532-D8A9-4DD4-A4E1-650A56E6A686}"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247BE5EE-313A-4960-AFA8-E07B0FD33431}"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1F92C577-549E-4966-8837-4C1784DBAC21}"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0CF31801-69B2-4E59-9C03-C22219703A1D}"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40EF3985-F811-4A66-AA59-3A3712B55828}"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EA54CAE2-7091-405B-8F57-B069F7068EB5}"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B573CAB-04AC-4982-B3CD-7B9ECF19C0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D30330A5-DC98-4D3F-B8BF-9EF828433215}"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D4E158AF-2D1C-40CF-985C-3110EDB2D7BD}"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77A2DCF8-1964-4EAC-82C1-54BD1F41EE34}"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C9CE04A6-D7F0-4ACC-A0EB-A49B53691C08}"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1A6A1282-F94C-4BBD-9DB5-7624A2184687}"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01816BFD-9BE3-466F-8DDF-687289722E64}"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980A0A10-2012-4435-A09E-022802C1AE87}"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D692718B-F09F-4D4F-B298-AD89F9664C30}"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4C3A6DCD-1245-45C8-979A-B5F90F64626A}"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153317C4-2055-4817-9A9D-FCE347A4DA59}"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C7245F0-5B1B-4071-B46D-66D8D144E63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6A12424E-0C6B-42AC-85A4-97D1EE4BAAC1}"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E22DF914-62C6-4588-BF5D-465F55B6B812}"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E009545F-0CA4-41B4-ACD7-206F40761F1D}"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396EF0A1-2E9B-4E77-A7A5-2E9495143277}"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292EF156-2C2D-4B7C-B231-77D7798A090C}"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232C76BF-F14A-4E70-8EFB-A7BE1067931C}"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72C3AED0-1CD7-4D39-977F-74283CB87472}"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A9700663-D931-485C-B97F-E768EC12B470}"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7A4F88BC-6F83-4995-84DC-5A2B4152E068}"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66E1595D-D9A9-48AF-BB3F-86B9406EEFE5}"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30C3C27-0B88-4394-BF7B-E788E139A46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02A591A2-C41B-4083-9360-C55675B4A592}"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447B0BDB-71C6-4ABE-A6D6-C461483C4619}"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4169C4D9-C6BB-44A5-A510-D30094DD7E55}"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DEC2B8CF-4CC8-4C76-8999-E38F895E3FB0}"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23CE511D-C648-416D-B6D7-2E8586C1969B}"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C7885F5F-D0E2-4AFF-92A1-9749DF4A2826}"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043D5072-26E4-4236-ACDA-2CE83696E584}"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BD1116F8-BB67-4159-B6A6-9FA1B58A6750}"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8A3320D9-7D8A-4109-ABAC-1AF38155CA5E}"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B5E1044B-4EF0-4C70-ACFE-AE2C29226FE2}"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62C764D-142F-4433-9F00-DA3F592EFDF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698074A1-E2B6-4287-B41B-DD48CB4EE2BA}"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F88B3CD2-DD63-4644-813E-608C3A7F7B0C}"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8F643BB1-0321-45A1-93CF-1308AA682528}"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A6E5C0AD-553F-443C-A072-F53CE819C626}"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12FCAD30-F1AB-42F5-B70D-11AD9A91234D}"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4B920BFE-AAED-4935-A30E-DA79A9C8E1F0}"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9974324C-29AA-4AB7-B017-3FCEA6A25D4A}"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0642105B-8B0B-4A00-A1FF-7117B853854A}"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5BABF3FA-0AB7-4D48-B983-95A9C4C6BEA0}"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988D1152-9DDC-4B35-8678-C386D7E7AB7A}"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F20B28C-4053-40FE-937B-6ABA06A9913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11A16BB1-136E-4B41-88CF-7E8218F40EC0}"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438F108D-36F1-4D24-B94D-83AACAD397A0}"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3FA956C2-8BF0-4D90-B3AC-23570D5CA82C}"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7D54244C-5AE1-4AF4-B82F-20140B149269}"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BA9A7229-7B9D-49B4-BACA-ACFD73C602CD}"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95D00884-AC0F-4653-8950-16460487B87A}"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6453E25E-6EF5-483B-8D36-73F16C6BEBB7}"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B978BAB5-6B82-4CB4-9E10-A16CF1B53463}"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48EEDDB2-4E5D-4F1D-B3E8-05D3A26576AF}"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F37ECC30-BD33-4022-A4FD-9AE8B83B790D}"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6278951-B29E-4F46-A149-7397693C33A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A688A41E-5457-4A46-83F8-E6E68C31D430}"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5AA53B3B-587E-4D0E-9167-4F8331FDBD79}"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E1954997-06E9-453E-B77E-32B9234E676D}"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C87C8710-D29F-4B2D-A08F-4FCEFDD1A34F}"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637F2154-4323-4B69-87A0-74A83E592CF8}"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F7FF7E94-9AF3-42EC-9260-7293A12B0504}"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68364D68-BFF7-47E3-B6E7-BA8A57A49F52}"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EDA4BBF8-621A-4C6E-9EF4-E3BBC4235FED}"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93FF1639-A58B-4F98-9332-3BBA298ECEB8}"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C075DD93-F653-48F7-AB1F-6CF6C01ECB99}"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CEF357B-D047-47F8-8D70-5EE3DA64DBE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D3FD065E-2069-423D-BE68-365B2CA572E3}"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4697845F-C6E9-4112-A864-DC438D1D4842}"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24E983A8-3486-4533-915F-8071CF612A43}"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CA2597A1-72B6-4281-959A-F0120505478F}"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C56C4671-45D3-4F2A-A37D-5C83EAAF2D5D}"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F643AFB8-CA71-4E16-8161-D88099AC92EF}"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1A52D2B6-7687-4EEA-87D5-139489F0177E}"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F990D1E6-D970-4638-935B-C55794D18F18}"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23AF714F-24FA-4510-AD33-CE6B78926491}"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3D18200C-A98A-4D35-8C71-85AF8C36C632}"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10F7028-CF8B-48BF-A22D-4B59F5B5E3E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A9B0FF55-BA75-4F3C-8B69-F576A9128418}"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6BFFD16D-1750-436E-AA70-2B09E56ED7D8}"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75889F3F-56C7-4F12-B4E6-647E988D719A}"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54602525-5482-432E-9CA6-87BBF888E5E1}"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F119FECD-D97F-49CF-A663-023DC7B6953F}"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5DC7EAFB-845D-48D5-BC81-7A8C770895F2}"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1E342F89-B669-45AC-96B9-783B1DCE39DF}"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BA06A55C-0B0A-4BD8-A4C8-A333ACAAE759}"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6E7F4D2C-6146-42B2-9457-19D602EB71E1}"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9623F85C-7E22-4566-B5B3-15B6DFD6BC1A}"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1D2DBD5F-FDA2-4EC5-83DC-16DE3A17AA8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B051976-E73C-4C37-A4E2-999DFEEE452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6FEF46D3-EB3F-4CA9-8348-0F82CD356F3D}"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9F198C4-52FB-4C83-B4FC-FC40297B020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8D48EA5-9B52-4B8B-B455-657268E3DA8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1C8BB2F-0B75-484F-8BDC-4EE8EDDB66B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FEAF73D-619C-445E-BEE4-11EE9B54845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BF8CAF7D-9A4C-4210-80AF-CF1D4D6350B9}"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99B1766-D8B4-4080-9E39-0E4F8F353E6A}"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4611700E-1236-4E9A-8E22-93C935D1558F}"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2C821F7-4779-4428-BF73-A47EBF4B1EB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FE785F7-C862-4BFE-BE01-8532C7DC782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C4308C28-DDA1-42B3-AA6A-136FED2DFBB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558446F-CB72-4A9D-B778-B798898D8BF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7C8E4C1-B137-4F11-8BA4-CBE7502FB88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85296A1-0CA8-4501-BEEE-7353C9BDAE4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C2F3974-5A7B-448C-A099-81B02170294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7F49A21-457D-456D-93B4-0131FA33045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770587D-61A8-44CF-B338-78DA97DF88C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38B6919-5813-4787-9DDE-6BC84626EBE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A87CE052-67D3-4BFE-94E5-0A4FA8171BA3}"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48B03438-BE00-4A4B-BE7E-27DC129EF0F1}"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C6D4DC44-C910-4907-977F-0522EFD454C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sldNum" idx="1"/>
          </p:nvPr>
        </p:nvSpPr>
        <p:spPr/>
        <p:txBody>
          <a:bodyPr/>
          <a:p>
            <a:fld id="{A7851D8B-9C1D-4369-BFF4-5C82E173767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D25885A-A4A7-4FA3-A5EB-0FB6F9229C8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6D9A779-2DCB-4983-91F2-43BA72D7727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A3D14A1-07BE-4DC8-8054-D4EBB85388D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AD18885-A732-4DE6-B5FD-400A4952572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45F1459-0BDE-497C-853A-26ACDDD950C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46566E0-D041-408C-82A6-7F8ECDE9CCF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8426F16-07DF-4E23-B80D-9B26994AE0A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D2BFEA6-D680-43F5-A86A-329C0E4B4EC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C40B87E-66AD-4518-85E2-0A3CA68C928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07442EB1-453B-4923-8BC3-2A4C24DFF54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sldNum" idx="1"/>
          </p:nvPr>
        </p:nvSpPr>
        <p:spPr/>
        <p:txBody>
          <a:bodyPr/>
          <a:p>
            <a:fld id="{3BD1CD11-62AE-4A1D-A0D4-D5A53B1DD46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D773D8F4-52B4-4FFF-9212-97219B6EF29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891D919C-AE92-439C-9FA8-FA77D8856A3A}"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7C2480A-3ADB-41B7-8B13-5ACBCEA64ED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624C30C-EF3D-4F0B-A5B1-B27C0ED1748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D3F57A2-1C4E-42F8-BA15-35860687834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84764C7-EABE-4579-9244-DEBA9039394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E412791-F0CB-4DB9-8646-525B7D17982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CCC7348-088B-4179-9724-9CCFD22C798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E1FCB9B-4B17-4E33-BA0B-1DA2F5CBD1E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E16BE8A-2183-415E-BAB5-250CDA92764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B8799C01-3C04-490F-ADB4-9FED94484C0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1BAFEE7-E964-4A9E-8201-05AD13FD543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48310D16-BA92-4643-99BE-2AD267C68F39}"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89F6BADA-35CB-4663-9746-DC08561684F8}"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6513C12A-9199-4E07-ADEE-BF0B231C642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38F67B2-3E32-4FE3-9EA8-BE444AE1152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8AE05B6-8515-400A-9ED1-40E9A920055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D38DFF6-4B1B-4AC3-A309-A28AD32E825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0B6CDDB-C747-4E8A-AFEF-8F4A9940B9D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843A1A4-1CAC-4C5B-A43E-3FBE47BFD2A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D5E6C23-3F1C-4233-9683-7F1698552D6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DEE6BC24-7C51-4881-B36D-F06708833F7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BE3B3C2-F665-49FD-B0DE-9E09E8DDB27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37DC1D7-51B4-4E41-A53C-92DE3BE44EE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7DCE2A9-5D49-45B1-B67E-7DA911C14D1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98618BEB-9EB6-4BB0-B615-84F146AF273F}"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7303E165-36B8-4B1E-A964-CAFF0EF91C1F}"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5F095A8F-6546-4F94-AC9A-E4AE394F61F6}"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536DD2F-FE06-491B-807B-B3F88832193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9C1A092-3418-4B13-839D-E0016AAF141D}"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14F13AA-B923-471E-9230-EC8C3E22F92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9A55B8A-822B-452D-89EC-EA81CFB5A32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3DE21667-9297-4AD5-A1BD-DEAE79D6E16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D59C1B4-95BA-403C-B3E0-850623F13B9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318CFA8-87FC-4CCE-94DF-9EB91600603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A98F369-9FD0-418D-9420-8753D8D2C60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45DE7CC-CCBD-4323-BFFE-425162231EA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83A02C0-9CC9-4B23-9607-AF8877174A2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31A66E6B-8FE4-4946-AE19-037F8F0066DD}"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74C46D20-F32D-4A25-9174-6456A69FCF0B}"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127CEBCB-6ABB-47BA-93DF-FFF5D7D98C9C}"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FBAD1A6-0E38-4619-B531-29C67B1356F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41683F38-8830-4E3F-92DC-B361618DD5D4}"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7.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06400"/>
            <a:ext cx="8229600" cy="5608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6607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104B7-101B-41F7-908F-FA0D2C6ACE3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5" name="Pravokotni trikotnik 13"/>
          <p:cNvGrpSpPr/>
          <p:nvPr/>
        </p:nvGrpSpPr>
        <p:grpSpPr>
          <a:xfrm>
            <a:off x="-6480" y="6175440"/>
            <a:ext cx="3402000" cy="1152360"/>
            <a:chOff x="-6480" y="6175440"/>
            <a:chExt cx="3402000" cy="1152360"/>
          </a:xfrm>
        </p:grpSpPr>
        <p:pic>
          <p:nvPicPr>
            <p:cNvPr id="416" name="Pravokotni trikotnik 13" descr=""/>
            <p:cNvPicPr/>
            <p:nvPr/>
          </p:nvPicPr>
          <p:blipFill>
            <a:blip r:embed="rId2"/>
            <a:stretch/>
          </p:blipFill>
          <p:spPr>
            <a:xfrm>
              <a:off x="-6480" y="6175440"/>
              <a:ext cx="3402000" cy="1152360"/>
            </a:xfrm>
            <a:prstGeom prst="rect">
              <a:avLst/>
            </a:prstGeom>
            <a:ln w="0">
              <a:noFill/>
            </a:ln>
          </p:spPr>
        </p:pic>
        <p:sp>
          <p:nvSpPr>
            <p:cNvPr id="41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18" name="Raven povezovalnik 14" descr=""/>
          <p:cNvPicPr/>
          <p:nvPr/>
        </p:nvPicPr>
        <p:blipFill>
          <a:blip r:embed="rId3"/>
          <a:stretch/>
        </p:blipFill>
        <p:spPr>
          <a:xfrm>
            <a:off x="-19080" y="6168960"/>
            <a:ext cx="3414600" cy="1170000"/>
          </a:xfrm>
          <a:prstGeom prst="rect">
            <a:avLst/>
          </a:prstGeom>
          <a:ln w="0">
            <a:noFill/>
          </a:ln>
        </p:spPr>
      </p:pic>
      <p:sp>
        <p:nvSpPr>
          <p:cNvPr id="4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2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21" name="PlaceHolder 3"/>
          <p:cNvSpPr>
            <a:spLocks noGrp="1"/>
          </p:cNvSpPr>
          <p:nvPr>
            <p:ph type="dt" idx="2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4"/>
          <p:cNvSpPr>
            <a:spLocks noGrp="1"/>
          </p:cNvSpPr>
          <p:nvPr>
            <p:ph type="ftr" idx="2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5"/>
          <p:cNvSpPr>
            <a:spLocks noGrp="1"/>
          </p:cNvSpPr>
          <p:nvPr>
            <p:ph type="sldNum" idx="2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9A86D-DC68-4A1B-8CC1-DC21686B516F}"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62" name="PlaceHolder 3"/>
          <p:cNvSpPr>
            <a:spLocks noGrp="1"/>
          </p:cNvSpPr>
          <p:nvPr>
            <p:ph type="dt" idx="2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4"/>
          <p:cNvSpPr>
            <a:spLocks noGrp="1"/>
          </p:cNvSpPr>
          <p:nvPr>
            <p:ph type="ftr" idx="3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5"/>
          <p:cNvSpPr>
            <a:spLocks noGrp="1"/>
          </p:cNvSpPr>
          <p:nvPr>
            <p:ph type="sldNum" idx="3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1B030-3ED5-40F8-B1DF-67A9F130E696}"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1"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2"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03" name="Pravokotni trikotnik 15"/>
          <p:cNvGrpSpPr/>
          <p:nvPr/>
        </p:nvGrpSpPr>
        <p:grpSpPr>
          <a:xfrm>
            <a:off x="-6480" y="6175440"/>
            <a:ext cx="3402000" cy="1152360"/>
            <a:chOff x="-6480" y="6175440"/>
            <a:chExt cx="3402000" cy="1152360"/>
          </a:xfrm>
        </p:grpSpPr>
        <p:pic>
          <p:nvPicPr>
            <p:cNvPr id="504" name="Pravokotni trikotnik 15" descr=""/>
            <p:cNvPicPr/>
            <p:nvPr/>
          </p:nvPicPr>
          <p:blipFill>
            <a:blip r:embed="rId3"/>
            <a:stretch/>
          </p:blipFill>
          <p:spPr>
            <a:xfrm>
              <a:off x="-6480" y="6175440"/>
              <a:ext cx="3402000" cy="1152360"/>
            </a:xfrm>
            <a:prstGeom prst="rect">
              <a:avLst/>
            </a:prstGeom>
            <a:ln w="0">
              <a:noFill/>
            </a:ln>
          </p:spPr>
        </p:pic>
        <p:sp>
          <p:nvSpPr>
            <p:cNvPr id="50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06" name="Raven povezovalnik 16" descr=""/>
          <p:cNvPicPr/>
          <p:nvPr/>
        </p:nvPicPr>
        <p:blipFill>
          <a:blip r:embed="rId4"/>
          <a:stretch/>
        </p:blipFill>
        <p:spPr>
          <a:xfrm>
            <a:off x="-19080" y="6168960"/>
            <a:ext cx="3414600" cy="1170000"/>
          </a:xfrm>
          <a:prstGeom prst="rect">
            <a:avLst/>
          </a:prstGeom>
          <a:ln w="0">
            <a:noFill/>
          </a:ln>
        </p:spPr>
      </p:pic>
      <p:sp>
        <p:nvSpPr>
          <p:cNvPr id="507"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1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11" name="PlaceHolder 3"/>
          <p:cNvSpPr>
            <a:spLocks noGrp="1"/>
          </p:cNvSpPr>
          <p:nvPr>
            <p:ph type="dt" idx="3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4"/>
          <p:cNvSpPr>
            <a:spLocks noGrp="1"/>
          </p:cNvSpPr>
          <p:nvPr>
            <p:ph type="ftr" idx="3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5"/>
          <p:cNvSpPr>
            <a:spLocks noGrp="1"/>
          </p:cNvSpPr>
          <p:nvPr>
            <p:ph type="sldNum" idx="3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C873C-67A1-4997-8417-8664D00EB68A}"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52" name="Pravokotni trikotnik 13"/>
          <p:cNvGrpSpPr/>
          <p:nvPr/>
        </p:nvGrpSpPr>
        <p:grpSpPr>
          <a:xfrm>
            <a:off x="-6480" y="6175440"/>
            <a:ext cx="3402000" cy="1152360"/>
            <a:chOff x="-6480" y="6175440"/>
            <a:chExt cx="3402000" cy="1152360"/>
          </a:xfrm>
        </p:grpSpPr>
        <p:pic>
          <p:nvPicPr>
            <p:cNvPr id="553" name="Pravokotni trikotnik 13" descr=""/>
            <p:cNvPicPr/>
            <p:nvPr/>
          </p:nvPicPr>
          <p:blipFill>
            <a:blip r:embed="rId2"/>
            <a:stretch/>
          </p:blipFill>
          <p:spPr>
            <a:xfrm>
              <a:off x="-6480" y="6175440"/>
              <a:ext cx="3402000" cy="1152360"/>
            </a:xfrm>
            <a:prstGeom prst="rect">
              <a:avLst/>
            </a:prstGeom>
            <a:ln w="0">
              <a:noFill/>
            </a:ln>
          </p:spPr>
        </p:pic>
        <p:sp>
          <p:nvSpPr>
            <p:cNvPr id="55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55" name="Raven povezovalnik 14" descr=""/>
          <p:cNvPicPr/>
          <p:nvPr/>
        </p:nvPicPr>
        <p:blipFill>
          <a:blip r:embed="rId3"/>
          <a:stretch/>
        </p:blipFill>
        <p:spPr>
          <a:xfrm>
            <a:off x="-19080" y="6168960"/>
            <a:ext cx="3414600" cy="1170000"/>
          </a:xfrm>
          <a:prstGeom prst="rect">
            <a:avLst/>
          </a:prstGeom>
          <a:ln w="0">
            <a:noFill/>
          </a:ln>
        </p:spPr>
      </p:pic>
      <p:sp>
        <p:nvSpPr>
          <p:cNvPr id="5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5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58" name="PlaceHolder 3"/>
          <p:cNvSpPr>
            <a:spLocks noGrp="1"/>
          </p:cNvSpPr>
          <p:nvPr>
            <p:ph type="dt" idx="3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4"/>
          <p:cNvSpPr>
            <a:spLocks noGrp="1"/>
          </p:cNvSpPr>
          <p:nvPr>
            <p:ph type="ftr" idx="3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PlaceHolder 5"/>
          <p:cNvSpPr>
            <a:spLocks noGrp="1"/>
          </p:cNvSpPr>
          <p:nvPr>
            <p:ph type="sldNum" idx="3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06450-9F97-43A9-A1E5-9FFC4FC9EB4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99" name="Pravokotni trikotnik 13"/>
          <p:cNvGrpSpPr/>
          <p:nvPr/>
        </p:nvGrpSpPr>
        <p:grpSpPr>
          <a:xfrm>
            <a:off x="-6480" y="6175440"/>
            <a:ext cx="3402000" cy="1152360"/>
            <a:chOff x="-6480" y="6175440"/>
            <a:chExt cx="3402000" cy="1152360"/>
          </a:xfrm>
        </p:grpSpPr>
        <p:pic>
          <p:nvPicPr>
            <p:cNvPr id="600" name="Pravokotni trikotnik 13" descr=""/>
            <p:cNvPicPr/>
            <p:nvPr/>
          </p:nvPicPr>
          <p:blipFill>
            <a:blip r:embed="rId2"/>
            <a:stretch/>
          </p:blipFill>
          <p:spPr>
            <a:xfrm>
              <a:off x="-6480" y="6175440"/>
              <a:ext cx="3402000" cy="1152360"/>
            </a:xfrm>
            <a:prstGeom prst="rect">
              <a:avLst/>
            </a:prstGeom>
            <a:ln w="0">
              <a:noFill/>
            </a:ln>
          </p:spPr>
        </p:pic>
        <p:sp>
          <p:nvSpPr>
            <p:cNvPr id="60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02" name="Raven povezovalnik 14" descr=""/>
          <p:cNvPicPr/>
          <p:nvPr/>
        </p:nvPicPr>
        <p:blipFill>
          <a:blip r:embed="rId3"/>
          <a:stretch/>
        </p:blipFill>
        <p:spPr>
          <a:xfrm>
            <a:off x="-19080" y="6168960"/>
            <a:ext cx="3414600" cy="1170000"/>
          </a:xfrm>
          <a:prstGeom prst="rect">
            <a:avLst/>
          </a:prstGeom>
          <a:ln w="0">
            <a:noFill/>
          </a:ln>
        </p:spPr>
      </p:pic>
      <p:sp>
        <p:nvSpPr>
          <p:cNvPr id="60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0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05" name="PlaceHolder 3"/>
          <p:cNvSpPr>
            <a:spLocks noGrp="1"/>
          </p:cNvSpPr>
          <p:nvPr>
            <p:ph type="dt" idx="3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PlaceHolder 4"/>
          <p:cNvSpPr>
            <a:spLocks noGrp="1"/>
          </p:cNvSpPr>
          <p:nvPr>
            <p:ph type="ftr" idx="3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PlaceHolder 5"/>
          <p:cNvSpPr>
            <a:spLocks noGrp="1"/>
          </p:cNvSpPr>
          <p:nvPr>
            <p:ph type="sldNum" idx="4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CFACD-CC21-4661-9311-8E81A4A889A2}"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45" name="Skupina 15"/>
          <p:cNvGrpSpPr/>
          <p:nvPr/>
        </p:nvGrpSpPr>
        <p:grpSpPr>
          <a:xfrm>
            <a:off x="-3240" y="5283360"/>
            <a:ext cx="9147240" cy="2039760"/>
            <a:chOff x="-3240" y="5283360"/>
            <a:chExt cx="9147240" cy="2039760"/>
          </a:xfrm>
        </p:grpSpPr>
        <p:sp>
          <p:nvSpPr>
            <p:cNvPr id="646"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7"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48" name="Prostoročno 18"/>
            <p:cNvGrpSpPr/>
            <p:nvPr/>
          </p:nvGrpSpPr>
          <p:grpSpPr>
            <a:xfrm>
              <a:off x="8640" y="5334120"/>
              <a:ext cx="9135360" cy="1989000"/>
              <a:chOff x="8640" y="5334120"/>
              <a:chExt cx="9135360" cy="1989000"/>
            </a:xfrm>
          </p:grpSpPr>
          <p:pic>
            <p:nvPicPr>
              <p:cNvPr id="649" name="Prostoročno 18" descr=""/>
              <p:cNvPicPr/>
              <p:nvPr/>
            </p:nvPicPr>
            <p:blipFill>
              <a:blip r:embed="rId2"/>
              <a:stretch/>
            </p:blipFill>
            <p:spPr>
              <a:xfrm>
                <a:off x="8640" y="5334120"/>
                <a:ext cx="9135360" cy="1989000"/>
              </a:xfrm>
              <a:prstGeom prst="rect">
                <a:avLst/>
              </a:prstGeom>
              <a:ln w="0">
                <a:noFill/>
              </a:ln>
            </p:spPr>
          </p:pic>
          <p:sp>
            <p:nvSpPr>
              <p:cNvPr id="650"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51" name="Raven povezovalnik 19" descr=""/>
            <p:cNvPicPr/>
            <p:nvPr/>
          </p:nvPicPr>
          <p:blipFill>
            <a:blip r:embed="rId3"/>
            <a:stretch/>
          </p:blipFill>
          <p:spPr>
            <a:xfrm>
              <a:off x="-3240" y="5321880"/>
              <a:ext cx="9147240" cy="860040"/>
            </a:xfrm>
            <a:prstGeom prst="rect">
              <a:avLst/>
            </a:prstGeom>
            <a:ln w="0">
              <a:noFill/>
            </a:ln>
          </p:spPr>
        </p:pic>
      </p:grpSp>
      <p:sp>
        <p:nvSpPr>
          <p:cNvPr id="6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5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54" name="PlaceHolder 3"/>
          <p:cNvSpPr>
            <a:spLocks noGrp="1"/>
          </p:cNvSpPr>
          <p:nvPr>
            <p:ph type="dt" idx="4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PlaceHolder 4"/>
          <p:cNvSpPr>
            <a:spLocks noGrp="1"/>
          </p:cNvSpPr>
          <p:nvPr>
            <p:ph type="ftr" idx="4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PlaceHolder 5"/>
          <p:cNvSpPr>
            <a:spLocks noGrp="1"/>
          </p:cNvSpPr>
          <p:nvPr>
            <p:ph type="sldNum" idx="4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88C42-FD8D-4D41-99A6-536AE14A5092}"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95" name="Pravokotni trikotnik 13"/>
          <p:cNvGrpSpPr/>
          <p:nvPr/>
        </p:nvGrpSpPr>
        <p:grpSpPr>
          <a:xfrm>
            <a:off x="-6480" y="6175440"/>
            <a:ext cx="3402000" cy="1152360"/>
            <a:chOff x="-6480" y="6175440"/>
            <a:chExt cx="3402000" cy="1152360"/>
          </a:xfrm>
        </p:grpSpPr>
        <p:pic>
          <p:nvPicPr>
            <p:cNvPr id="696" name="Pravokotni trikotnik 13" descr=""/>
            <p:cNvPicPr/>
            <p:nvPr/>
          </p:nvPicPr>
          <p:blipFill>
            <a:blip r:embed="rId2"/>
            <a:stretch/>
          </p:blipFill>
          <p:spPr>
            <a:xfrm>
              <a:off x="-6480" y="6175440"/>
              <a:ext cx="3402000" cy="1152360"/>
            </a:xfrm>
            <a:prstGeom prst="rect">
              <a:avLst/>
            </a:prstGeom>
            <a:ln w="0">
              <a:noFill/>
            </a:ln>
          </p:spPr>
        </p:pic>
        <p:sp>
          <p:nvSpPr>
            <p:cNvPr id="69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98" name="Raven povezovalnik 14" descr=""/>
          <p:cNvPicPr/>
          <p:nvPr/>
        </p:nvPicPr>
        <p:blipFill>
          <a:blip r:embed="rId3"/>
          <a:stretch/>
        </p:blipFill>
        <p:spPr>
          <a:xfrm>
            <a:off x="-19080" y="6168960"/>
            <a:ext cx="3414600" cy="1170000"/>
          </a:xfrm>
          <a:prstGeom prst="rect">
            <a:avLst/>
          </a:prstGeom>
          <a:ln w="0">
            <a:noFill/>
          </a:ln>
        </p:spPr>
      </p:pic>
      <p:sp>
        <p:nvSpPr>
          <p:cNvPr id="6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0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01" name="PlaceHolder 3"/>
          <p:cNvSpPr>
            <a:spLocks noGrp="1"/>
          </p:cNvSpPr>
          <p:nvPr>
            <p:ph type="dt" idx="4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PlaceHolder 4"/>
          <p:cNvSpPr>
            <a:spLocks noGrp="1"/>
          </p:cNvSpPr>
          <p:nvPr>
            <p:ph type="ftr" idx="4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3" name="PlaceHolder 5"/>
          <p:cNvSpPr>
            <a:spLocks noGrp="1"/>
          </p:cNvSpPr>
          <p:nvPr>
            <p:ph type="sldNum" idx="4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A7274-F067-41CC-9CAE-6198A3944C1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42" name="Pravokotni trikotnik 13"/>
          <p:cNvGrpSpPr/>
          <p:nvPr/>
        </p:nvGrpSpPr>
        <p:grpSpPr>
          <a:xfrm>
            <a:off x="-6480" y="6175440"/>
            <a:ext cx="3402000" cy="1152360"/>
            <a:chOff x="-6480" y="6175440"/>
            <a:chExt cx="3402000" cy="1152360"/>
          </a:xfrm>
        </p:grpSpPr>
        <p:pic>
          <p:nvPicPr>
            <p:cNvPr id="743" name="Pravokotni trikotnik 13" descr=""/>
            <p:cNvPicPr/>
            <p:nvPr/>
          </p:nvPicPr>
          <p:blipFill>
            <a:blip r:embed="rId3"/>
            <a:stretch/>
          </p:blipFill>
          <p:spPr>
            <a:xfrm>
              <a:off x="-6480" y="6175440"/>
              <a:ext cx="3402000" cy="1152360"/>
            </a:xfrm>
            <a:prstGeom prst="rect">
              <a:avLst/>
            </a:prstGeom>
            <a:ln w="0">
              <a:noFill/>
            </a:ln>
          </p:spPr>
        </p:pic>
        <p:sp>
          <p:nvSpPr>
            <p:cNvPr id="74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45" name="Raven povezovalnik 14" descr=""/>
          <p:cNvPicPr/>
          <p:nvPr/>
        </p:nvPicPr>
        <p:blipFill>
          <a:blip r:embed="rId4"/>
          <a:stretch/>
        </p:blipFill>
        <p:spPr>
          <a:xfrm>
            <a:off x="-19080" y="6168960"/>
            <a:ext cx="3414600" cy="1170000"/>
          </a:xfrm>
          <a:prstGeom prst="rect">
            <a:avLst/>
          </a:prstGeom>
          <a:ln w="0">
            <a:noFill/>
          </a:ln>
        </p:spPr>
      </p:pic>
      <p:sp>
        <p:nvSpPr>
          <p:cNvPr id="746"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7"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4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50" name="PlaceHolder 3"/>
          <p:cNvSpPr>
            <a:spLocks noGrp="1"/>
          </p:cNvSpPr>
          <p:nvPr>
            <p:ph type="dt" idx="4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1" name="PlaceHolder 4"/>
          <p:cNvSpPr>
            <a:spLocks noGrp="1"/>
          </p:cNvSpPr>
          <p:nvPr>
            <p:ph type="ftr" idx="4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2" name="PlaceHolder 5"/>
          <p:cNvSpPr>
            <a:spLocks noGrp="1"/>
          </p:cNvSpPr>
          <p:nvPr>
            <p:ph type="sldNum" idx="4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56180-5212-4327-90F0-E388A27736E4}"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91" name="Pravokotni trikotnik 13"/>
          <p:cNvGrpSpPr/>
          <p:nvPr/>
        </p:nvGrpSpPr>
        <p:grpSpPr>
          <a:xfrm>
            <a:off x="-6480" y="6175440"/>
            <a:ext cx="3402000" cy="1152360"/>
            <a:chOff x="-6480" y="6175440"/>
            <a:chExt cx="3402000" cy="1152360"/>
          </a:xfrm>
        </p:grpSpPr>
        <p:pic>
          <p:nvPicPr>
            <p:cNvPr id="792" name="Pravokotni trikotnik 13" descr=""/>
            <p:cNvPicPr/>
            <p:nvPr/>
          </p:nvPicPr>
          <p:blipFill>
            <a:blip r:embed="rId3"/>
            <a:stretch/>
          </p:blipFill>
          <p:spPr>
            <a:xfrm>
              <a:off x="-6480" y="6175440"/>
              <a:ext cx="3402000" cy="1152360"/>
            </a:xfrm>
            <a:prstGeom prst="rect">
              <a:avLst/>
            </a:prstGeom>
            <a:ln w="0">
              <a:noFill/>
            </a:ln>
          </p:spPr>
        </p:pic>
        <p:sp>
          <p:nvSpPr>
            <p:cNvPr id="79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94" name="Raven povezovalnik 14" descr=""/>
          <p:cNvPicPr/>
          <p:nvPr/>
        </p:nvPicPr>
        <p:blipFill>
          <a:blip r:embed="rId4"/>
          <a:stretch/>
        </p:blipFill>
        <p:spPr>
          <a:xfrm>
            <a:off x="-19080" y="6168960"/>
            <a:ext cx="3414600" cy="1170000"/>
          </a:xfrm>
          <a:prstGeom prst="rect">
            <a:avLst/>
          </a:prstGeom>
          <a:ln w="0">
            <a:noFill/>
          </a:ln>
        </p:spPr>
      </p:pic>
      <p:sp>
        <p:nvSpPr>
          <p:cNvPr id="7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9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97" name="PlaceHolder 3"/>
          <p:cNvSpPr>
            <a:spLocks noGrp="1"/>
          </p:cNvSpPr>
          <p:nvPr>
            <p:ph type="dt" idx="5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8" name="PlaceHolder 4"/>
          <p:cNvSpPr>
            <a:spLocks noGrp="1"/>
          </p:cNvSpPr>
          <p:nvPr>
            <p:ph type="ftr" idx="5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9" name="PlaceHolder 5"/>
          <p:cNvSpPr>
            <a:spLocks noGrp="1"/>
          </p:cNvSpPr>
          <p:nvPr>
            <p:ph type="sldNum" idx="5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DE5A8-15B5-4B8E-9303-AD5006877E0E}"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3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38" name="PlaceHolder 3"/>
          <p:cNvSpPr>
            <a:spLocks noGrp="1"/>
          </p:cNvSpPr>
          <p:nvPr>
            <p:ph type="dt" idx="5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PlaceHolder 4"/>
          <p:cNvSpPr>
            <a:spLocks noGrp="1"/>
          </p:cNvSpPr>
          <p:nvPr>
            <p:ph type="ftr" idx="5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PlaceHolder 5"/>
          <p:cNvSpPr>
            <a:spLocks noGrp="1"/>
          </p:cNvSpPr>
          <p:nvPr>
            <p:ph type="sldNum" idx="5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29ACD-FB98-47EA-A5D7-B1D21134DE62}"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 name="Pravokotni trikotnik 13"/>
          <p:cNvGrpSpPr/>
          <p:nvPr/>
        </p:nvGrpSpPr>
        <p:grpSpPr>
          <a:xfrm>
            <a:off x="-6480" y="6175440"/>
            <a:ext cx="3402000" cy="1152360"/>
            <a:chOff x="-6480" y="6175440"/>
            <a:chExt cx="3402000" cy="1152360"/>
          </a:xfrm>
        </p:grpSpPr>
        <p:pic>
          <p:nvPicPr>
            <p:cNvPr id="42" name="Pravokotni trikotnik 13" descr=""/>
            <p:cNvPicPr/>
            <p:nvPr/>
          </p:nvPicPr>
          <p:blipFill>
            <a:blip r:embed="rId2"/>
            <a:stretch/>
          </p:blipFill>
          <p:spPr>
            <a:xfrm>
              <a:off x="-6480" y="6175440"/>
              <a:ext cx="3402000" cy="1152360"/>
            </a:xfrm>
            <a:prstGeom prst="rect">
              <a:avLst/>
            </a:prstGeom>
            <a:ln w="0">
              <a:noFill/>
            </a:ln>
          </p:spPr>
        </p:pic>
        <p:sp>
          <p:nvSpPr>
            <p:cNvPr id="4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4" name="Raven povezovalnik 14" descr=""/>
          <p:cNvPicPr/>
          <p:nvPr/>
        </p:nvPicPr>
        <p:blipFill>
          <a:blip r:embed="rId3"/>
          <a:stretch/>
        </p:blipFill>
        <p:spPr>
          <a:xfrm>
            <a:off x="-19080" y="6168960"/>
            <a:ext cx="3414600" cy="1170000"/>
          </a:xfrm>
          <a:prstGeom prst="rect">
            <a:avLst/>
          </a:prstGeom>
          <a:ln w="0">
            <a:noFill/>
          </a:ln>
        </p:spPr>
      </p:pic>
      <p:sp>
        <p:nvSpPr>
          <p:cNvPr id="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 name="PlaceHolder 3"/>
          <p:cNvSpPr>
            <a:spLocks noGrp="1"/>
          </p:cNvSpPr>
          <p:nvPr>
            <p:ph type="dt" idx="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4"/>
          <p:cNvSpPr>
            <a:spLocks noGrp="1"/>
          </p:cNvSpPr>
          <p:nvPr>
            <p:ph type="ftr" idx="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5"/>
          <p:cNvSpPr>
            <a:spLocks noGrp="1"/>
          </p:cNvSpPr>
          <p:nvPr>
            <p:ph type="sldNum" idx="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052AE-DAE3-4449-9997-FD67C08FE60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79" name="Pravokotni trikotnik 13"/>
          <p:cNvGrpSpPr/>
          <p:nvPr/>
        </p:nvGrpSpPr>
        <p:grpSpPr>
          <a:xfrm>
            <a:off x="-6480" y="6175440"/>
            <a:ext cx="3402000" cy="1152360"/>
            <a:chOff x="-6480" y="6175440"/>
            <a:chExt cx="3402000" cy="1152360"/>
          </a:xfrm>
        </p:grpSpPr>
        <p:pic>
          <p:nvPicPr>
            <p:cNvPr id="880" name="Pravokotni trikotnik 13" descr=""/>
            <p:cNvPicPr/>
            <p:nvPr/>
          </p:nvPicPr>
          <p:blipFill>
            <a:blip r:embed="rId3"/>
            <a:stretch/>
          </p:blipFill>
          <p:spPr>
            <a:xfrm>
              <a:off x="-6480" y="6175440"/>
              <a:ext cx="3402000" cy="1152360"/>
            </a:xfrm>
            <a:prstGeom prst="rect">
              <a:avLst/>
            </a:prstGeom>
            <a:ln w="0">
              <a:noFill/>
            </a:ln>
          </p:spPr>
        </p:pic>
        <p:sp>
          <p:nvSpPr>
            <p:cNvPr id="88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882" name="Raven povezovalnik 14" descr=""/>
          <p:cNvPicPr/>
          <p:nvPr/>
        </p:nvPicPr>
        <p:blipFill>
          <a:blip r:embed="rId4"/>
          <a:stretch/>
        </p:blipFill>
        <p:spPr>
          <a:xfrm>
            <a:off x="-19080" y="6168960"/>
            <a:ext cx="3414600" cy="1170000"/>
          </a:xfrm>
          <a:prstGeom prst="rect">
            <a:avLst/>
          </a:prstGeom>
          <a:ln w="0">
            <a:noFill/>
          </a:ln>
        </p:spPr>
      </p:pic>
      <p:sp>
        <p:nvSpPr>
          <p:cNvPr id="8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88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85" name="PlaceHolder 3"/>
          <p:cNvSpPr>
            <a:spLocks noGrp="1"/>
          </p:cNvSpPr>
          <p:nvPr>
            <p:ph type="dt" idx="5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6" name="PlaceHolder 4"/>
          <p:cNvSpPr>
            <a:spLocks noGrp="1"/>
          </p:cNvSpPr>
          <p:nvPr>
            <p:ph type="ftr" idx="5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7" name="PlaceHolder 5"/>
          <p:cNvSpPr>
            <a:spLocks noGrp="1"/>
          </p:cNvSpPr>
          <p:nvPr>
            <p:ph type="sldNum" idx="5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C84EA-EF13-4AB7-9CAC-861ACDA172E7}"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5"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926" name="Pravokotni trikotnik 13"/>
          <p:cNvGrpSpPr/>
          <p:nvPr/>
        </p:nvGrpSpPr>
        <p:grpSpPr>
          <a:xfrm>
            <a:off x="-6480" y="6175440"/>
            <a:ext cx="3402000" cy="1152360"/>
            <a:chOff x="-6480" y="6175440"/>
            <a:chExt cx="3402000" cy="1152360"/>
          </a:xfrm>
        </p:grpSpPr>
        <p:pic>
          <p:nvPicPr>
            <p:cNvPr id="927" name="Pravokotni trikotnik 13" descr=""/>
            <p:cNvPicPr/>
            <p:nvPr/>
          </p:nvPicPr>
          <p:blipFill>
            <a:blip r:embed="rId2"/>
            <a:stretch/>
          </p:blipFill>
          <p:spPr>
            <a:xfrm>
              <a:off x="-6480" y="6175440"/>
              <a:ext cx="3402000" cy="1152360"/>
            </a:xfrm>
            <a:prstGeom prst="rect">
              <a:avLst/>
            </a:prstGeom>
            <a:ln w="0">
              <a:noFill/>
            </a:ln>
          </p:spPr>
        </p:pic>
        <p:sp>
          <p:nvSpPr>
            <p:cNvPr id="928"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29" name="Raven povezovalnik 14" descr=""/>
          <p:cNvPicPr/>
          <p:nvPr/>
        </p:nvPicPr>
        <p:blipFill>
          <a:blip r:embed="rId3"/>
          <a:stretch/>
        </p:blipFill>
        <p:spPr>
          <a:xfrm>
            <a:off x="-19080" y="6168960"/>
            <a:ext cx="3414600" cy="1170000"/>
          </a:xfrm>
          <a:prstGeom prst="rect">
            <a:avLst/>
          </a:prstGeom>
          <a:ln w="0">
            <a:noFill/>
          </a:ln>
        </p:spPr>
      </p:pic>
      <p:sp>
        <p:nvSpPr>
          <p:cNvPr id="9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32" name="PlaceHolder 3"/>
          <p:cNvSpPr>
            <a:spLocks noGrp="1"/>
          </p:cNvSpPr>
          <p:nvPr>
            <p:ph type="dt" idx="5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3" name="PlaceHolder 4"/>
          <p:cNvSpPr>
            <a:spLocks noGrp="1"/>
          </p:cNvSpPr>
          <p:nvPr>
            <p:ph type="ftr" idx="6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4" name="PlaceHolder 5"/>
          <p:cNvSpPr>
            <a:spLocks noGrp="1"/>
          </p:cNvSpPr>
          <p:nvPr>
            <p:ph type="sldNum" idx="6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A8F96-D5F6-4809-BEEE-BD326EC7FEDE}"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7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73" name="PlaceHolder 3"/>
          <p:cNvSpPr>
            <a:spLocks noGrp="1"/>
          </p:cNvSpPr>
          <p:nvPr>
            <p:ph type="dt" idx="6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4" name="PlaceHolder 4"/>
          <p:cNvSpPr>
            <a:spLocks noGrp="1"/>
          </p:cNvSpPr>
          <p:nvPr>
            <p:ph type="ftr" idx="6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5" name="PlaceHolder 5"/>
          <p:cNvSpPr>
            <a:spLocks noGrp="1"/>
          </p:cNvSpPr>
          <p:nvPr>
            <p:ph type="sldNum" idx="6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16669-D395-4752-AF68-47C735F13A5F}"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2"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3"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14" name="Pravokotni trikotnik 15"/>
          <p:cNvGrpSpPr/>
          <p:nvPr/>
        </p:nvGrpSpPr>
        <p:grpSpPr>
          <a:xfrm>
            <a:off x="-6480" y="6175440"/>
            <a:ext cx="3402000" cy="1152360"/>
            <a:chOff x="-6480" y="6175440"/>
            <a:chExt cx="3402000" cy="1152360"/>
          </a:xfrm>
        </p:grpSpPr>
        <p:pic>
          <p:nvPicPr>
            <p:cNvPr id="1015" name="Pravokotni trikotnik 15" descr=""/>
            <p:cNvPicPr/>
            <p:nvPr/>
          </p:nvPicPr>
          <p:blipFill>
            <a:blip r:embed="rId3"/>
            <a:stretch/>
          </p:blipFill>
          <p:spPr>
            <a:xfrm>
              <a:off x="-6480" y="6175440"/>
              <a:ext cx="3402000" cy="1152360"/>
            </a:xfrm>
            <a:prstGeom prst="rect">
              <a:avLst/>
            </a:prstGeom>
            <a:ln w="0">
              <a:noFill/>
            </a:ln>
          </p:spPr>
        </p:pic>
        <p:sp>
          <p:nvSpPr>
            <p:cNvPr id="101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17" name="Raven povezovalnik 16" descr=""/>
          <p:cNvPicPr/>
          <p:nvPr/>
        </p:nvPicPr>
        <p:blipFill>
          <a:blip r:embed="rId4"/>
          <a:stretch/>
        </p:blipFill>
        <p:spPr>
          <a:xfrm>
            <a:off x="-19080" y="6168960"/>
            <a:ext cx="3414600" cy="1170000"/>
          </a:xfrm>
          <a:prstGeom prst="rect">
            <a:avLst/>
          </a:prstGeom>
          <a:ln w="0">
            <a:noFill/>
          </a:ln>
        </p:spPr>
      </p:pic>
      <p:sp>
        <p:nvSpPr>
          <p:cNvPr id="1018"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9"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2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22" name="PlaceHolder 3"/>
          <p:cNvSpPr>
            <a:spLocks noGrp="1"/>
          </p:cNvSpPr>
          <p:nvPr>
            <p:ph type="dt" idx="6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3" name="PlaceHolder 4"/>
          <p:cNvSpPr>
            <a:spLocks noGrp="1"/>
          </p:cNvSpPr>
          <p:nvPr>
            <p:ph type="ftr" idx="6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4" name="PlaceHolder 5"/>
          <p:cNvSpPr>
            <a:spLocks noGrp="1"/>
          </p:cNvSpPr>
          <p:nvPr>
            <p:ph type="sldNum" idx="6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2F16D-CFCC-4672-A26E-1B186EBD7F6B}"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2"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63" name="Pravokotni trikotnik 13"/>
          <p:cNvGrpSpPr/>
          <p:nvPr/>
        </p:nvGrpSpPr>
        <p:grpSpPr>
          <a:xfrm>
            <a:off x="-6480" y="6175440"/>
            <a:ext cx="3402000" cy="1152360"/>
            <a:chOff x="-6480" y="6175440"/>
            <a:chExt cx="3402000" cy="1152360"/>
          </a:xfrm>
        </p:grpSpPr>
        <p:pic>
          <p:nvPicPr>
            <p:cNvPr id="1064" name="Pravokotni trikotnik 13" descr=""/>
            <p:cNvPicPr/>
            <p:nvPr/>
          </p:nvPicPr>
          <p:blipFill>
            <a:blip r:embed="rId2"/>
            <a:stretch/>
          </p:blipFill>
          <p:spPr>
            <a:xfrm>
              <a:off x="-6480" y="6175440"/>
              <a:ext cx="3402000" cy="1152360"/>
            </a:xfrm>
            <a:prstGeom prst="rect">
              <a:avLst/>
            </a:prstGeom>
            <a:ln w="0">
              <a:noFill/>
            </a:ln>
          </p:spPr>
        </p:pic>
        <p:sp>
          <p:nvSpPr>
            <p:cNvPr id="106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66" name="Raven povezovalnik 14" descr=""/>
          <p:cNvPicPr/>
          <p:nvPr/>
        </p:nvPicPr>
        <p:blipFill>
          <a:blip r:embed="rId3"/>
          <a:stretch/>
        </p:blipFill>
        <p:spPr>
          <a:xfrm>
            <a:off x="-19080" y="6168960"/>
            <a:ext cx="3414600" cy="1170000"/>
          </a:xfrm>
          <a:prstGeom prst="rect">
            <a:avLst/>
          </a:prstGeom>
          <a:ln w="0">
            <a:noFill/>
          </a:ln>
        </p:spPr>
      </p:pic>
      <p:sp>
        <p:nvSpPr>
          <p:cNvPr id="10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6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69" name="PlaceHolder 3"/>
          <p:cNvSpPr>
            <a:spLocks noGrp="1"/>
          </p:cNvSpPr>
          <p:nvPr>
            <p:ph type="dt" idx="6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0" name="PlaceHolder 4"/>
          <p:cNvSpPr>
            <a:spLocks noGrp="1"/>
          </p:cNvSpPr>
          <p:nvPr>
            <p:ph type="ftr" idx="6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1" name="PlaceHolder 5"/>
          <p:cNvSpPr>
            <a:spLocks noGrp="1"/>
          </p:cNvSpPr>
          <p:nvPr>
            <p:ph type="sldNum" idx="7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2FC6F-3922-472F-AF7C-853190DAC47B}"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110" name="Pravokotni trikotnik 13"/>
          <p:cNvGrpSpPr/>
          <p:nvPr/>
        </p:nvGrpSpPr>
        <p:grpSpPr>
          <a:xfrm>
            <a:off x="-6480" y="6175440"/>
            <a:ext cx="3402000" cy="1152360"/>
            <a:chOff x="-6480" y="6175440"/>
            <a:chExt cx="3402000" cy="1152360"/>
          </a:xfrm>
        </p:grpSpPr>
        <p:pic>
          <p:nvPicPr>
            <p:cNvPr id="1111" name="Pravokotni trikotnik 13" descr=""/>
            <p:cNvPicPr/>
            <p:nvPr/>
          </p:nvPicPr>
          <p:blipFill>
            <a:blip r:embed="rId2"/>
            <a:stretch/>
          </p:blipFill>
          <p:spPr>
            <a:xfrm>
              <a:off x="-6480" y="6175440"/>
              <a:ext cx="3402000" cy="1152360"/>
            </a:xfrm>
            <a:prstGeom prst="rect">
              <a:avLst/>
            </a:prstGeom>
            <a:ln w="0">
              <a:noFill/>
            </a:ln>
          </p:spPr>
        </p:pic>
        <p:sp>
          <p:nvSpPr>
            <p:cNvPr id="111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113" name="Raven povezovalnik 14" descr=""/>
          <p:cNvPicPr/>
          <p:nvPr/>
        </p:nvPicPr>
        <p:blipFill>
          <a:blip r:embed="rId3"/>
          <a:stretch/>
        </p:blipFill>
        <p:spPr>
          <a:xfrm>
            <a:off x="-19080" y="6168960"/>
            <a:ext cx="3414600" cy="1170000"/>
          </a:xfrm>
          <a:prstGeom prst="rect">
            <a:avLst/>
          </a:prstGeom>
          <a:ln w="0">
            <a:noFill/>
          </a:ln>
        </p:spPr>
      </p:pic>
      <p:sp>
        <p:nvSpPr>
          <p:cNvPr id="1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11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16" name="PlaceHolder 3"/>
          <p:cNvSpPr>
            <a:spLocks noGrp="1"/>
          </p:cNvSpPr>
          <p:nvPr>
            <p:ph type="dt" idx="7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7" name="PlaceHolder 4"/>
          <p:cNvSpPr>
            <a:spLocks noGrp="1"/>
          </p:cNvSpPr>
          <p:nvPr>
            <p:ph type="ftr" idx="7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8" name="PlaceHolder 5"/>
          <p:cNvSpPr>
            <a:spLocks noGrp="1"/>
          </p:cNvSpPr>
          <p:nvPr>
            <p:ph type="sldNum" idx="7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8F490-F046-4398-B75C-B806C38B1E1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8" name="Pravokotni trikotnik 13"/>
          <p:cNvGrpSpPr/>
          <p:nvPr/>
        </p:nvGrpSpPr>
        <p:grpSpPr>
          <a:xfrm>
            <a:off x="-6480" y="6175440"/>
            <a:ext cx="3402000" cy="1152360"/>
            <a:chOff x="-6480" y="6175440"/>
            <a:chExt cx="3402000" cy="1152360"/>
          </a:xfrm>
        </p:grpSpPr>
        <p:pic>
          <p:nvPicPr>
            <p:cNvPr id="89" name="Pravokotni trikotnik 13" descr=""/>
            <p:cNvPicPr/>
            <p:nvPr/>
          </p:nvPicPr>
          <p:blipFill>
            <a:blip r:embed="rId2"/>
            <a:stretch/>
          </p:blipFill>
          <p:spPr>
            <a:xfrm>
              <a:off x="-6480" y="6175440"/>
              <a:ext cx="3402000" cy="1152360"/>
            </a:xfrm>
            <a:prstGeom prst="rect">
              <a:avLst/>
            </a:prstGeom>
            <a:ln w="0">
              <a:noFill/>
            </a:ln>
          </p:spPr>
        </p:pic>
        <p:sp>
          <p:nvSpPr>
            <p:cNvPr id="9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1" name="Raven povezovalnik 14" descr=""/>
          <p:cNvPicPr/>
          <p:nvPr/>
        </p:nvPicPr>
        <p:blipFill>
          <a:blip r:embed="rId3"/>
          <a:stretch/>
        </p:blipFill>
        <p:spPr>
          <a:xfrm>
            <a:off x="-19080" y="6168960"/>
            <a:ext cx="3414600" cy="1170000"/>
          </a:xfrm>
          <a:prstGeom prst="rect">
            <a:avLst/>
          </a:prstGeom>
          <a:ln w="0">
            <a:noFill/>
          </a:ln>
        </p:spPr>
      </p:pic>
      <p:sp>
        <p:nvSpPr>
          <p:cNvPr id="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4" name="PlaceHolder 3"/>
          <p:cNvSpPr>
            <a:spLocks noGrp="1"/>
          </p:cNvSpPr>
          <p:nvPr>
            <p:ph type="dt" idx="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type="ftr" idx="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type="sldNum" idx="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65C7E-DA78-4865-AB05-00C01EBC40A9}"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4" name="Skupina 15"/>
          <p:cNvGrpSpPr/>
          <p:nvPr/>
        </p:nvGrpSpPr>
        <p:grpSpPr>
          <a:xfrm>
            <a:off x="-3240" y="5283360"/>
            <a:ext cx="9147240" cy="2039760"/>
            <a:chOff x="-3240" y="5283360"/>
            <a:chExt cx="9147240" cy="2039760"/>
          </a:xfrm>
        </p:grpSpPr>
        <p:sp>
          <p:nvSpPr>
            <p:cNvPr id="135"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37" name="Prostoročno 18"/>
            <p:cNvGrpSpPr/>
            <p:nvPr/>
          </p:nvGrpSpPr>
          <p:grpSpPr>
            <a:xfrm>
              <a:off x="8640" y="5334120"/>
              <a:ext cx="9135360" cy="1989000"/>
              <a:chOff x="8640" y="5334120"/>
              <a:chExt cx="9135360" cy="1989000"/>
            </a:xfrm>
          </p:grpSpPr>
          <p:pic>
            <p:nvPicPr>
              <p:cNvPr id="138" name="Prostoročno 18" descr=""/>
              <p:cNvPicPr/>
              <p:nvPr/>
            </p:nvPicPr>
            <p:blipFill>
              <a:blip r:embed="rId2"/>
              <a:stretch/>
            </p:blipFill>
            <p:spPr>
              <a:xfrm>
                <a:off x="8640" y="5334120"/>
                <a:ext cx="9135360" cy="1989000"/>
              </a:xfrm>
              <a:prstGeom prst="rect">
                <a:avLst/>
              </a:prstGeom>
              <a:ln w="0">
                <a:noFill/>
              </a:ln>
            </p:spPr>
          </p:pic>
          <p:sp>
            <p:nvSpPr>
              <p:cNvPr id="139"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40" name="Raven povezovalnik 19" descr=""/>
            <p:cNvPicPr/>
            <p:nvPr/>
          </p:nvPicPr>
          <p:blipFill>
            <a:blip r:embed="rId3"/>
            <a:stretch/>
          </p:blipFill>
          <p:spPr>
            <a:xfrm>
              <a:off x="-3240" y="5321880"/>
              <a:ext cx="9147240" cy="860040"/>
            </a:xfrm>
            <a:prstGeom prst="rect">
              <a:avLst/>
            </a:prstGeom>
            <a:ln w="0">
              <a:noFill/>
            </a:ln>
          </p:spPr>
        </p:pic>
      </p:grpSp>
      <p:sp>
        <p:nvSpPr>
          <p:cNvPr id="1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3" name="PlaceHolder 3"/>
          <p:cNvSpPr>
            <a:spLocks noGrp="1"/>
          </p:cNvSpPr>
          <p:nvPr>
            <p:ph type="dt" idx="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type="ftr" idx="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5"/>
          <p:cNvSpPr>
            <a:spLocks noGrp="1"/>
          </p:cNvSpPr>
          <p:nvPr>
            <p:ph type="sldNum" idx="1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E7304-4227-491C-BEDA-335C82C7FC15}"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3"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84" name="Pravokotni trikotnik 13"/>
          <p:cNvGrpSpPr/>
          <p:nvPr/>
        </p:nvGrpSpPr>
        <p:grpSpPr>
          <a:xfrm>
            <a:off x="-6480" y="6175440"/>
            <a:ext cx="3402000" cy="1152360"/>
            <a:chOff x="-6480" y="6175440"/>
            <a:chExt cx="3402000" cy="1152360"/>
          </a:xfrm>
        </p:grpSpPr>
        <p:pic>
          <p:nvPicPr>
            <p:cNvPr id="185" name="Pravokotni trikotnik 13" descr=""/>
            <p:cNvPicPr/>
            <p:nvPr/>
          </p:nvPicPr>
          <p:blipFill>
            <a:blip r:embed="rId2"/>
            <a:stretch/>
          </p:blipFill>
          <p:spPr>
            <a:xfrm>
              <a:off x="-6480" y="6175440"/>
              <a:ext cx="3402000" cy="1152360"/>
            </a:xfrm>
            <a:prstGeom prst="rect">
              <a:avLst/>
            </a:prstGeom>
            <a:ln w="0">
              <a:noFill/>
            </a:ln>
          </p:spPr>
        </p:pic>
        <p:sp>
          <p:nvSpPr>
            <p:cNvPr id="18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87" name="Raven povezovalnik 14" descr=""/>
          <p:cNvPicPr/>
          <p:nvPr/>
        </p:nvPicPr>
        <p:blipFill>
          <a:blip r:embed="rId3"/>
          <a:stretch/>
        </p:blipFill>
        <p:spPr>
          <a:xfrm>
            <a:off x="-19080" y="6168960"/>
            <a:ext cx="3414600" cy="1170000"/>
          </a:xfrm>
          <a:prstGeom prst="rect">
            <a:avLst/>
          </a:prstGeom>
          <a:ln w="0">
            <a:noFill/>
          </a:ln>
        </p:spPr>
      </p:pic>
      <p:sp>
        <p:nvSpPr>
          <p:cNvPr id="1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0" name="PlaceHolder 3"/>
          <p:cNvSpPr>
            <a:spLocks noGrp="1"/>
          </p:cNvSpPr>
          <p:nvPr>
            <p:ph type="dt" idx="1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4"/>
          <p:cNvSpPr>
            <a:spLocks noGrp="1"/>
          </p:cNvSpPr>
          <p:nvPr>
            <p:ph type="ftr" idx="1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5"/>
          <p:cNvSpPr>
            <a:spLocks noGrp="1"/>
          </p:cNvSpPr>
          <p:nvPr>
            <p:ph type="sldNum" idx="1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A3622-C7E5-405E-B0C1-1B38419FF4A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31" name="Pravokotni trikotnik 13"/>
          <p:cNvGrpSpPr/>
          <p:nvPr/>
        </p:nvGrpSpPr>
        <p:grpSpPr>
          <a:xfrm>
            <a:off x="-6480" y="6175440"/>
            <a:ext cx="3402000" cy="1152360"/>
            <a:chOff x="-6480" y="6175440"/>
            <a:chExt cx="3402000" cy="1152360"/>
          </a:xfrm>
        </p:grpSpPr>
        <p:pic>
          <p:nvPicPr>
            <p:cNvPr id="232" name="Pravokotni trikotnik 13" descr=""/>
            <p:cNvPicPr/>
            <p:nvPr/>
          </p:nvPicPr>
          <p:blipFill>
            <a:blip r:embed="rId3"/>
            <a:stretch/>
          </p:blipFill>
          <p:spPr>
            <a:xfrm>
              <a:off x="-6480" y="6175440"/>
              <a:ext cx="3402000" cy="1152360"/>
            </a:xfrm>
            <a:prstGeom prst="rect">
              <a:avLst/>
            </a:prstGeom>
            <a:ln w="0">
              <a:noFill/>
            </a:ln>
          </p:spPr>
        </p:pic>
        <p:sp>
          <p:nvSpPr>
            <p:cNvPr id="23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34" name="Raven povezovalnik 14" descr=""/>
          <p:cNvPicPr/>
          <p:nvPr/>
        </p:nvPicPr>
        <p:blipFill>
          <a:blip r:embed="rId4"/>
          <a:stretch/>
        </p:blipFill>
        <p:spPr>
          <a:xfrm>
            <a:off x="-19080" y="6168960"/>
            <a:ext cx="3414600" cy="1170000"/>
          </a:xfrm>
          <a:prstGeom prst="rect">
            <a:avLst/>
          </a:prstGeom>
          <a:ln w="0">
            <a:noFill/>
          </a:ln>
        </p:spPr>
      </p:pic>
      <p:sp>
        <p:nvSpPr>
          <p:cNvPr id="235"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3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39" name="PlaceHolder 3"/>
          <p:cNvSpPr>
            <a:spLocks noGrp="1"/>
          </p:cNvSpPr>
          <p:nvPr>
            <p:ph type="dt" idx="1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type="ftr" idx="1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type="sldNum" idx="1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AA4D2-C2DF-4B5F-9002-01F2A41EF4D5}"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80" name="Pravokotni trikotnik 13"/>
          <p:cNvGrpSpPr/>
          <p:nvPr/>
        </p:nvGrpSpPr>
        <p:grpSpPr>
          <a:xfrm>
            <a:off x="-6480" y="6175440"/>
            <a:ext cx="3402000" cy="1152360"/>
            <a:chOff x="-6480" y="6175440"/>
            <a:chExt cx="3402000" cy="1152360"/>
          </a:xfrm>
        </p:grpSpPr>
        <p:pic>
          <p:nvPicPr>
            <p:cNvPr id="281" name="Pravokotni trikotnik 13" descr=""/>
            <p:cNvPicPr/>
            <p:nvPr/>
          </p:nvPicPr>
          <p:blipFill>
            <a:blip r:embed="rId3"/>
            <a:stretch/>
          </p:blipFill>
          <p:spPr>
            <a:xfrm>
              <a:off x="-6480" y="6175440"/>
              <a:ext cx="3402000" cy="1152360"/>
            </a:xfrm>
            <a:prstGeom prst="rect">
              <a:avLst/>
            </a:prstGeom>
            <a:ln w="0">
              <a:noFill/>
            </a:ln>
          </p:spPr>
        </p:pic>
        <p:sp>
          <p:nvSpPr>
            <p:cNvPr id="28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83" name="Raven povezovalnik 14" descr=""/>
          <p:cNvPicPr/>
          <p:nvPr/>
        </p:nvPicPr>
        <p:blipFill>
          <a:blip r:embed="rId4"/>
          <a:stretch/>
        </p:blipFill>
        <p:spPr>
          <a:xfrm>
            <a:off x="-19080" y="6168960"/>
            <a:ext cx="3414600" cy="1170000"/>
          </a:xfrm>
          <a:prstGeom prst="rect">
            <a:avLst/>
          </a:prstGeom>
          <a:ln w="0">
            <a:noFill/>
          </a:ln>
        </p:spPr>
      </p:pic>
      <p:sp>
        <p:nvSpPr>
          <p:cNvPr id="2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6" name="PlaceHolder 3"/>
          <p:cNvSpPr>
            <a:spLocks noGrp="1"/>
          </p:cNvSpPr>
          <p:nvPr>
            <p:ph type="dt" idx="1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PlaceHolder 4"/>
          <p:cNvSpPr>
            <a:spLocks noGrp="1"/>
          </p:cNvSpPr>
          <p:nvPr>
            <p:ph type="ftr" idx="1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5"/>
          <p:cNvSpPr>
            <a:spLocks noGrp="1"/>
          </p:cNvSpPr>
          <p:nvPr>
            <p:ph type="sldNum" idx="1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84BA6-DA2B-4B82-8F8B-DB352C680EEC}"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2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7" name="PlaceHolder 3"/>
          <p:cNvSpPr>
            <a:spLocks noGrp="1"/>
          </p:cNvSpPr>
          <p:nvPr>
            <p:ph type="dt" idx="2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4"/>
          <p:cNvSpPr>
            <a:spLocks noGrp="1"/>
          </p:cNvSpPr>
          <p:nvPr>
            <p:ph type="ftr" idx="2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5"/>
          <p:cNvSpPr>
            <a:spLocks noGrp="1"/>
          </p:cNvSpPr>
          <p:nvPr>
            <p:ph type="sldNum" idx="2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90925-F69F-46F5-B68D-777C13B4CD9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368" name="Pravokotni trikotnik 13"/>
          <p:cNvGrpSpPr/>
          <p:nvPr/>
        </p:nvGrpSpPr>
        <p:grpSpPr>
          <a:xfrm>
            <a:off x="-6480" y="6175440"/>
            <a:ext cx="3402000" cy="1152360"/>
            <a:chOff x="-6480" y="6175440"/>
            <a:chExt cx="3402000" cy="1152360"/>
          </a:xfrm>
        </p:grpSpPr>
        <p:pic>
          <p:nvPicPr>
            <p:cNvPr id="369" name="Pravokotni trikotnik 13" descr=""/>
            <p:cNvPicPr/>
            <p:nvPr/>
          </p:nvPicPr>
          <p:blipFill>
            <a:blip r:embed="rId3"/>
            <a:stretch/>
          </p:blipFill>
          <p:spPr>
            <a:xfrm>
              <a:off x="-6480" y="6175440"/>
              <a:ext cx="3402000" cy="1152360"/>
            </a:xfrm>
            <a:prstGeom prst="rect">
              <a:avLst/>
            </a:prstGeom>
            <a:ln w="0">
              <a:noFill/>
            </a:ln>
          </p:spPr>
        </p:pic>
        <p:sp>
          <p:nvSpPr>
            <p:cNvPr id="37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371" name="Raven povezovalnik 14" descr=""/>
          <p:cNvPicPr/>
          <p:nvPr/>
        </p:nvPicPr>
        <p:blipFill>
          <a:blip r:embed="rId4"/>
          <a:stretch/>
        </p:blipFill>
        <p:spPr>
          <a:xfrm>
            <a:off x="-19080" y="6168960"/>
            <a:ext cx="3414600" cy="1170000"/>
          </a:xfrm>
          <a:prstGeom prst="rect">
            <a:avLst/>
          </a:prstGeom>
          <a:ln w="0">
            <a:noFill/>
          </a:ln>
        </p:spPr>
      </p:pic>
      <p:sp>
        <p:nvSpPr>
          <p:cNvPr id="3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7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74" name="PlaceHolder 3"/>
          <p:cNvSpPr>
            <a:spLocks noGrp="1"/>
          </p:cNvSpPr>
          <p:nvPr>
            <p:ph type="dt" idx="2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type="ftr" idx="2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5"/>
          <p:cNvSpPr>
            <a:spLocks noGrp="1"/>
          </p:cNvSpPr>
          <p:nvPr>
            <p:ph type="sldNum" idx="2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45FC0-E77B-45FA-94FF-D77A4079ADD4}"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2" name="Picture 1" descr=""/>
          <p:cNvPicPr/>
          <p:nvPr/>
        </p:nvPicPr>
        <p:blipFill>
          <a:blip r:embed="rId2"/>
          <a:stretch/>
        </p:blipFill>
        <p:spPr>
          <a:xfrm>
            <a:off x="4680" y="0"/>
            <a:ext cx="9134640" cy="7315200"/>
          </a:xfrm>
          <a:prstGeom prst="rect">
            <a:avLst/>
          </a:prstGeom>
          <a:ln w="0">
            <a:noFill/>
          </a:ln>
        </p:spPr>
      </p:pic>
      <p:pic>
        <p:nvPicPr>
          <p:cNvPr id="1163" name="Picture 2" descr=""/>
          <p:cNvPicPr/>
          <p:nvPr/>
        </p:nvPicPr>
        <p:blipFill>
          <a:blip r:embed="rId3"/>
          <a:stretch/>
        </p:blipFill>
        <p:spPr>
          <a:xfrm>
            <a:off x="-3240" y="-12600"/>
            <a:ext cx="9134640" cy="7315200"/>
          </a:xfrm>
          <a:prstGeom prst="rect">
            <a:avLst/>
          </a:prstGeom>
          <a:ln w="0">
            <a:noFill/>
          </a:ln>
        </p:spPr>
      </p:pic>
      <p:pic>
        <p:nvPicPr>
          <p:cNvPr id="1164" name="Picture 3" descr=""/>
          <p:cNvPicPr/>
          <p:nvPr/>
        </p:nvPicPr>
        <p:blipFill>
          <a:blip r:embed="rId4"/>
          <a:stretch/>
        </p:blipFill>
        <p:spPr>
          <a:xfrm>
            <a:off x="457200" y="777960"/>
            <a:ext cx="4114800" cy="725400"/>
          </a:xfrm>
          <a:prstGeom prst="rect">
            <a:avLst/>
          </a:prstGeom>
          <a:ln w="0">
            <a:noFill/>
          </a:ln>
        </p:spPr>
      </p:pic>
      <p:sp>
        <p:nvSpPr>
          <p:cNvPr id="1165" name="Rectangle 4"/>
          <p:cNvSpPr/>
          <p:nvPr/>
        </p:nvSpPr>
        <p:spPr>
          <a:xfrm>
            <a:off x="1328760" y="2505240"/>
            <a:ext cx="6108840" cy="35812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PREDSTAVITEV IZVAJANJA NAČRT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VREDNOTNEJA OPERATIVNEGA PROGRAM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RAZVOJA ČLOVEŠKIH VIROV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ZA OBDOBJE 2007-2013</a:t>
            </a:r>
            <a:endParaRPr b="0" lang="en-US" sz="24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000000"/>
                </a:solidFill>
                <a:latin typeface="Arial"/>
              </a:rPr>
              <a:t>Ljubljana, 2</a:t>
            </a:r>
            <a:r>
              <a:rPr b="0" lang="sl-SI" sz="2400" spc="-1" strike="noStrike">
                <a:solidFill>
                  <a:srgbClr val="000000"/>
                </a:solidFill>
                <a:latin typeface="Arial"/>
              </a:rPr>
              <a:t>8</a:t>
            </a:r>
            <a:r>
              <a:rPr b="0" lang="en-US" sz="2400" spc="-1" strike="noStrike">
                <a:solidFill>
                  <a:srgbClr val="000000"/>
                </a:solidFill>
                <a:latin typeface="Arial"/>
              </a:rPr>
              <a:t>.5.201</a:t>
            </a:r>
            <a:r>
              <a:rPr b="0" lang="sl-SI" sz="2400" spc="-1" strike="noStrike">
                <a:solidFill>
                  <a:srgbClr val="000000"/>
                </a:solidFill>
                <a:latin typeface="Arial"/>
              </a:rPr>
              <a:t>4</a:t>
            </a:r>
            <a:br>
              <a:rPr sz="2400"/>
            </a:b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
          <p:cNvSpPr txBox="1"/>
          <p:nvPr/>
        </p:nvSpPr>
        <p:spPr>
          <a:xfrm>
            <a:off x="822240" y="1569960"/>
            <a:ext cx="7521840" cy="3422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ajanja načrt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edenih vrednotenj oz. vrednotenj v teku</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OU</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Znotraj projektov upravičencev</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1167"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44BAC-E2BB-409D-B819-1325A117D80E}"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68" name="Naslov 1" descr=""/>
          <p:cNvPicPr/>
          <p:nvPr/>
        </p:nvPicPr>
        <p:blipFill>
          <a:blip r:embed="rId1"/>
          <a:stretch/>
        </p:blipFill>
        <p:spPr>
          <a:xfrm>
            <a:off x="274680" y="291960"/>
            <a:ext cx="8412120" cy="1219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txBox="1"/>
          <p:nvPr/>
        </p:nvSpPr>
        <p:spPr>
          <a:xfrm>
            <a:off x="394920" y="1496520"/>
            <a:ext cx="8497800" cy="5148360"/>
          </a:xfrm>
          <a:prstGeom prst="rect">
            <a:avLst/>
          </a:prstGeom>
          <a:noFill/>
          <a:ln w="0">
            <a:noFill/>
          </a:ln>
        </p:spPr>
        <p:txBody>
          <a:bodyPr anchor="t">
            <a:normAutofit/>
          </a:bodyPr>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javnega razpisa za sofinanciranje projektov horizontalnih NVO mrež in regionalnih stičišč za leto 2008</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razpisa za izbor razvojnih projektov za dvig zaposljivosti ranljivih družbenih skupin na področju kulture in podporo njihovi socialni vključenosti v letih 2008-2009 s pripravo poročil za nadaljnje izvajanje aktivnosti za doseganje ciljev prednostne usmeritve 4.3. v OP RČV</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1. in 2. prednostne usmeritve Izboljšanje kakovosti in učinkovitosti sistemov izobraževanja in usposabljanja ter Izboljšanje usposobljenosti posameznika za delo in življenje v družbi temelječi na znanju 3. Razvojne prioritete OP ESS Razvoj človeških virov in vseživljenjskega učenj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CE"/>
              </a:rPr>
              <a:t>Vmesno vrednotenje komunikacijskega načrta cilja Konvergenc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prednostnih usmeritev s področja trga dela, ki jih v okviru OP RČV izvaja Ministrstvo za delo, družino in socialne zadeve</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1170"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02611-75DC-4662-8419-D3CC331BB15C}"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1" name="Naslov 1" descr=""/>
          <p:cNvPicPr/>
          <p:nvPr/>
        </p:nvPicPr>
        <p:blipFill>
          <a:blip r:embed="rId1"/>
          <a:stretch/>
        </p:blipFill>
        <p:spPr>
          <a:xfrm>
            <a:off x="500040" y="225360"/>
            <a:ext cx="8034480" cy="140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457200" y="1579680"/>
            <a:ext cx="8229600" cy="48276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ukrepov za spodbujanje raziskovalno razvojnih aktivnosti v gospodarstvu in institucijah znanja (ESRR&amp;ESS)</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CRP PROJEKT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Institucionalna evalvacija Zavoda RS za zaposlovanje</a:t>
            </a: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največjih programov aktivne politike zaposlovanja, vključno z ukrepi proti gospodarski in finančni kriz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
        <p:nvSpPr>
          <p:cNvPr id="1173"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45A17-F9E3-4139-AF52-FE4AB0C73B1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
          <p:cNvSpPr txBox="1"/>
          <p:nvPr/>
        </p:nvSpPr>
        <p:spPr>
          <a:xfrm>
            <a:off x="108000" y="1174680"/>
            <a:ext cx="9036000" cy="4786560"/>
          </a:xfrm>
          <a:prstGeom prst="rect">
            <a:avLst/>
          </a:prstGeom>
          <a:noFill/>
          <a:ln w="0">
            <a:noFill/>
          </a:ln>
        </p:spPr>
        <p:txBody>
          <a:bodyPr anchor="t">
            <a:normAutofit fontScale="87000"/>
          </a:bodyPr>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4. RP </a:t>
            </a:r>
            <a:endParaRPr b="0" lang="en-US" sz="16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treznost: V kakšni meri cilji prednostnih usmeritev vsebinsko prispevajo k strateškim ciljem OP RČV in k ciljem NSRO? Ali so instrumenti predstavljali primeren odziv na spremenjene družbeno gospodarske razmere?  Ali so pokrita vsa ključna področja socialne vključenosti in enakosti možnosti glede na možnosti, ki izhajajo iz OP?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Skladnost: V kakšni meri izvajane aktivnosti prispevajo k splošnim ciljem OP RČV? Ali so instrumenti sledili postavljenim strategijam na nacionalni in na EU ravni?Koliko in kako se instrumenti dopolnjujejo z drugimi politikami razvoja človeških virov (predvsem na področju trga dela, izobraževanja in kulture)?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pešnost: Kateri so bili dejavniki vpliva na uspešnost doseganja teh ciljev? Kje je prišlo do odklonov od zastavljenih ciljev in zakaj in kako bi bilo mogoče doseči večjo uspešnost?  Kakšna so priporočila za bodoče izvajanje? Kako uspešno je izvajanje iz vidika ciljnih skupin/posameznikov?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činkovitost: 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V kolikšni meri regionalna razpršenost končnih upravičencev odraža regionalne potrebe (tudi vsebinsko)? V kolikšni meri so se programi socialnega vključevanja izvajali regionalno? Vpliv programov na razvoj NVO sektorja (pri relevantnih programih).</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Trajnost: Kakšni so konkretni vplivi operacij, še posebej iz vidika zaposljivosti vključenosti ciljnih skupin? Kako je vključenost v operacijo vplivala na posameznika? Kako bi morali biti oblikovani instrumenti, da bi se dosegla večja trajnost projektov? Kako je s projekti po prekinitvi financiranja?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PU 5.1, 5.3 in 5.4</a:t>
            </a:r>
            <a:endParaRPr b="0" lang="en-US" sz="16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treznost: </a:t>
            </a:r>
            <a:r>
              <a:rPr b="0" lang="sl-SI" sz="1100" spc="-1" strike="noStrike">
                <a:solidFill>
                  <a:srgbClr val="000000"/>
                </a:solidFill>
                <a:latin typeface="Arial"/>
                <a:ea typeface="Calibri"/>
              </a:rPr>
              <a:t>V kakšni meri cilji prednostnih usmeritev vsebinsko prispevajo k strateškim ciljem OP RČV in k ciljem NSRO? Ali so instrumenti predstavljali primeren odziv na ključne potreb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Calibri"/>
              </a:rPr>
              <a:t>Skladnost: V kakšni meri izvajane aktivnosti prispevajo k splošnim ciljem OP RČV? Ali so instrumenti sledili postavljenim strategijam na nacionalni in na EU ravni? Koliko in kako se instrumenti dopolnjujejo z drugimi politikami razvoja človeških virov (predvsem na področju konkurenčnosti)?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pešnost: </a:t>
            </a:r>
            <a:r>
              <a:rPr b="0" lang="sl-SI" sz="1100" spc="-1" strike="noStrike">
                <a:solidFill>
                  <a:srgbClr val="000000"/>
                </a:solidFill>
                <a:latin typeface="Arial"/>
                <a:ea typeface="Calibri"/>
              </a:rPr>
              <a:t>Kateri so bili dejavniki vpliva na uspešnost doseganja teh ciljev? Kje je prišlo do odklonov od zastavljenih ciljev in zakaj in kako bi bilo mogoče doseči večjo uspešnost?  Kakšna so priporočila za bodoče izvajanj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činkovitost:</a:t>
            </a:r>
            <a:r>
              <a:rPr b="0" lang="sl-SI" sz="1100" spc="-1" strike="noStrike">
                <a:solidFill>
                  <a:srgbClr val="000000"/>
                </a:solidFill>
                <a:latin typeface="Arial"/>
                <a:ea typeface="Calibri"/>
              </a:rPr>
              <a:t>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Trajnost:</a:t>
            </a:r>
            <a:r>
              <a:rPr b="0" lang="sl-SI" sz="1100" spc="-1" strike="noStrike">
                <a:solidFill>
                  <a:srgbClr val="000000"/>
                </a:solidFill>
                <a:latin typeface="Arial"/>
                <a:ea typeface="Calibri"/>
              </a:rPr>
              <a:t>Kakšni so konkretni vplivi operacij, še posebej iz vidika konkurenčnosti države in gospodarskega okolja? Kako je s projekti po prekinitvi financiranja?</a:t>
            </a:r>
            <a:endParaRPr b="0" lang="en-US" sz="1100" spc="-1" strike="noStrike">
              <a:solidFill>
                <a:srgbClr val="000000"/>
              </a:solidFill>
              <a:latin typeface="Lucida Sans Unicode"/>
            </a:endParaRPr>
          </a:p>
        </p:txBody>
      </p:sp>
      <p:sp>
        <p:nvSpPr>
          <p:cNvPr id="1175"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50AAF-4053-47F2-9381-87CD93F751E1}"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6" name="Naslov 1" descr=""/>
          <p:cNvPicPr/>
          <p:nvPr/>
        </p:nvPicPr>
        <p:blipFill>
          <a:blip r:embed="rId1"/>
          <a:stretch/>
        </p:blipFill>
        <p:spPr>
          <a:xfrm>
            <a:off x="639720" y="298440"/>
            <a:ext cx="8034480" cy="92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457200" y="1579680"/>
            <a:ext cx="8229600" cy="4827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Lucida Sans Unicode"/>
              </a:rPr>
              <a:t>… </a:t>
            </a:r>
            <a:r>
              <a:rPr b="0" lang="sl-SI" sz="2700" spc="-1" strike="noStrike">
                <a:solidFill>
                  <a:srgbClr val="000000"/>
                </a:solidFill>
                <a:latin typeface="Lucida Sans Unicode"/>
              </a:rPr>
              <a:t>vrednotenja v okviru operacij</a:t>
            </a:r>
            <a:endParaRPr b="0" lang="en-US" sz="2700" spc="-1" strike="noStrike">
              <a:solidFill>
                <a:srgbClr val="000000"/>
              </a:solidFill>
              <a:latin typeface="Lucida Sans Unicode"/>
            </a:endParaRPr>
          </a:p>
        </p:txBody>
      </p:sp>
      <p:sp>
        <p:nvSpPr>
          <p:cNvPr id="1178"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67100-813C-45E6-BBB9-0C36ABE3CDEF}"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dc:creator>
  <dc:description/>
  <dc:language>en-US</dc:language>
  <cp:lastModifiedBy>Staša Mesec</cp:lastModifiedBy>
  <cp:lastPrinted>2014-05-28T06:42:49Z</cp:lastPrinted>
  <dcterms:modified xsi:type="dcterms:W3CDTF">2014-05-28T12:57:51Z</dcterms:modified>
  <cp:revision>25</cp:revision>
  <dc:subject/>
  <dc:title>Naslov</dc:title>
</cp:coreProperties>
</file>