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73152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7480" y="742680"/>
            <a:ext cx="464364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A820E-42DE-478C-A250-C4D36CFC17FD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5432E-F693-4512-B90D-F17A6B018A49}" type="slidenum"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077840" y="743040"/>
            <a:ext cx="4643640" cy="37148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077840" y="743040"/>
            <a:ext cx="4643640" cy="37148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1C66E-17AC-45E8-9445-60B6A2BC573E}" type="slidenum"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495C-2956-460B-98F0-7B47514E3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7DEB-1748-425F-9F09-A8432AEDE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A715-074D-4C69-9279-9CBAFFE9E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C99C-8FAB-4EAE-B435-7D9225DD3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7D7B9-E329-42DA-92F2-EB1750FB1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4981E-16BA-4A14-A4AB-AFABBF2CC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D58D5-F9EF-46F7-8352-1991855CD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10FCC-3CE1-4B35-9F34-21DC34A10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E4A37-81C3-49DB-A9D7-FFCE6CE72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2E05E-1ACC-439E-9CF9-0B19C29BF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F5676-14B9-445B-8D1B-C62E673C4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FB92-93DA-4B0E-BDD8-C97F0AEA8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DA5F8-A95E-4090-986E-3BE5423E5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131E8-FCC1-486A-871A-2D2597C2D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C50E8-763A-460E-B5EC-15AD4FD01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EA520-2C4F-4387-A063-41E17C664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2F911-8D22-4619-8A98-BB7FCAA9A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386F-5AD4-4D68-A503-963EB1865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1ECD-5BF2-42E3-89F5-B720281F6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847F-B753-48C3-9D65-25C4CE513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6E23-4B19-41AE-9614-E5EBFF5DB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D862-7642-48A2-8AC3-EF63BCD92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B0BB-734C-4589-8723-2CE5961F9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3CB9-6DEC-405B-B2BC-64502D0C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7035480"/>
            <a:ext cx="21337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34ea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336B0-1044-4F4F-A0A0-D8187B3E774F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7035480"/>
            <a:ext cx="28958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7035480"/>
            <a:ext cx="21337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34ea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1BE4B-8062-42B3-B3DE-025A2F11FAD9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B5AB9-8BFF-40A3-9E82-7B05D0EEF8B1}" type="datetime">
              <a:rPr b="0" lang="sl-SI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60720"/>
            <a:ext cx="28958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7C3A2-1091-40CA-A9E6-396231DAD3C7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ED7CD-80A2-466D-A6F4-0E3FA5BB8B40}" type="datetime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86D94-3795-486F-BE67-4E06EEF14316}" type="slidenum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1044720" y="1136520"/>
            <a:ext cx="287964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3366"/>
                </a:solidFill>
                <a:latin typeface="Century Gothic"/>
                <a:ea typeface="Arial"/>
              </a:rPr>
              <a:t>MINISTRSTVO ZA 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Beethovnova 11, 1000 Ljublja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Tel.: (01) 369-65-10 Fax: (01) 369-65-3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SUSEU/PO - ORGAN ZA POTRJEVANJ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971640" y="2881440"/>
            <a:ext cx="7270560" cy="29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179280" y="3152880"/>
            <a:ext cx="849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Finančna realizacija izvajanj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OP RČV za obdobje </a:t>
            </a:r>
            <a:br>
              <a:rPr sz="4400"/>
            </a:b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2007-2013</a:t>
            </a:r>
            <a:r>
              <a:rPr b="0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39600" y="4233960"/>
            <a:ext cx="9104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460A0-B048-44D0-95EC-0C0E11A5DE80}" type="datetime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2FEA3-4755-4A9C-B5C0-013543289D18}" type="slidenum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0"/>
          <p:cNvSpPr/>
          <p:nvPr/>
        </p:nvSpPr>
        <p:spPr>
          <a:xfrm>
            <a:off x="1628640" y="1054080"/>
            <a:ext cx="637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Letni pregled avtoriziranih/certificiranih izdat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3"/>
          <p:cNvSpPr/>
          <p:nvPr/>
        </p:nvSpPr>
        <p:spPr>
          <a:xfrm>
            <a:off x="860400" y="1496880"/>
            <a:ext cx="565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Prispevek Skupnosti (v EUR</a:t>
            </a:r>
            <a:r>
              <a:rPr b="0" lang="sl-SI" sz="1200" spc="-1" strike="noStrike">
                <a:solidFill>
                  <a:srgbClr val="003366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9" descr=""/>
          <p:cNvPicPr/>
          <p:nvPr/>
        </p:nvPicPr>
        <p:blipFill>
          <a:blip r:embed="rId1"/>
          <a:stretch/>
        </p:blipFill>
        <p:spPr>
          <a:xfrm>
            <a:off x="971640" y="1785960"/>
            <a:ext cx="3456000" cy="2473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"/>
          <p:cNvPicPr/>
          <p:nvPr/>
        </p:nvPicPr>
        <p:blipFill>
          <a:blip r:embed="rId2"/>
          <a:stretch/>
        </p:blipFill>
        <p:spPr>
          <a:xfrm>
            <a:off x="3851280" y="4335480"/>
            <a:ext cx="458460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0DEB8-7F5B-404D-9B99-050E0584703C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2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050EA-BFC8-48A5-95FB-244CFA838091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89796-4384-4793-BBB2-BEC10632A93B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DB04D-04F9-400C-B58A-6F2218C4961B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4"/>
          <p:cNvSpPr/>
          <p:nvPr/>
        </p:nvSpPr>
        <p:spPr>
          <a:xfrm>
            <a:off x="826920" y="99360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PREGLED FINANČNIH TO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9"/>
          <p:cNvSpPr/>
          <p:nvPr/>
        </p:nvSpPr>
        <p:spPr>
          <a:xfrm>
            <a:off x="5740560" y="633240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1"/>
          <p:cNvGrpSpPr/>
          <p:nvPr/>
        </p:nvGrpSpPr>
        <p:grpSpPr>
          <a:xfrm>
            <a:off x="250920" y="1641600"/>
            <a:ext cx="8353440" cy="4532040"/>
            <a:chOff x="250920" y="1641600"/>
            <a:chExt cx="8353440" cy="4532040"/>
          </a:xfrm>
        </p:grpSpPr>
        <p:pic>
          <p:nvPicPr>
            <p:cNvPr id="109" name="Picture 9" descr=""/>
            <p:cNvPicPr/>
            <p:nvPr/>
          </p:nvPicPr>
          <p:blipFill>
            <a:blip r:embed="rId1"/>
            <a:stretch/>
          </p:blipFill>
          <p:spPr>
            <a:xfrm>
              <a:off x="285480" y="1641600"/>
              <a:ext cx="8308440" cy="66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10" descr=""/>
            <p:cNvPicPr/>
            <p:nvPr/>
          </p:nvPicPr>
          <p:blipFill>
            <a:blip r:embed="rId2"/>
            <a:stretch/>
          </p:blipFill>
          <p:spPr>
            <a:xfrm>
              <a:off x="250920" y="2290680"/>
              <a:ext cx="8353440" cy="3882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60969-9A8B-4CC9-B52B-B5A586BF56B6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BAB5A-025F-490F-AC49-C2CEFACDACE2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908000" y="2936880"/>
          <a:ext cx="5400720" cy="1441440"/>
        </p:xfrm>
        <a:graphic>
          <a:graphicData uri="http://schemas.openxmlformats.org/drawingml/2006/table">
            <a:tbl>
              <a:tblPr/>
              <a:tblGrid>
                <a:gridCol w="1224000"/>
                <a:gridCol w="2089440"/>
                <a:gridCol w="2087280"/>
              </a:tblGrid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Pogoji za certificira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ZzP v obdelavi na P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. 5.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00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,1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40"/>
          <p:cNvSpPr/>
          <p:nvPr/>
        </p:nvSpPr>
        <p:spPr>
          <a:xfrm>
            <a:off x="1117800" y="1698480"/>
            <a:ext cx="67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Arial"/>
                <a:ea typeface="Arial"/>
              </a:rPr>
              <a:t>STANJE ZzP NA ORGANU ZA POTRJE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7"/>
          <p:cNvSpPr/>
          <p:nvPr/>
        </p:nvSpPr>
        <p:spPr>
          <a:xfrm>
            <a:off x="1835280" y="2649600"/>
            <a:ext cx="56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8"/>
          <p:cNvSpPr/>
          <p:nvPr/>
        </p:nvSpPr>
        <p:spPr>
          <a:xfrm>
            <a:off x="2425320" y="4665600"/>
            <a:ext cx="4475520" cy="5806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Calibri"/>
                <a:ea typeface="Calibri"/>
              </a:rPr>
              <a:t>4,1 mio € = 123 zahtevkov za povračil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Calibri"/>
                <a:ea typeface="Calibri"/>
              </a:rPr>
              <a:t>Št. prejetih ZzP v l. 2014: 654 v vrednosti 45,1 mio €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EB413-2AB1-4C6E-93F5-692D15B503F8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2DC05-B353-4078-B8BA-966F856BCE35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3"/>
          <p:cNvSpPr/>
          <p:nvPr/>
        </p:nvSpPr>
        <p:spPr>
          <a:xfrm>
            <a:off x="1333800" y="1569960"/>
            <a:ext cx="671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34ea2"/>
                </a:solidFill>
                <a:latin typeface="Arial"/>
                <a:ea typeface="Arial"/>
              </a:rPr>
              <a:t>Uresničevanje pravila n+2/3 za OP RČV 07-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4"/>
          <p:cNvSpPr/>
          <p:nvPr/>
        </p:nvSpPr>
        <p:spPr>
          <a:xfrm>
            <a:off x="324000" y="2433600"/>
            <a:ext cx="56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  <a:ea typeface="Arial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4"/>
          <p:cNvSpPr/>
          <p:nvPr/>
        </p:nvSpPr>
        <p:spPr>
          <a:xfrm>
            <a:off x="378000" y="4952880"/>
            <a:ext cx="5655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  <a:ea typeface="Arial"/>
              </a:rPr>
              <a:t>Stopnja doseganja FN 2007-2013 na dan 9. 5. 2014: 73,1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01760" y="2627280"/>
          <a:ext cx="8151840" cy="162000"/>
        </p:xfrm>
        <a:graphic>
          <a:graphicData uri="http://schemas.openxmlformats.org/drawingml/2006/table">
            <a:tbl>
              <a:tblPr/>
              <a:tblGrid>
                <a:gridCol w="8151840"/>
              </a:tblGrid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Uredba (EU) št. 539/2010 z dne 16.6.2010 o spremembi 93. člena Uredbe (ES) št. 1083/20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pic>
        <p:nvPicPr>
          <p:cNvPr id="124" name="Picture 15" descr=""/>
          <p:cNvPicPr/>
          <p:nvPr/>
        </p:nvPicPr>
        <p:blipFill>
          <a:blip r:embed="rId1"/>
          <a:stretch/>
        </p:blipFill>
        <p:spPr>
          <a:xfrm>
            <a:off x="385920" y="2827440"/>
            <a:ext cx="8073720" cy="20397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F7C98-A42E-40DB-AC56-CFE73EDD09D1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83242-0C60-431C-82E6-AC24B6EEFDEF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1736280" y="1928880"/>
            <a:ext cx="45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34ea2"/>
                </a:solidFill>
                <a:latin typeface="Arial"/>
                <a:ea typeface="Arial"/>
              </a:rPr>
              <a:t>Zahtevek za plačilo - napove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332000" y="2936880"/>
          <a:ext cx="6095880" cy="155412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34ea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redn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20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128,2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20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  </a:t>
                      </a: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78,7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Rectangle 47"/>
          <p:cNvSpPr/>
          <p:nvPr/>
        </p:nvSpPr>
        <p:spPr>
          <a:xfrm>
            <a:off x="1328040" y="4788000"/>
            <a:ext cx="1927080" cy="3070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Arial"/>
              </a:rPr>
              <a:t>Vir: SFC 2007 –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4"/>
          <p:cNvSpPr/>
          <p:nvPr/>
        </p:nvSpPr>
        <p:spPr>
          <a:xfrm>
            <a:off x="1258920" y="5529240"/>
            <a:ext cx="6192720" cy="276480"/>
          </a:xfrm>
          <a:prstGeom prst="rect">
            <a:avLst/>
          </a:prstGeom>
          <a:solidFill>
            <a:srgbClr val="034e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ffffff"/>
                </a:solidFill>
                <a:latin typeface="Arial Unicode MS"/>
                <a:ea typeface="Arial"/>
              </a:rPr>
              <a:t>Realizacija napovedi 2014 na dan 9. 5. 2014 = 39,1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Evelyn Filip</cp:lastModifiedBy>
  <cp:lastPrinted>2012-06-04T14:32:47Z</cp:lastPrinted>
  <dcterms:modified xsi:type="dcterms:W3CDTF">2014-05-16T15:29:33Z</dcterms:modified>
  <cp:revision>166</cp:revision>
  <dc:subject/>
  <dc:title>Naslov</dc:title>
</cp:coreProperties>
</file>