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72800" y="744120"/>
            <a:ext cx="46530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BA0E86A-0805-49DE-AC7B-0EDE140C0157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073160" y="744480"/>
            <a:ext cx="465300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grada številke diapozitiva 3"/>
          <p:cNvSpPr/>
          <p:nvPr/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043FA80-CC5A-4756-9F9E-0D5A7E8940F1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6714-F6D9-4729-9601-569442E40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02A3-E960-4996-870C-7D1D0B61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CBB9-9BA8-4AD8-9F6D-94EC55CF1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04A0-A921-4BA7-800C-D196CAC1A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0379-BB04-49E6-8282-F4C6C848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C0DA-0036-460E-B77F-664543C4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97B3-AD8F-4D9C-8581-3AB11F15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5764-ACCD-48A2-A4E7-60B02C1E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E611-D4AB-4B39-AB40-6806F5D0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4080-7C30-4BAD-8C48-17D12F9E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380F-71CC-4E31-8AA2-43F39A2C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F9A5-C6CD-4D93-A096-CE341DE8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719D-D29B-4380-A8F5-2A064B8B1025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u-skladi.si/" TargetMode="External"/><Relationship Id="rId2" Type="http://schemas.openxmlformats.org/officeDocument/2006/relationships/hyperlink" Target="http://www.facebook.com/EUskladi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lika 3" descr="euskladi_template.bmp"/>
          <p:cNvPicPr/>
          <p:nvPr/>
        </p:nvPicPr>
        <p:blipFill>
          <a:blip r:embed="rId1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9" name="Slika 3" descr="euskladi_template1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Izvajanje 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Operativnega programa razvoja človeških virov 2007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14504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dr. Jasminka Dedi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Urad za kohezijsko politiko – Sektor za skl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Ljubljana, 28.5.20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28760" y="11574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V letu 2014 bo OU z izvajanjem projektov tehnične pomoči še naprej zagotavljal učinkovito izvajanje operativnega programa, razvojnih prioritet, prednostnih usmeritev ter operacij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izvedenih zaposlitev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usposabljanje zaposlenih na področju kohezijske politik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bveščanje javnosti v skladu s komunikacijskim načrto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študij in vrednotenj v skladu z zahtevami iz evropskih uredb in smernicami in načrtom OU za vrednotenje OP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stale aktivnosti, potrebne za učinkovito izvedbo OP (delovna srečanja, kontrole na kraju samem, organizacija dogodkov, aktivnosti upravljanja in izvajanja, financiranje usposabljanj, storitev nadgradnje IS ISARR itd.)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Tahoma"/>
                <a:ea typeface="Tahoma"/>
              </a:rPr>
              <a:t>priprave na novo programsko obdobje 2014-202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Načrt izvajanja za preostanek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34ea2"/>
                </a:solidFill>
                <a:latin typeface="Arial"/>
              </a:rPr>
              <a:t>Vprašanja, pripombe, predlogi…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14240" y="4145040"/>
            <a:ext cx="742968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34ea2"/>
                </a:solidFill>
                <a:latin typeface="Arial"/>
              </a:rPr>
              <a:t>Obiščite nas tudi n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facebook.com/EUskla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eu-skladi.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grada številke diapozitiva 1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EA2E-75B7-4468-8C49-F237888A0A7B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1209600"/>
            <a:ext cx="896472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34ea2"/>
                </a:solidFill>
                <a:latin typeface="Arial"/>
              </a:rPr>
              <a:t>Napredek pri finančnem izvajanju OPRČV do 30.4.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4162320"/>
            <a:ext cx="8229600" cy="23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grada vsebine 2"/>
          <p:cNvSpPr/>
          <p:nvPr/>
        </p:nvSpPr>
        <p:spPr>
          <a:xfrm>
            <a:off x="428760" y="4157640"/>
            <a:ext cx="82296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108000" y="1425600"/>
            <a:ext cx="8856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14B4-C634-4764-8A7D-A70D8237A834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8000" y="849240"/>
            <a:ext cx="8785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34ea2"/>
                </a:solidFill>
                <a:latin typeface="Arial"/>
              </a:rPr>
              <a:t>Finančno izvajanje OPRČV po leti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5902-EF70-475E-8426-527BFDBF43CC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79280" y="1281240"/>
            <a:ext cx="87138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15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Potrjeni instrumenti v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065240"/>
          <a:ext cx="8429400" cy="62737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1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7538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jetno v svet podjetništva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61.4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42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Zaposli me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2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ovednik zaposlo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4.7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4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aj do znanja – Uresničevanje ciljev Strategije vzgoje in izobraževanja Romov v Sloveni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olnomočenje ranljivih skupin preko informatorjev na centrih za socialno delo Sloven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71.6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41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 karierne perspektive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2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instrument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27.8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00E9-3FC6-4857-A880-77610A98B1F6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1065240"/>
          <a:ext cx="8429400" cy="55753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036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4507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z faksa takoj praks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 kreativni poti do znanja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spodbujanja podjetnosti v VIZ z namenom razvoja podjetništva med mlad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vig poklicnih kompetenc učitelje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isarna za delodajal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estrimo šo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rav življenjski sl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zivni tečaj slovenskega jezika za migr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6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olic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 za spodbujanje NVO in civilnega dialoga 2014-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5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26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instrumen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.431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3711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Izvajanje v letu 201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3840" y="1371240"/>
            <a:ext cx="821556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349"/>
              </a:spcBef>
              <a:buClr>
                <a:srgbClr val="034ea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Obveščanje javnost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pletna stran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skladi.s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ocialno omrežje Facebook: 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acebook.com/EUsklad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Dogodk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U Javne razprave o novi finančni perspektiv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znanja in trga del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okolja, urbanega razvoja, kmetijstva in ribištv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vključujoče družb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pravne države, učinkovitega javnega sektorja in nevladnih organizaci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srečanja Višegrajske skupi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IQ konferen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Veliki informativni dogodek »Razvojni potencial v Zasavski regiji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dogodka v okviru Pop-up doma v Tobač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E-kohezijski kotič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34ea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Upravljanje in izvajanje program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financiranje zaposlitev iz sredstev tehnične pomoči pri upravičencih, vključenih v izvajanje OP RČV, (SVRK, MGRT, MDDSZ, JSRKŠ, ZRSZ, MIZŠ, MNZ, MK, SPIRIT, MZ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usposabljanja, delavnice za delo na področju evropske kohezijske politike in delovna srečanja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razvoj in nadgradnja informacijskega sistema za spremljanje in vrednotenje – ISAR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Kazalniki (presečni datum 31.12.20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4481640" y="-4734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30178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79280" y="1714680"/>
            <a:ext cx="84963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sminka Dedić</cp:lastModifiedBy>
  <dcterms:modified xsi:type="dcterms:W3CDTF">2014-05-29T06:59:02Z</dcterms:modified>
  <cp:revision>202</cp:revision>
  <dc:subject/>
  <dc:title>Naslov</dc:title>
</cp:coreProperties>
</file>