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73152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58D6-EA75-4FD2-942A-6D96D454D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60D6-E031-4BE4-BE67-EBCD7D3EB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F393-54A4-445A-A3D6-46D4A7EF8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564D-1570-487A-AD46-63E27B589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0BB3-5D3D-4376-862B-8D7D29C82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C31F-F8F6-4598-94C3-93CD2CBCA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94D6-A8F8-4587-A55A-B7537971F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661C-C82D-4683-8691-E5C74143B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9DF5-459D-492E-876C-26A452D2F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D59B-4FF1-4BEA-9F9F-091DC8BEE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4F6C-43E4-4C0A-9175-BF2E8443F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2181-0103-496C-955A-215FFD090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61080"/>
            <a:ext cx="289584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5389F-8F37-43E3-97D8-3531F1B2BD35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258920" y="3586320"/>
            <a:ext cx="6400800" cy="186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Slika 1" descr=""/>
          <p:cNvPicPr/>
          <p:nvPr/>
        </p:nvPicPr>
        <p:blipFill>
          <a:blip r:embed="rId1"/>
          <a:stretch/>
        </p:blipFill>
        <p:spPr>
          <a:xfrm>
            <a:off x="34920" y="1209600"/>
            <a:ext cx="864072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1T06:19:56Z</dcterms:created>
  <dc:creator>Z</dc:creator>
  <dc:description/>
  <dc:language>en-US</dc:language>
  <cp:lastModifiedBy>Janika Gregorič Zečevič</cp:lastModifiedBy>
  <dcterms:modified xsi:type="dcterms:W3CDTF">2014-05-29T07:04:26Z</dcterms:modified>
  <cp:revision>37</cp:revision>
  <dc:subject/>
  <dc:title>Naslov</dc:title>
</cp:coreProperties>
</file>