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BF5B-40F9-4F10-97D1-385F713F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39C-DB8A-4ABF-B915-D21FD944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76E-5E4E-4F28-B11E-88D46815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9A5-D780-49B2-9D2A-3D39C83D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34B5-1200-4319-A07C-F5360D50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F5A1-CCF0-4521-B459-1295E6A0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4570-7991-4FF1-8D63-9B4A066A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0315-A0C0-453A-9E56-47937460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5E8D-74E0-4F57-8ABB-7C1C558B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1BEE-BBD2-4E82-919C-D90CFFFC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DE21-18AC-41EA-8E81-0FC8A6F4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44C-B40A-4986-9D87-3206B806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058E-E74C-41F0-A4FE-DB819AEA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9992-B83A-4ABB-8C4F-E95C0E13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4AA0-3BDC-4402-87AE-3AA9211B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0981-003A-421F-8A4A-E4E756C8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A902-9C31-40B7-92A3-A77E214E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738-9C66-4EB7-8428-1C3E502E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CAF-FE99-47E9-9C61-D476A430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3C4F-4617-4DB3-AA65-2E876AB6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C7F5-CA26-4338-8420-30887D57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F53F-ABE3-4D06-A970-8422BDAA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D81-8E51-4586-AAB5-1ED55A10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5DBD-40C7-445D-8726-F7EBAEA2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97EA-A4C2-47BD-A106-FA62069C5A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466A-9855-4949-8080-4CFF2AB5C0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IZVEDBENI NAČRT RRP ZASAVSKE REGIJE ZA OBDOBJE 2007-2009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488360" cy="647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995640" y="4653000"/>
            <a:ext cx="890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ržavni razvojni program 2007 – 2009, referenčni okvir ter operativni programi posredovani v Brusel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perativni program krepitve regionalnih razvojnih programo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rektne vzpodbude (regionalni razvojni program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ektorske vzpodbude (ESS, ESRR, Kmetijski sklad, Kohezijski sklad - razpis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bmočna partnerstva (sektorske vzpodbud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dikativna razporeditev sredste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Zasavska regija - 19 mio € za obdobje 2007 – 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Na prebivalca 409 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redvidene dejavnos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konomska in izobraževalna infrastruktura (poslovne in obrtne cone, tehnološki parki, razvojni centri regionalnega pomena, izobraževalna središča,…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rometna infrastruktura (lokalne ceste regionalnega pomen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koljska infrastruktura (obvladovanje in čiščenje odpadnih voda, čistilne naprave, oskrba s pitno vodo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zvojni projekti v območju s posebnimi varstvenimi režimi in v turističnih območij (priprava upravljavskih načrtov ter izvedba projektov v okviru Natura 2000, turistična infrastruktura,…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zvoj urbanih območij (razvoj družbene in gospodarske infrastrukture, prenova starih mestnih jeder, prenova degradiranih in opuščenih urbanih področij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cialna infrastruktura (kultura, zdravstvo, socialnovarstvena infrastruktura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272360" cy="60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890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rektne vzpodbud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odjetniški inkub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odjetno v svet podjetništ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romocija poslovnih prilož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reučevanje vplivov na okol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Infrastruktura, ki podpira razvoj regi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Vodovod Turje-Gore-Kopit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Modernizacija LC Marno-Turje-Kopit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Hrastnik-Radeč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Čeče-Bob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Jesenova rav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Čeče-Kal-Bl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Liza-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Poligon varne vožn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Zasneževanje in ureditev TRC 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Zaloka-Jesenovo-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Izlake-Čemše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Izgradnja parkirišč v Zagor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Ureditev regijskega sejemsko-prireditvenega prosto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Izgradnja MC in spremljajočih dejavnos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Prenova starega mestnega jedra – Cankarjev t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7274160" cy="425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956720" y="5661000"/>
            <a:ext cx="890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5280" y="765000"/>
          <a:ext cx="8424720" cy="518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65000"/>
                    <a:ext cx="842472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826920" y="189000"/>
            <a:ext cx="7490160" cy="425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388360" y="6021360"/>
            <a:ext cx="6033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ktorske vzpodbud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81120" y="1600200"/>
          <a:ext cx="7781760" cy="44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600200"/>
                    <a:ext cx="778176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55640" y="189000"/>
            <a:ext cx="7561440" cy="425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8317080" y="6021360"/>
            <a:ext cx="6015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81120" y="1600200"/>
          <a:ext cx="77817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600200"/>
                    <a:ext cx="77817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403280" y="189000"/>
            <a:ext cx="6551640" cy="4255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890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14:40Z</dcterms:created>
  <dc:creator>Helena Butolen</dc:creator>
  <dc:description/>
  <dc:language>en-US</dc:language>
  <cp:lastModifiedBy>Helena Butolen</cp:lastModifiedBy>
  <dcterms:modified xsi:type="dcterms:W3CDTF">2007-03-30T09:26:16Z</dcterms:modified>
  <cp:revision>9</cp:revision>
  <dc:subject/>
  <dc:title>IZVEDBENI NAČRT RRP ZASAVSKE REGIJE ZA OBDOBJE 2007-2009</dc:title>
</cp:coreProperties>
</file>