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DFDC-87FD-45E1-9E00-380DC8F0D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7954-49EE-44E7-8A24-3D602598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832B-E10E-446F-AAFC-526027F9A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9AA1-7DA1-4755-A487-4411ED4B7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3027-F51F-4A18-BB03-371161C5F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8A18-F955-4DDA-909F-BC3AE5D8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82F5-8232-4643-BE1F-7377B7B2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C6807-26DD-4905-BD8E-0B8893FA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8DD9-8C39-4427-91C4-42026850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7729-4BEC-4C95-9C40-013A1CC0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36D9-E973-495C-9381-034AC194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963F-957B-4E60-A404-252867C8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FC99-F096-4710-AC68-65E91022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2FFA-6429-4E5D-AA1C-9FE949F0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7522-9A9C-49F6-9A61-3EC62F64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A267-A544-4F50-81AD-073986380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C28D-781C-4204-A44D-9DA8161B1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721D-0211-47B4-849B-52BB0ADD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9668-C42D-4E54-9CD1-57D354CD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450D-5447-4248-91BB-91A3EE31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9982-423C-48D8-902F-43F7A35D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B792-19C3-43C3-A013-7325AF93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18D5-EAC3-4467-A6DD-ED6AA157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C4D7-6F11-4F76-87D8-9D091AC5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3713-779A-4863-AF7D-C49883DA42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AEEF-F571-4196-8FE2-465F95443F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IZVEDBENI NAČRT RRP ZASAVSKE REGIJE ZA OBDOBJE 2007-2009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488360" cy="647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995640" y="4653000"/>
            <a:ext cx="8906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ržavni razvojni program 2007 – 2009, referenčni okvir ter operativni programi posredovani v Bruselj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Operativni program krepitve regionalnih razvojnih programo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rektne vzpodbude (regionalni razvojni program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ektorske vzpodbude (ESS, ESRR, Kmetijski sklad, Kohezijski sklad - razpis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Območna partnerstva (sektorske vzpodbud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dikativna razporeditev sredste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Zasavska regija - 19 mio € za obdobje 2007 – 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Na prebivalca 409 €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redvidene dejavnost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Ekonomska in izobraževalna infrastruktura (poslovne in obrtne cone, tehnološki parki, razvojni centri regionalnega pomena, izobraževalna središča,…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rometna infrastruktura (lokalne ceste regionalnega pomen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Okoljska infrastruktura (obvladovanje in čiščenje odpadnih voda, čistilne naprave, oskrba s pitno vodo,…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azvojni projekti v območju s posebnimi varstvenimi režimi in v turističnih območij (priprava upravljavskih načrtov ter izvedba projektov v okviru Natura 2000, turistična infrastruktura,…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azvoj urbanih območij (razvoj družbene in gospodarske infrastrukture, prenova starih mestnih jeder, prenova degradiranih in opuščenih urbanih področij,…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cialna infrastruktura (kultura, zdravstvo, socialnovarstvena infrastruktura,…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272360" cy="608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890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rektne vzpodbud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00"/>
                </a:solidFill>
                <a:latin typeface="Arial"/>
              </a:rPr>
              <a:t>Podjetniški inkub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00"/>
                </a:solidFill>
                <a:latin typeface="Arial"/>
              </a:rPr>
              <a:t>Podjetno v svet podjetništ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00"/>
                </a:solidFill>
                <a:latin typeface="Arial"/>
              </a:rPr>
              <a:t>Promocija poslovnih priložnos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00"/>
                </a:solidFill>
                <a:latin typeface="Arial"/>
              </a:rPr>
              <a:t>Preučevanje vplivov na okol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00"/>
                </a:solidFill>
                <a:latin typeface="Arial"/>
              </a:rPr>
              <a:t>Infrastruktura, ki podpira razvoj regi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Vodovod Turje-Gore-Kopitni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Modernizacija LC Marno-Turje-Kopitni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Hrastnik-Radeč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Čeče-Bob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Jesenova rav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Čeče-Kal-Bl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Liza-Vrh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Poligon varne vožnj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Zasneževanje in ureditev TRC Vrh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Zaloka-Jesenovo-Vrh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Izlake-Čemšeni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Izgradnja parkirišč v Zagorj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Ureditev regijskega sejemsko-prireditvenega prosto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Izgradnja MC in spremljajočih dejavnost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Prenova starega mestnega jedra – Cankarjev t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826920" y="115920"/>
            <a:ext cx="7274160" cy="4255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7956720" y="5661000"/>
            <a:ext cx="890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95280" y="765000"/>
          <a:ext cx="8424720" cy="518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765000"/>
                    <a:ext cx="8424720" cy="51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826920" y="189000"/>
            <a:ext cx="7490160" cy="4255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8388360" y="6021360"/>
            <a:ext cx="60336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ektorske vzpodbud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681120" y="1600200"/>
          <a:ext cx="7781760" cy="44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600200"/>
                    <a:ext cx="778176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755640" y="189000"/>
            <a:ext cx="7561440" cy="4255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8317080" y="6021360"/>
            <a:ext cx="60156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81120" y="1600200"/>
          <a:ext cx="778176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600200"/>
                    <a:ext cx="77817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1403280" y="189000"/>
            <a:ext cx="6551640" cy="4255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8906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07:14:40Z</dcterms:created>
  <dc:creator>Helena Butolen</dc:creator>
  <dc:description/>
  <dc:language>en-US</dc:language>
  <cp:lastModifiedBy>Helena Butolen</cp:lastModifiedBy>
  <dcterms:modified xsi:type="dcterms:W3CDTF">2007-03-30T09:26:16Z</dcterms:modified>
  <cp:revision>9</cp:revision>
  <dc:subject/>
  <dc:title>IZVEDBENI NAČRT RRP ZASAVSKE REGIJE ZA OBDOBJE 2007-2009</dc:title>
</cp:coreProperties>
</file>