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0426-2639-4A0B-8834-078DEF3B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BD29-50DD-4975-B7D8-45AC5A38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481F-BF50-456B-9EEB-946A3664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DDDB-0938-4C35-8BF2-252D2A74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A24B-E790-49FB-8F98-08C48D3E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8B12-F08B-454A-A7CF-1306B44F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D3D6-7B93-4E6F-AB03-6ADABC39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027C-E5C9-4386-8765-188977F6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F601-23DC-4D4A-97A5-1C182D5E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0229-2CC0-468B-84CF-EB19F4B8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5E93-A47B-4452-BD27-BF5FE102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0CFD-74F1-4BFD-B95A-F61E897B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F18B-CCC0-4E02-B9C9-1E44461F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AAE1-23CE-435C-BDDA-8B38CB05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A5CB-44F2-41B6-8B8C-F4C566B5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C045-FD0C-4F22-BD38-EFFAF0524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2E5B-6C95-414E-A1CA-D40D31FA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2C43-3C10-46C4-8C28-2C45C45D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34EC-ACD6-4569-B57D-3A242625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6503-A8C4-4C27-8152-EFD541A6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D6F3-99BB-4F94-824C-5B64780A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9279-9978-4F0F-BB0D-9B4E1805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B152-41CB-40AA-8862-D0697A28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1934-8BAF-4719-9CC1-FF582A57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D104-6FC5-4077-8810-F24163A09D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015F-B3BC-49C1-B46E-1783DA7DBB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IZVEDBENI NAČRT RRP ZASAVSKE REGIJE ZA OBDOBJE 2007-2009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488360" cy="647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995640" y="4653000"/>
            <a:ext cx="8906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ržavni razvojni program 2007 – 2009, referenčni okvir ter operativni programi posredovani v Bruselj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Operativni program krepitve regionalnih razvojnih programo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rektne vzpodbude (regionalni razvojni program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ektorske vzpodbude (ESS, ESRR, Kmetijski sklad, Kohezijski sklad - razpis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Območna partnerstva (sektorske vzpodbud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dikativna razporeditev sredste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Zasavska regija - 19 mio € za obdobje 2007 – 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Na prebivalca 409 €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redvidene dejavnost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Ekonomska in izobraževalna infrastruktura (poslovne in obrtne cone, tehnološki parki, razvojni centri regionalnega pomena, izobraževalna središča,…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rometna infrastruktura (lokalne ceste regionalnega pomen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Okoljska infrastruktura (obvladovanje in čiščenje odpadnih voda, čistilne naprave, oskrba s pitno vodo,…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azvojni projekti v območju s posebnimi varstvenimi režimi in v turističnih območij (priprava upravljavskih načrtov ter izvedba projektov v okviru Natura 2000, turistična infrastruktura,…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azvoj urbanih območij (razvoj družbene in gospodarske infrastrukture, prenova starih mestnih jeder, prenova degradiranih in opuščenih urbanih področij,…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cialna infrastruktura (kultura, zdravstvo, socialnovarstvena infrastruktura,…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272360" cy="608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890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rektne vzpodbud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Podjetniški inkub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Podjetno v svet podjetništ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Promocija poslovnih priložnos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Preučevanje vplivov na okol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Infrastruktura, ki podpira razvoj regi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Vodovod Turje-Gore-Kopitn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Modernizacija LC Marno-Turje-Kopitn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Hrastnik-Radeč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Čeče-Bob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Jesenova rav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Čeče-Kal-Bl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Liza-Vr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Poligon varne vožnj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Zasneževanje in ureditev TRC Vr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Zaloka-Jesenovo-Vr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Izlake-Čemšen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Izgradnja parkirišč v Zagorj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Ureditev regijskega sejemsko-prireditvenega prosto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Izgradnja MC in spremljajočih dejavnost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Prenova starega mestnega jedra – Cankarjev t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826920" y="115920"/>
            <a:ext cx="7274160" cy="4255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7956720" y="5661000"/>
            <a:ext cx="890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95280" y="765000"/>
          <a:ext cx="8424720" cy="518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765000"/>
                    <a:ext cx="8424720" cy="51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826920" y="189000"/>
            <a:ext cx="7490160" cy="4255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8388360" y="6021360"/>
            <a:ext cx="60336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ektorske vzpodbud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681120" y="1600200"/>
          <a:ext cx="7781760" cy="44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600200"/>
                    <a:ext cx="778176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755640" y="189000"/>
            <a:ext cx="7561440" cy="4255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8317080" y="6021360"/>
            <a:ext cx="60156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81120" y="1600200"/>
          <a:ext cx="77817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600200"/>
                    <a:ext cx="77817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1403280" y="189000"/>
            <a:ext cx="6551640" cy="4255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8906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7:14:40Z</dcterms:created>
  <dc:creator>Helena Butolen</dc:creator>
  <dc:description/>
  <dc:language>en-US</dc:language>
  <cp:lastModifiedBy>Helena Butolen</cp:lastModifiedBy>
  <dcterms:modified xsi:type="dcterms:W3CDTF">2007-03-30T09:26:16Z</dcterms:modified>
  <cp:revision>9</cp:revision>
  <dc:subject/>
  <dc:title>IZVEDBENI NAČRT RRP ZASAVSKE REGIJE ZA OBDOBJE 2007-2009</dc:title>
</cp:coreProperties>
</file>