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7"/>
          </p:nvPr>
        </p:nvSpPr>
        <p:spPr>
          <a:xfrm>
            <a:off x="3884760" y="0"/>
            <a:ext cx="2938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38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52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8"/>
          </p:nvPr>
        </p:nvSpPr>
        <p:spPr>
          <a:xfrm>
            <a:off x="0" y="8685000"/>
            <a:ext cx="29383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9383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DA17C2-F068-42B0-A86B-02F5EB22B75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143000" y="685800"/>
            <a:ext cx="4545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143000" y="685800"/>
            <a:ext cx="4545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143000" y="685800"/>
            <a:ext cx="4545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143000" y="685800"/>
            <a:ext cx="45435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143000" y="685800"/>
            <a:ext cx="45435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143000" y="685800"/>
            <a:ext cx="4545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143000" y="685800"/>
            <a:ext cx="4545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143000" y="685800"/>
            <a:ext cx="45594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143000" y="685800"/>
            <a:ext cx="4545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143000" y="685800"/>
            <a:ext cx="4545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143000" y="685800"/>
            <a:ext cx="45435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143000" y="685800"/>
            <a:ext cx="45594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143000" y="685800"/>
            <a:ext cx="4545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2FEE-C89A-4361-989E-A6C5FE2AA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961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1961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64FA-33AB-47DE-A693-37184D865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56960" y="15998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56960" y="39650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89AF-8A30-45B0-86F4-64B43C10D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38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28120" y="1599840"/>
            <a:ext cx="2638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99040" y="1599840"/>
            <a:ext cx="2638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38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28120" y="3965040"/>
            <a:ext cx="2638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99040" y="3965040"/>
            <a:ext cx="2638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9232-7AED-416B-9683-7EE90C394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4666E-B234-4114-B84D-445BB32BE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19612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2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D9D7C-0C4B-4198-B085-718D7AF34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9612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27170-A776-4488-B0CE-C2D88BDE6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6960" y="1599840"/>
            <a:ext cx="399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5A286-D1F0-4547-8FCA-021474AF4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745F0-42FA-4F7F-AE24-1ADB3BFB7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1961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C22FA-5E48-4D4C-A2DD-5C4B7696A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6960" y="1599840"/>
            <a:ext cx="399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5DE4E-1DD9-4F35-83BC-84C38603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19612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2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390D-A813-4A1F-AC2B-E57CB44ED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6960" y="15998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56960" y="39650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E6E25-9BC3-484D-A1C9-F2F95986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6960" y="15998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1961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F599D-5B38-420C-9BC0-0EE6E672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961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1961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6473E-E9F5-45FF-8A0E-3301C7D64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6960" y="15998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56960" y="39650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41232-D1BD-49B3-AF3D-DD4CF1211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38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28120" y="1599840"/>
            <a:ext cx="2638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99040" y="1599840"/>
            <a:ext cx="2638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38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28120" y="3965040"/>
            <a:ext cx="2638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99040" y="3965040"/>
            <a:ext cx="2638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97C15-5EEC-49AE-AE6D-D24EC3E89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9612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6255-1252-4601-A840-525CB6195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6960" y="1599840"/>
            <a:ext cx="399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3E3D-5FBC-498D-96AF-483A6302D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3F11-47B7-4293-B554-74281FE78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1961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0CAE-77CC-4CE2-8B4A-FE4C8ED31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6960" y="1599840"/>
            <a:ext cx="399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B427-E2FE-4E89-81F2-EF1648D41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6960" y="15998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56960" y="39650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12BD-1DF2-46EA-A9EC-CC791343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6960" y="15998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1961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F315-072E-4176-8BBC-798F60339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360" y="304920"/>
            <a:ext cx="7611840" cy="1104480"/>
            <a:chOff x="1071360" y="304920"/>
            <a:chExt cx="7611840" cy="1104480"/>
          </a:xfrm>
        </p:grpSpPr>
        <p:sp>
          <p:nvSpPr>
            <p:cNvPr id="1" name=""/>
            <p:cNvSpPr/>
            <p:nvPr/>
          </p:nvSpPr>
          <p:spPr>
            <a:xfrm flipH="1">
              <a:off x="4867920" y="304920"/>
              <a:ext cx="1104480" cy="11034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0160" y="304920"/>
              <a:ext cx="1103040" cy="11034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000" y="306000"/>
              <a:ext cx="1102680" cy="11034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1600" y="304920"/>
              <a:ext cx="1103040" cy="110340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720" y="304920"/>
              <a:ext cx="1103040" cy="110340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6840" y="1599840"/>
            <a:ext cx="819612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9600" indent="-309600">
              <a:lnSpc>
                <a:spcPct val="23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52360">
              <a:lnSpc>
                <a:spcPct val="23000"/>
              </a:lnSpc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23000"/>
              </a:lnSpc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23000"/>
              </a:lnSpc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23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7200" y="6248160"/>
            <a:ext cx="210024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6236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210024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4F9608-2136-4584-B9BF-60FD2193D32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5320" cy="3198600"/>
            <a:chOff x="1658520" y="1600200"/>
            <a:chExt cx="6835320" cy="3198600"/>
          </a:xfrm>
        </p:grpSpPr>
        <p:sp>
          <p:nvSpPr>
            <p:cNvPr id="48" name=""/>
            <p:cNvSpPr/>
            <p:nvPr/>
          </p:nvSpPr>
          <p:spPr>
            <a:xfrm flipH="1">
              <a:off x="6970320" y="1600200"/>
              <a:ext cx="1523160" cy="152316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0400" y="1600200"/>
              <a:ext cx="1523520" cy="152316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120" y="1600200"/>
              <a:ext cx="1523520" cy="152316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120" y="3275640"/>
              <a:ext cx="1523520" cy="152316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5640"/>
              <a:ext cx="1523160" cy="152316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0320" y="3275640"/>
              <a:ext cx="1523160" cy="152316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0024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6236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210024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1229FD1-BC5E-4275-A99D-D4053E41BEA4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440" y="1219320"/>
            <a:ext cx="773892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196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9600" indent="-309600">
              <a:lnSpc>
                <a:spcPct val="23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52360">
              <a:lnSpc>
                <a:spcPct val="23000"/>
              </a:lnSpc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23000"/>
              </a:lnSpc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23000"/>
              </a:lnSpc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23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186920" y="3933720"/>
            <a:ext cx="7272360" cy="20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e5ebf7"/>
                </a:solidFill>
                <a:latin typeface="Arial"/>
                <a:ea typeface="Arial"/>
              </a:rPr>
              <a:t>Modul št. 2/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e5ebf7"/>
                </a:solidFill>
                <a:latin typeface="Arial"/>
                <a:ea typeface="Arial"/>
              </a:rPr>
              <a:t>PRIMER OBLIKOVANJA NOVEGA POKLICNEGA PROFILA ( POMELAJ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e5ebf7"/>
                </a:solidFill>
                <a:latin typeface="Arial"/>
                <a:ea typeface="Arial"/>
              </a:rPr>
              <a:t>Alenka STUPAR, univ, dipl. so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e5ebf7"/>
                </a:solidFill>
                <a:latin typeface="Arial"/>
                <a:ea typeface="Arial"/>
              </a:rPr>
              <a:t>21. september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508720" y="1773360"/>
            <a:ext cx="954000" cy="12254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971640" y="260280"/>
            <a:ext cx="7129440" cy="5270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564000" y="1897200"/>
            <a:ext cx="1152360" cy="8553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940360" y="83664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</a:rPr>
              <a:t>Projekt delno financira Evropska unij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ogodba št. C1536-07M8000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2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riprava pobu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02600" cy="864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06360" indent="-306360">
              <a:lnSpc>
                <a:spcPct val="8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lopi tipičnih del v poklicu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8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ena potreb na trgu dela glede na                                                                                    dolgoročni razvoj gospodarstva oz.                                                                                     dejavnosti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8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vna podlaga oz. predpisi v SLO in                                                                            državah EU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8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narodna primerljivost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8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likovalci pobude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2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2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Oblikovanje poklicnega standard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02600" cy="36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e in koda poklica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ven zahtevnosti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klicne kompetence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is poklicnega standar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2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Opis poklicnega standard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02600" cy="56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ročja dela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jučna dela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nanja in spretnosti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aloge za dokazovanja usposobljenost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11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naliza kataloga Pletar </a:t>
            </a:r>
            <a:br>
              <a:rPr sz="3800"/>
            </a:b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( Priloga: Katalog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01160" cy="47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06360" indent="-306360">
              <a:lnSpc>
                <a:spcPct val="57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ročja dela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57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a in naloge (ključna dela)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57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nanja in spretnosti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57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loge za dokazovanje usposoblje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11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Naloga: Identifikacija novih poklicnih                                                                           profilov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01160" cy="70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06360" indent="-306360">
              <a:lnSpc>
                <a:spcPct val="77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irajte 3 nove poklicne profile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77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berite enega glede na perspektivnost                                                                    dejavnosti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77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pravite Pobudo za oblikovanje                                                                              poklicnega  standarda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77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likujte poklicni standard (raven                                                                                        zahtevnosti, poklicne kompetence,                                                                                    opis poklicnega standarda)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2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zhodišča za oblikovanje novega poklicnega profil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02600" cy="62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9600" indent="-309600">
              <a:lnSpc>
                <a:spcPct val="12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iran projekt za realizacijo že                                                                                     zastavljene iniciative lokalne skupnosti za                                                                        razvoj perspektivnih dejavnosti na osnovi                                                                           lokalnih razvojnih potencialov – tradicije                                                                             domače obrti (lončarstvo – pletarstvo)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12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irane potrebe po novih znanjih in                                                                            spretnostih za opravljanje dejavnosti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2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zhodišča za oblikovanje novega poklicnega profil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02600" cy="83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06360" indent="-306360">
              <a:lnSpc>
                <a:spcPct val="11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delani programi usposabljanj (za pletenje                                                                                                                                            izdelkov iz ličja in oblikovanja in gline)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11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zpostavljena in delujoča učna delovanica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11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kon o Nacionalnih poklicnih kvalifikacijah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70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riteriji za izbor novih poklicnih profilov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9600" indent="-309600">
              <a:lnSpc>
                <a:spcPct val="54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pektivnost dejavnosti glede na nove potrebe trga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54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število potencialnih kandidatov za NPK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54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icija na področju izdelovanja izdelkov domačih obrti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2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erspektivnost dejavnost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02600" cy="68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06360" indent="-306360">
              <a:lnSpc>
                <a:spcPct val="7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iza ponudbe in povpraševanja po                                                                                izdelkih naravnih materialov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7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i trendi na področju uporabe naravnih                                                                           materialov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7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i trendi na področju razvoja podeželja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7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upni servis za razvoj in trženje izdelkov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2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naliza človeških virov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02600" cy="65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ločitev kriterijev za izbor ciljne skupine                                                                           (BO, podzaposleni, končana OŠ ali brez,                                                                          lastnik/najemnik  zemlje)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iza ciljne skupine brezposelnih oseb na                                                                      podeželju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iza ciljne skupine podzaposlenih na                                                                             podeželju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11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radicija domače obrt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0116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06360" indent="-306360">
              <a:lnSpc>
                <a:spcPct val="77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iza delujočih izdelovalcev izdelkov                                                                               iz naravnih materialov v Prekmurju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77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kacija znanj in spretnosti s področja                                                                         domačih obrti pri lokalnem prebivalstvu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77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kacija morebitnih programov                                                                                     usposabljanj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318600"/>
            <a:ext cx="8217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zbrana nova poklicna profil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19280"/>
            <a:ext cx="821700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9600" indent="-309600">
              <a:lnSpc>
                <a:spcPct val="5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tar/pletarka iz ličja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5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čar/lončar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2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ostopek oblikovanja poklicnega standard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02600" cy="713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prava pobude (pobudo je pripravil                                                                                   nosilec projekta)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enovanje delovne skupine za pripravo                                                                        kataloga standardov strokovnih znanj in                                                                             spretnosti (sodelovanje različnih strok)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kovni sodelavec s strani CPI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prava Kataloga standardov strokovnih                                                                            znanj in spretnosti za PK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rditev na Strokovnem svetu RS za                                                                                 poklicno in strokovno izobraževanje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ina Kociper</cp:lastModifiedBy>
  <dcterms:modified xsi:type="dcterms:W3CDTF">2007-10-03T12:12:44Z</dcterms:modified>
  <cp:revision>7</cp:revision>
  <dc:subject/>
  <dc:title>Modul št. 2/b PRIMER OBLIKOVANJA NOVEGA POKLICNEGA PROFILA ( POMELAJ) Alenka STUPAR, univ, dipl. soc.  21. september 2007</dc:title>
</cp:coreProperties>
</file>