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D1B7-7223-4B5A-A142-61ED0152E7A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5D0D-A078-4025-B681-01FCCE81DA4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0528-080B-40FD-9EA8-833BA32D2DB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43A9-204F-493F-B973-586540C8504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9BFD-BE4C-4F7A-8CD6-F5E7D877AD0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043C-BA0E-4ADF-BC60-0468DBE8C6C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798A-271E-4DFA-856F-8F68C2655DE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D9AF-98EF-49E9-9261-8357044A3B3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8594-FB30-4A98-B51D-4F502AFE1C6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FB80-B774-4FDC-9179-02F3C7B7945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17A4-D97E-4344-B3F2-F0A54C29920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1C89-6C93-4D40-A403-87C86BD47EB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32B7-F84E-48DE-9F96-562E50DDA39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36A5-D64B-4B4F-AC8C-17533548005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4FB3-E7DF-4C37-AE5A-B581832F0D3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176F-1469-462E-B8AF-515C034921B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CCC7-46AD-4A1C-A374-AD5BFA0A31B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9C3E-7E61-4279-9429-46A8BCC754F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93BD-EB52-4567-BFAC-0767A4DB23B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7D25-75BA-4667-8373-4089E2D6262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5BE8-64E7-48A1-A129-8257EE83205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490F-F184-4B6E-AB57-EDED00FC83E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C4B3-2F40-4B5D-9490-FD80EBAB83B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B435-46D2-4EA6-9988-3891D26A17C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67C3-678D-410C-A9FF-66F3230F56B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BFD3-4D93-49B2-ABF2-4AF67281B4B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68FC-CC5F-483E-8EF0-4494BC074B2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C9A7-A392-4BF7-AFD6-5F8F7784EFD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5F5C-E7EB-4747-B5CB-5965B299F4D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69C8-8D69-4186-9C13-08CA80CFD3A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430E-3E41-42AA-8237-F1046EF7AC9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A414-2060-4200-9A63-F092CE02D62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EBC4-A09D-4A15-9772-CC7D395AB9F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26EE-814B-4196-B726-99F868A3099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D3E7-BB65-484E-85B8-7AA31FF8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4A70-6DA6-4ECE-A721-EA999C72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C1A9-3C90-4F8E-8933-DF86BC36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E991-9C9B-4930-9C63-990D1413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E095-F84C-4660-A07B-24039DAA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9C27-EF5C-4EF3-B2AF-2911EB0D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6A73-4991-4E21-B372-A25878E8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BF5A-A932-429C-9FF7-BBED2371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9D2A-3CC4-480A-9AA7-5B9664C2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0C2A-C4D4-48C2-A67A-EA256D1F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21CF-5D0B-4752-B461-D390D144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D5DC-436E-49A9-88D6-BC40E7BB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DFFD-D8C4-4622-B870-C13BDBA4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73AE-66BD-4EB1-9801-D40E52DF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B5CE-D5B1-4337-BD31-90DD305C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BDCE-5FBB-4E34-AECC-62C4F71E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5CB8-5033-4EB9-B9F3-51263D54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52DA-FFA7-4231-96CC-4EEC8FEF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B21-02C4-4382-899B-9E3CE9A3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B87C-FC57-4D9F-AF67-7598A200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D907-259A-4BD8-B060-C47C7F20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CFCF-D1F5-49CE-A77B-80843118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3E32-8B1B-4C75-A6B5-3C0B7E7F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26C5-D723-454F-B97F-5404C59C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60280" y="304920"/>
            <a:ext cx="8250120" cy="1106280"/>
            <a:chOff x="1160280" y="304920"/>
            <a:chExt cx="8250120" cy="1106280"/>
          </a:xfrm>
        </p:grpSpPr>
        <p:sp>
          <p:nvSpPr>
            <p:cNvPr id="1" name=""/>
            <p:cNvSpPr/>
            <p:nvPr/>
          </p:nvSpPr>
          <p:spPr>
            <a:xfrm flipH="1">
              <a:off x="5274360" y="304920"/>
              <a:ext cx="11966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215200" y="304920"/>
              <a:ext cx="11952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159920" y="306360"/>
              <a:ext cx="119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85116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55528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938C-6ADE-49A7-9880-7CCC0CDAAB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796760" y="1600200"/>
            <a:ext cx="7407000" cy="3200400"/>
            <a:chOff x="1796760" y="1600200"/>
            <a:chExt cx="7407000" cy="3200400"/>
          </a:xfrm>
        </p:grpSpPr>
        <p:sp>
          <p:nvSpPr>
            <p:cNvPr id="48" name=""/>
            <p:cNvSpPr/>
            <p:nvPr/>
          </p:nvSpPr>
          <p:spPr>
            <a:xfrm flipH="1">
              <a:off x="7552800" y="160020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613120" y="160020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673080" y="1600200"/>
              <a:ext cx="165096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673080" y="327672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796400" y="327672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552800" y="3276720"/>
              <a:ext cx="16506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5A88-8C04-488B-A3A1-820503A4BA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85560" y="3933720"/>
            <a:ext cx="7878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ule Nr. 4 Business plan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Vinko Zupanči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ctober 24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67360" y="1773360"/>
            <a:ext cx="1033560" cy="1225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52640" y="260280"/>
            <a:ext cx="7723080" cy="5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60640" y="1897200"/>
            <a:ext cx="1249560" cy="85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35720" y="83592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225360"/>
            <a:ext cx="9906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Panoga, podjetje, izdelki/storitve (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26800" y="1142640"/>
            <a:ext cx="74977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A. PROIZVODI / STORIT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is proizvoda / storit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rebe, ki jih zadovolju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ebnost / edinstve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atne storit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to v panog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zvojna faza proizvoda / storit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rjava s konkurenčnimi izdel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osti pravne zaščite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1000" y="225360"/>
            <a:ext cx="9555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Panoga, podjetje, izdelki/storitve (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49916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B. PODJET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um ustanovitve, pravnoorganizacijski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tanovitelji / lastniki, lastniški delež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javnost podjetja (glavna, dopolnil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ni cilji za 3-5 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Panoga, podjetje, izdelki/storitve (3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4995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C. PANOGA / DEJAV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anji obseg pano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vni subjekti v pano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jučni dejavniki za poslovni uspe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ovedi o rasti, tržnem potencialu in tržni strukturi pano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videni trendi v tehnologiji, modi, zakonodaji, zaščiti oko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33280" y="297000"/>
            <a:ext cx="8453520" cy="49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47320" y="1142640"/>
            <a:ext cx="957564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OPIS / ANALIZA CILJNIH KUPC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do so kupci in kdo uporabniki izdelkov/storit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fska lokacija kupc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tvene lastnosti izdelka z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ločitev o nakupu - dejavn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 je kdo že naročil izde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1080" y="297000"/>
            <a:ext cx="8659800" cy="4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6680" y="990720"/>
            <a:ext cx="973944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CILJNI TRG / SEGMENT / VRZ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g trga (Slovenija, drugj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našanje trga v pretek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videna prihodnja rast tr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ebne značilnosti trga, ovire za v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ovedi sprememb v prihod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žni delež podjetja (napov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jni tržni seg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črti o izvoznih trg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MENTIRANJE  TRG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26800" y="1066320"/>
            <a:ext cx="749916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ve mož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 značilnostih kupce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 lastnostih proizvodo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grafske značilnosti kupcev (potrošnikov ali organizaci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fske značilnosti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Življenjski ali poslovni stil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ihografske značilnosti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4160" y="380880"/>
            <a:ext cx="92455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AZISKAVA TRGA: Primer: strehe iz alumin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1676520"/>
            <a:ext cx="586116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otencialni uporabn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0240" y="2514600"/>
            <a:ext cx="4210200" cy="1981080"/>
          </a:xfrm>
          <a:prstGeom prst="rect">
            <a:avLst/>
          </a:prstGeom>
          <a:solidFill>
            <a:srgbClr val="eefed6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Vrsta uporabnik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- stanovanjske hiš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- poslovne zgra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- druge zgra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35680" y="2514600"/>
            <a:ext cx="4375080" cy="1981080"/>
          </a:xfrm>
          <a:prstGeom prst="rect">
            <a:avLst/>
          </a:prstGeom>
          <a:solidFill>
            <a:srgbClr val="eefed6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Vrsta gradn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- novograd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- prenova obstoječ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63880" y="4648320"/>
            <a:ext cx="5860800" cy="1523880"/>
          </a:xfrm>
          <a:prstGeom prst="rect">
            <a:avLst/>
          </a:prstGeom>
          <a:solidFill>
            <a:srgbClr val="eefed6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Analiza kupcev: kdo se odloč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do svetuje, kdo vgrajuj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ako se jim predstavi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97000"/>
            <a:ext cx="9904320" cy="4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8760" y="990720"/>
            <a:ext cx="96570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KONKUR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5 najpomembnejših konkuren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nosti in slabosti konkuren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obnosti in razlike s konkur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vne tržne strategije konkuren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jetnost / možnost vstopa novih podjet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č tuje konku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0640" y="225360"/>
            <a:ext cx="8034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ONKURENCA:  PORTERJEV  MOD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08120" y="1295280"/>
            <a:ext cx="833760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kmovanje med podjetji v pano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žnost vstopa novih konkuren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žnost razvoja alternativnih proizvodov (substituti) ali tehnolog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gajalska moč dobavitelj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gajalska moč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5520" y="333000"/>
            <a:ext cx="951696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KTIVNOSTI  KONKURENTO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4160" y="1066320"/>
            <a:ext cx="924552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ikost, rast in donosnost poslovanja (ekonomska moč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ji in predpostavke ravnanja (poslovna naravna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kle / sedanje tržne strate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ven organiziranosti in kultura podjet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ktura stroškov in ovire za iz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nosti in slab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426672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Vsebina:</a:t>
            </a: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slovno načrtovanje (izdelava poslovnega načrta)</a:t>
            </a: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avne oblike nepridobitnih podjemov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96640"/>
            <a:ext cx="9739440" cy="4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32040" y="2819520"/>
          <a:ext cx="7887960" cy="294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2819520"/>
                    <a:ext cx="7887960" cy="294624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891000" y="1063800"/>
            <a:ext cx="38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E. NAPOVED PRO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29840" y="1905120"/>
            <a:ext cx="49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Napoved prodaje za 3 – 5 l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80" y="367920"/>
            <a:ext cx="982188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II. RAZVOJ PROIZVODA IN TEHNOLOGI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99316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na stopnja proizvo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osti nove generacije, dodatne oblike upora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i kupci z izboljšavo / diferenciacijo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 vezanih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e izboljšave tehnologije in postopk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ščita posebnosti pri proizvodu /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9906120" cy="45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PROIZVODNJA IN POTREBNI VIRI -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941076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. POSLOVNA LOK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bira makrolokacije (regija, kra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bira mikrolokacije (prostor, prednosti / slab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astništvo ali najem zemljiš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B. PROIZVODNE OPER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ločitev o nakupu / kooperaciji ali proizvodn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kica poteka proizvodnega proc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367920"/>
            <a:ext cx="990432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PROIZVODNJA IN POTREBNI VIRI –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5480" y="914400"/>
            <a:ext cx="908064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NAČRT NABAVE SUROVIN I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ljučne sestavine nab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zbor dobaviteljev - alternativni dobavitelj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ganizacija nabave ter ravnanje z zaloga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hodna kontrola kvalitete surovin in delo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POSLOVNI PROSTO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rebe po prostorih (sedaj, v 3-5 leti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čin pridobitve, potrebne naložbe v preno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nčni vidik gospodarjenja s prosto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96640"/>
            <a:ext cx="9658440" cy="5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PROIZVODNJA IN POTREBNI VIRI - 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5240" y="914400"/>
            <a:ext cx="9740880" cy="578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NAČRT STROJEV IN OPREM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isek potrebnih strojev in opre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črt nabave strojev in opreme (nači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nančni vidiki gospodarjenja s stroji in oprem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. NAČRT ZAPOSLOVANJA OSEBJ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črt zaposlovanja za 3-5 l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čin zaposlitve: redno / pogodbeno, polno / krajš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grajevanje osebja, napredovanje, usposabljan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KONTROLA KVALITETE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.   UPOŠTEVANJE PREDPI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2680" y="152280"/>
            <a:ext cx="91630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. STRATEGIJA TRŽE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118120" cy="556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A. OBLIKOVANJE CEN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oblikovanje cen, pribite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politika popustov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reakcije konkurentov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B. PRODAJNE POT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distribucijski kanal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prodajno oseb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00200" y="1295280"/>
            <a:ext cx="4622760" cy="556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C. OGLAŠEVANJE IN PROMOCIJ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načrt izvajanja promoc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proračun za oglaševan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D. POPRODAJNE STORIT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garanc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servisno omrež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druge storitve za kup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6680" y="0"/>
            <a:ext cx="9739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I. UPRAVLJANJE, ORGANIZACIJA, LASTNIŠTV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0760" y="990360"/>
            <a:ext cx="91123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stavitev podjetnika (skupine) in razporeditev vlog (funkcij): odgovornosti in pristoj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edanji dosežki (reference) podjet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grajevanje managem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kro) organizacija podjetja (in razvo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dzorni s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nanji strokovnja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ka zaposlovanja in razvoja oseb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niška struktura 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80" y="404640"/>
            <a:ext cx="9904680" cy="3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I. FINANČNE PROJEKCIJE - 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0120" y="1523880"/>
            <a:ext cx="9328320" cy="518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POVZETEK FINANČNIH REZULTATOV  ZA ZADNJA 3 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zetek finančnih rezulta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in ocena poslovanja in s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OTVORITVENA BILANCA PODJET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ebna začetna sred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čin financiranja začetnih sredst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80" y="333360"/>
            <a:ext cx="99046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I. FINANČNE PROJEKCIJE -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47680" y="1294920"/>
            <a:ext cx="94932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ČNE PROJEKCIJE ZA 3-5 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ji poslovanja (predpostav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račun izkaza uspe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račun denar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račun bilance st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in kontrola stroš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na točke prel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temeljnih finančnih količni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občutljivosti finančnih projekc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56760"/>
            <a:ext cx="89154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ALIZA  KAZALNIKO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7680" y="1143000"/>
            <a:ext cx="3219480" cy="99072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LIKVID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49600" y="1143000"/>
            <a:ext cx="6108840" cy="99072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Obseg razpoložljivih gibljivih 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ratkoročnih sredst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7680" y="2209680"/>
            <a:ext cx="3219480" cy="99072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DONOS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49600" y="2209680"/>
            <a:ext cx="6108840" cy="99072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Različna merila dobička (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apital, na lastna sredst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680" y="3276720"/>
            <a:ext cx="3219480" cy="106668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ZADOLŽ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49600" y="3276720"/>
            <a:ext cx="6108840" cy="106668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Načini financiranja pos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7680" y="4419720"/>
            <a:ext cx="3219480" cy="106668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UČINKOV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49600" y="4419720"/>
            <a:ext cx="6108840" cy="106668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Merila proizvodne učinkov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sebina  poslovnega nač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51000" y="189000"/>
            <a:ext cx="84200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4680" y="1592280"/>
            <a:ext cx="842004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otovimo, katera so mogoča tveganja in problemi pri p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nimo verjetnost njihovega uresnič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rednotimo verjetne finančne učinke oz. posle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imo načrt ravnanja v primeru nastalega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100" spc="-1" strike="noStrike">
                <a:solidFill>
                  <a:srgbClr val="000000"/>
                </a:solidFill>
                <a:latin typeface="Arial"/>
              </a:rPr>
              <a:t>VIII. ANALIZA IN VREDNOTENJE KRITIČNIH TVEGANJ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0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X. TERMINSKI NAČ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20040" cy="49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SEBINA TERMINSKEGA NAČ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trebne ključne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alističen rok izve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osilec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trebna sred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lternativna mo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BLIKA TERMINSKEGA NAČ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abela ali Ganttov grafi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4880" y="228600"/>
            <a:ext cx="95756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ILOGE K POSLOVNEMU NAČRT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5160" y="1197000"/>
            <a:ext cx="4705560" cy="529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kica prosto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fotografije poslovnih prosto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etalji tržnih anal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kica poteka proiz-vod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iljna prodaja/dobič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hnični opis proizvo-da/storitve/tehnolo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eniki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like / skice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30280" y="1305000"/>
            <a:ext cx="4705560" cy="53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zorčne rekl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zorci ogla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ma organiz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življenjepis/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sma potencialnih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ije pogo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čna poročila za prejšnja 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ski opreme ali dobavitelje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vni okviri za nepridobitne podj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240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profitna družba z omejeno odgovornostj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dobiček se reinvestira v razvoj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Ostala določila enaka kot v primeru izvajanja profitno naravnane dejavn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adrug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pospešuje gospodarsko korist člano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Najmanj trije ustanovitelj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Vsak član ima en glas pri upravljanj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31560" y="1181160"/>
            <a:ext cx="9240840" cy="537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vo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ravljanje družbenih dejavnosti, če cilj ni pridobivanje dobi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opravljanje javnih služb se ustanovijo javni zavodi; pridobitev konces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tanova ali fundacij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gotavlja splošno koristne cil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ošno poslanstvo: dobrodelnost, lahko pa opravlja tudi gospodarske deja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glasje  k ustanovitvi daje ministrstvo  v katerega pristojnost spada urejanje področja, ki ga opravl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I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240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no podjetj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tanovljena zaradi integracije ranljivih skupin prebivalstva ali za zagotavljanje storitev za ranljive skup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bližek le invalidska podjetja z drugačno obravnavo pri davkih, delovnih razmerjih in socialni zakonodaj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štv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stovoljno, samostojno in nepridobitno združenje fizičnih oseb zaradi skupnih interesov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žnost posebnega statusa društva, ki deluje v javnem interesu (npr. Planinska zveza Slovenij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I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240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ebno de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sebno dopolnilno delo uporabno za zagon neke dejavnosti ali dodatnega zaslužka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meri: pomoč v gospodinjstvu, izdelki domače in umetnostne obrti, socialne storit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mejen je obseg letnih prihodkov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76680" y="1218960"/>
            <a:ext cx="9906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SEBINA POSLOVNEGA NAČRTA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38080" y="1260360"/>
            <a:ext cx="8420040" cy="4335480"/>
            <a:chOff x="838080" y="1260360"/>
            <a:chExt cx="8420040" cy="4335480"/>
          </a:xfrm>
        </p:grpSpPr>
        <p:sp>
          <p:nvSpPr>
            <p:cNvPr id="112" name=""/>
            <p:cNvSpPr/>
            <p:nvPr/>
          </p:nvSpPr>
          <p:spPr>
            <a:xfrm>
              <a:off x="838080" y="1387440"/>
              <a:ext cx="2460960" cy="40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.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ANALIZA POS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 – Opis proizvoda a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orit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 – Trg in ciljni kup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 – Konkuren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 – Strategija in nač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ržen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 – Lokacija, prostor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prema, logisti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 – Menedžment 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rganizaci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G – Zaposleno oseb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 – Terminski nač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76640" y="2281320"/>
              <a:ext cx="2202480" cy="2039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13440" y="2281320"/>
              <a:ext cx="0" cy="1019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24640" y="1898640"/>
              <a:ext cx="257760" cy="6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05160" y="2281320"/>
              <a:ext cx="388800" cy="3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170160" y="1898640"/>
              <a:ext cx="155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169800" y="2281320"/>
              <a:ext cx="10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371560" y="1898640"/>
              <a:ext cx="130320" cy="6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01880" y="1898640"/>
              <a:ext cx="181260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85600" y="1387440"/>
              <a:ext cx="2072520" cy="42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II.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FINANČ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PROJEKCI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 – Predračuns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anca uspeh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J – Predračuns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anca stan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K – Projekci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ance denarni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ko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L – Prag renta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nosti, finanč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količnik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1260360"/>
              <a:ext cx="8420040" cy="433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13440" y="3300480"/>
              <a:ext cx="905760" cy="63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113440" y="2407680"/>
              <a:ext cx="5173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113440" y="2663280"/>
              <a:ext cx="90576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113440" y="3046320"/>
              <a:ext cx="116568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4724640" y="2407680"/>
              <a:ext cx="38880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4335840" y="2663280"/>
              <a:ext cx="77760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4076640" y="3046320"/>
              <a:ext cx="103680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204800" y="3300480"/>
              <a:ext cx="90828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593600" y="3300480"/>
              <a:ext cx="51948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13440" y="3300480"/>
              <a:ext cx="0" cy="10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13440" y="3300480"/>
              <a:ext cx="51732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47400" y="2790720"/>
              <a:ext cx="38844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99040" y="3429000"/>
              <a:ext cx="103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816720" y="3809880"/>
              <a:ext cx="77724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853880" y="3938040"/>
              <a:ext cx="12852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5371200" y="4065480"/>
              <a:ext cx="25956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5630760" y="3938400"/>
              <a:ext cx="777240" cy="14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038760" y="2790720"/>
              <a:ext cx="90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299040" y="4065480"/>
              <a:ext cx="5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170160" y="4575240"/>
              <a:ext cx="16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299040" y="4957560"/>
              <a:ext cx="233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99040" y="5340240"/>
              <a:ext cx="31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760360" y="2408040"/>
              <a:ext cx="64800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90680" y="2917800"/>
              <a:ext cx="51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019560" y="3556080"/>
              <a:ext cx="5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37600" y="3556080"/>
              <a:ext cx="906120" cy="17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08360" y="2917800"/>
              <a:ext cx="1035360" cy="11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08360" y="2408040"/>
              <a:ext cx="90612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225360"/>
            <a:ext cx="97538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LIKOVNA PRAVILA ZA POSLOVNI NAČ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26800" y="914040"/>
            <a:ext cx="749772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čna, kakovostna in trpežna izdel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prava s PC-jem zaradi dopolnje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zikovna in slovnična neoporečnost - odnos do posla in partnerje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p slovenski jezi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pravek tipkarskih napa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imerna velikost in oblika č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rez pretiranega žargon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umen obseg številk (tab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Vsebina poslovnega načrta 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08120" y="990720"/>
            <a:ext cx="40924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LOVNA ST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seb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I.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Povzetek poslovnega nač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II. Panoga, podjetje in njegovi proizvodi/stor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Panoga/ dejav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Podjet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Proizvodi/ stor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III.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Raziskava in analiza t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Tržno področ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naliza ciljnih kup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Opis t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Konkur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Napoved pro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9200" y="1371600"/>
            <a:ext cx="4092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IV.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Razvoj in proizvod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Razvoj proizvoda/storitve in tehnolo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Poslovna lok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Proizvodne oper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Načrt nabave surovin, delov in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Potrebni poslovni pros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Načrtovanje strojev in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Načrtovanje zaposlov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975200">
            <a:off x="4800240" y="5029200"/>
            <a:ext cx="37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Lucida Console"/>
              </a:rPr>
              <a:t>Pogoj: preverljiva poslovna id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Vsebina poslovnega načrta 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08120" y="1143000"/>
            <a:ext cx="40924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.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Načrt prodaje /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trž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Opredelitev poslanstva podjetja z vidika kup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Oblikovanje c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Prodajna strateg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Reklama, propaganda in drugi elementi promo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Podpora prodaji in drugi elementi promo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I.Management, organizacija in lastniš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05520" y="1143000"/>
            <a:ext cx="4092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II.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Finančne projek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Ekonomika pos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Otvoritvena bilanca st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Finančne projekcije za razdobje naslednjih 3-5 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Načrt ukrepanja v izrednih okoliščin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II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.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Ocena tveganj in proble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IX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.Terminski nač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tki k poslovnemu načr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75200">
            <a:off x="4038120" y="4572000"/>
            <a:ext cx="28749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Lucida Console"/>
              </a:rPr>
              <a:t>Pogoj: preverljiva poslovna id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3680" y="368280"/>
            <a:ext cx="94932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ASLOVNA STRAN: informacij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7680" y="1447920"/>
            <a:ext cx="941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1240" y="1052640"/>
            <a:ext cx="8089920" cy="543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Grafično znak (logo) 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66"/>
                </a:solidFill>
                <a:latin typeface="Arial"/>
              </a:rPr>
              <a:t>POSLOVNI NAČ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66"/>
                </a:solidFill>
                <a:latin typeface="Arial"/>
              </a:rPr>
              <a:t>ZA (podjetje / proizvod / storit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Naslov podjetja (telefon, faks, e-m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Odgovorna (kontaktna) os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(klavzula o poslovni skrivn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Kraj in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9448920" cy="5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vzetek  poslovnega  načrta  -  sploš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8120" y="990360"/>
            <a:ext cx="8337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g 1-2 str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lačen opis posla (posebn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lačnost izdelka za kup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rnat opis zmožnosti podjet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meljitev prodajne strate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vzetek finančnih projekc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udba za sovlagate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Vinko Zupancic</cp:lastModifiedBy>
  <dcterms:modified xsi:type="dcterms:W3CDTF">2007-10-22T20:35:18Z</dcterms:modified>
  <cp:revision>7</cp:revision>
  <dc:subject/>
  <dc:title>Diapozitiv 1</dc:title>
</cp:coreProperties>
</file>