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5B9-FFAA-4701-B0D4-A640AC23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8891-FD55-4E66-AB91-6E1438E4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B245-E0A1-4911-9528-43FE8C3A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17DF-38B2-4710-B2FE-4CE4F99E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59BB-00EA-4B97-B68E-14EC8A92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85FA-49E2-4ED0-B595-2AE5E134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F2CB-427D-4F5D-BE46-92A6E82C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7B08-4D81-4717-A6E7-FACACE6B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A8DA-631A-432D-8BB3-0572DBFD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0B36-0D10-4B65-9696-0B604F30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C738-0D3C-4331-B5F0-24A3FCF9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1083-0EC7-4411-A074-07C8412B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A2B8-8251-4B55-8214-9E351A40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809C-2EA8-479B-B1D1-8700FC87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3FE2-8EF3-4CE2-BE1B-8AAC232E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B9A6-011C-4620-BD38-75097216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F963-8BB3-473B-9DF5-7136BEB5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7B81-19BC-4ACA-B6CC-58ABD633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D83-43CD-4654-9186-1DB8AC2E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D9F-2221-4C74-ACB9-5A37E7B7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4C74-DED8-438E-A548-F6B9EFAA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2A87-1FEC-4FC2-8ED0-8E692132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76D-997C-44F8-AB9A-2CD25CDA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9E9-C363-47E3-A03A-F64D3752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EC21-24E5-4AD2-8626-208CC95FF721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2073-413D-4CB2-AB84-0F2D85374929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7280" y="2421000"/>
            <a:ext cx="756144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Usposabljanje promotorjev socialnega (družbenega) podjetništ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3.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ziskovanje organizacijskih kapacit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osilcev  socialne ekonomije ter nosilcev podpornega okolja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denka Kovač,M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21st Sept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32360" y="105264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1152360" cy="855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WOT ANALIZA SEKTORJA 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RUŽBENE EKONOMIJE V SLOVENIJI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1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162360"/>
            <a:ext cx="8424720" cy="64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truktura  metodološkega pristopa  v okviru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etodologija je sestavljena iz 3 komplementarnih sklopov vprašanj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1.sklop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Analiza manjkov na področju tehnično-tehnološkega zn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definirati ključna področja tehnično-tehnoloških znanj kjer organizacija potrebuje izboljšanje) (namenjeno predvsem za  javni sektor, deloma uporabno tudi za sektor družbenega podjetništva- socialne ekonom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2.sklop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Analiza  manjkajočih organizacijskih kompetenc neprofitnio usmerjenih organizaci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 cilj je definirati ključne manjkajoče kompetence ter na njihovi osnovi oblikovati  razvojne projekte tipa “capacity building” za podporo ES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3.sklop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 Organizacijska samooc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samoocena mikroorganizacijskih področij kjer so prevladujoči manjki in najbolj potrebne intervencije) – (uporabno tako za javni kot  zasebni neprofitni sek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341640"/>
            <a:ext cx="784872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1: Ocena manjkajočih  Tehnično-tehnoloških kompete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Katera so ključna tri področja tehnično-tehnoloških znanj s področja  modernih pristopov k načrtovanju in izvajanju socialnih politik ter socialnega podjetništva (označi s križcem kjer relevantno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95280" y="1844640"/>
          <a:ext cx="8424720" cy="3384720"/>
        </p:xfrm>
        <a:graphic>
          <a:graphicData uri="http://schemas.openxmlformats.org/drawingml/2006/table">
            <a:tbl>
              <a:tblPr/>
              <a:tblGrid>
                <a:gridCol w="2155680"/>
                <a:gridCol w="1463760"/>
                <a:gridCol w="1441440"/>
                <a:gridCol w="1762200"/>
                <a:gridCol w="1601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i  pomemb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. Socialno vključevanje skozi aktivno participacijo- EU koncepti, najboljše evropske prakse, dobro targetiranje in vloge različnih partnerj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2. Osnovni principi učinkovitega   razvojnega načrtovanja in implementacije socialnih poli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79280" y="274680"/>
          <a:ext cx="8713800" cy="6003720"/>
        </p:xfrm>
        <a:graphic>
          <a:graphicData uri="http://schemas.openxmlformats.org/drawingml/2006/table">
            <a:tbl>
              <a:tblPr/>
              <a:tblGrid>
                <a:gridCol w="2229120"/>
                <a:gridCol w="1514160"/>
                <a:gridCol w="1490760"/>
                <a:gridCol w="1822680"/>
                <a:gridCol w="1657080"/>
              </a:tblGrid>
              <a:tr h="14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3. Moderni princi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upravljanja socialnih polit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Social 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governance),zaupanje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 kapital, social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vesticije/socialna zašč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4.Načrtovanje polit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ziranih na  dejstv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Evidence based 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k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5. Razumevanjer vzro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rginalizacij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ačrtovanje strategij izhodov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6. Harmonizir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inančnih resursov in  cilj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7. Zagotavlj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andardov kakovost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ertificiranje izvajalc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h storit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8.  Socialno vključev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umevanje ranljiv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iljnih skupin kot ključ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ležnikov v proces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68360" y="765000"/>
          <a:ext cx="8229600" cy="5131080"/>
        </p:xfrm>
        <a:graphic>
          <a:graphicData uri="http://schemas.openxmlformats.org/drawingml/2006/table">
            <a:tbl>
              <a:tblPr/>
              <a:tblGrid>
                <a:gridCol w="2104920"/>
                <a:gridCol w="1430280"/>
                <a:gridCol w="1408320"/>
                <a:gridCol w="1720800"/>
                <a:gridCol w="156528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9. Razume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o ekonomsk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logov neenak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olov  in načrto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s posluhom 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lične potrebe spo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gender sensitive poli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king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0.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temelječih 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ezultatih,monitoring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valvacija (Res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sed Management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&amp;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1. Strateš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vezovanje in jav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sebna partner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2104920"/>
                <a:gridCol w="1430280"/>
                <a:gridCol w="1408320"/>
                <a:gridCol w="1720800"/>
                <a:gridCol w="156528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2. Socialne inov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 socialno /družb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jetniš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3. Upravljanje 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jnostnim razvojem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loga socialn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jetništ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4. Ohranjanje 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ktiviranje kulturn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aravne dediščin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ružbeno podjetniš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5. Podpo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strumenti finančn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efinačni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6. Opišite področja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atero mislite da 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membno a zgoraj 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pis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1280" y="200160"/>
            <a:ext cx="733464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 2: Splošna Analiza manjkajočih organizacijskih kompete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1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   Katere spodaj naštete kompetence, bi lahko prepoznali kot klju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anjkajoče kompetence vaše organizacije : ( namenjeno predvsem 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bstoječe  organizacije v sektorju socialne ekonomij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8360" y="1628640"/>
          <a:ext cx="8280360" cy="4407120"/>
        </p:xfrm>
        <a:graphic>
          <a:graphicData uri="http://schemas.openxmlformats.org/drawingml/2006/table">
            <a:tbl>
              <a:tblPr/>
              <a:tblGrid>
                <a:gridCol w="2252520"/>
                <a:gridCol w="2025720"/>
                <a:gridCol w="2025720"/>
                <a:gridCol w="1976400"/>
              </a:tblGrid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. Učinkovito vodenje in notranja komunik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2. Spodbujajoč podjetno naravnan  lideršip, usmerjen na ustvarjalno reševanje problem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3. Sposobnost dostopanja do EU  sredstev, EU projektiranje proces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4. Učinkovito vodenje projek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274680"/>
          <a:ext cx="8229240" cy="5855760"/>
        </p:xfrm>
        <a:graphic>
          <a:graphicData uri="http://schemas.openxmlformats.org/drawingml/2006/table">
            <a:tbl>
              <a:tblPr/>
              <a:tblGrid>
                <a:gridCol w="2237760"/>
                <a:gridCol w="2013840"/>
                <a:gridCol w="2014560"/>
                <a:gridCol w="1963080"/>
              </a:tblGrid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5. Uporaba modern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odij za promocijo in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javno zagovar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ih ide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6. Uva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andardov kakovosti 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cese in certificir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h storit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7. Osebnostni raz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poslenih in upravl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 človeškimi viri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8. Učinkovit  si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rejemanja odločit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457200" y="274680"/>
          <a:ext cx="8229240" cy="5855400"/>
        </p:xfrm>
        <a:graphic>
          <a:graphicData uri="http://schemas.openxmlformats.org/drawingml/2006/table">
            <a:tbl>
              <a:tblPr/>
              <a:tblGrid>
                <a:gridCol w="2237760"/>
                <a:gridCol w="2013840"/>
                <a:gridCol w="2014560"/>
                <a:gridCol w="1963080"/>
              </a:tblGrid>
              <a:tr h="12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0. N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todologije in transf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ovaci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1. Upravl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rtfelja  programov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jek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2. Coaching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ntoriranje zaposleni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3. Upravljanj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ntoriranje in coach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zvajalcev storit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ega vključe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Ocenjevanje organizacijskih kapacitet po metodi  “7 S Strategy”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-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ena najstarejših  metodologij za analizo  organizacijskih kapacit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porablja se tudi za   neprofitno usmerjene organizacije (podjet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osobnost samoocene organizacij predstavlja enega najpomembnejših vzvodov za  nadaljnji razvoj in preprečevanje sicer  neizogibnih  proble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aša pričakovanja in cilji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7 S Strategi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melji na 7  neodvisnih variablah (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m Peters and Robert Waterman i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 Search Of Excellence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), ki sovplivajo na delovanje  in moč organizacij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ill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( Vešč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Zaposl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Stil voden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d value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Skupne vredno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3280" y="328464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627280" y="3715920"/>
            <a:ext cx="1297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357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3500280"/>
            <a:ext cx="3313080" cy="287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HARDWARE 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348000" y="4436640"/>
            <a:ext cx="1511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708360" y="479736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924360" y="501300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796000" y="5013360"/>
            <a:ext cx="504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4365720"/>
            <a:ext cx="273708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OFTWARE 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7S in  neprofitno usmerjene organizacij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ljučno je spoznanje da še bolj kot za profitne organizacije velja za neprofitno usmerjene -  brez  razvitih “ software elementov” ne more  uspešno delov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azvoj teh elementov mora zato postati ključna vsebina  strateškega razvoja vseh organizacij socialne ekonomije (podjetništ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109800"/>
            <a:ext cx="7991280" cy="189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 3: Organizacijska  samoocena obstoječih kapacitet in načrtovane organizacijske spremem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rganizacija………………………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lovno mesto……………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e in priimek ……………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30120" y="2060640"/>
          <a:ext cx="9522000" cy="3941640"/>
        </p:xfrm>
        <a:graphic>
          <a:graphicData uri="http://schemas.openxmlformats.org/drawingml/2006/table">
            <a:tbl>
              <a:tblPr/>
              <a:tblGrid>
                <a:gridCol w="857160"/>
                <a:gridCol w="2376720"/>
                <a:gridCol w="2766960"/>
                <a:gridCol w="1295280"/>
                <a:gridCol w="1079640"/>
                <a:gridCol w="114624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fini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bstoječe st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lanirano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lanirano 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rateško načrtovanj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ktivnosti, ki jih organizacija trenutno podvzema z namenom  iskanja pravih odzivov na pričakovane srednjeročne spremembe v okolj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struk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struktura, organizacijska specializacija in načini koordiniranja  za uvajanje načrtovanih strateških spremememb tako na področju razvoja obsega  kot diverzifikacije poslovan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274680"/>
          <a:ext cx="8362800" cy="5856120"/>
        </p:xfrm>
        <a:graphic>
          <a:graphicData uri="http://schemas.openxmlformats.org/drawingml/2006/table">
            <a:tbl>
              <a:tblPr/>
              <a:tblGrid>
                <a:gridCol w="730080"/>
                <a:gridCol w="1224000"/>
                <a:gridCol w="2737080"/>
                <a:gridCol w="1152360"/>
                <a:gridCol w="1224000"/>
                <a:gridCol w="1295280"/>
              </a:tblGrid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istem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ced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ormalni in neformalni  procesi in procedure v pomoč uresničevanju  strateških  ciljev organiz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il 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ul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ultura organizacije sestoji iz dveh  component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kultura: 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evladujoče vrednote in prepričanja ter norme, ki so se razvile skozi čas  in  postale relativno trajne značilnosti organizacije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il vodenja: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se bolj nanaša na to kaj  vodstvo počne, kot kaj  promovira: kako vodstvo upravlja s časom, kam usmerja pozornost, kakšne simbole uporablja (konstruktivne, destruktivne), dvojna lojalnost vodstva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posleni (staf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odenje ljudi in upravljanje s človeškimi viri – procesi  notranjega razvoja managerjev, načini socializacije in razvoja osnovnih vrednot,, nalčini uvajanja začetnikov in razvoja poklicnih karier  zaposle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30120" y="692280"/>
          <a:ext cx="8483760" cy="4035240"/>
        </p:xfrm>
        <a:graphic>
          <a:graphicData uri="http://schemas.openxmlformats.org/drawingml/2006/table">
            <a:tbl>
              <a:tblPr/>
              <a:tblGrid>
                <a:gridCol w="569880"/>
                <a:gridCol w="1150920"/>
                <a:gridCol w="2665440"/>
                <a:gridCol w="1295640"/>
                <a:gridCol w="1439640"/>
                <a:gridCol w="136224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ret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atere so ključne competence organizacije, kaj organizacija  dela najboljše in načini razvoja organizacijskih kompetenc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kupne vrednote in cilj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Usmerjevalni koncepti in  osnovne  ideje organizacije okoli katerih se razvija  poslovanje, poslanstvo organizacije, ki mora biti enostavno in mora biti razumljivo vsem v organizaciji  čeprav morda še neprepoznano s strani zunanjega okol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kupna ocena organiza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289080" y="5086440"/>
            <a:ext cx="1657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cenjevalna lestvic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 – zelo šib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 – pretežno šib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 – sredn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4 – precej moč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5 – zelo moč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Skupinska Va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delite se v skupine po 3 udeležence in poizkusite na primeru enega od lastnih podjetij izpolniti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Vprašalnik (orodje) za ocenjevanje organizacijskih kapacitet  neprofitnih organizaci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(max 30 min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 koncu bo vsaka skupina prezentirala 5 izbranmih prioritetnih aktivnosti za izboljšanje  delovanja ter  osnovno idejo projekta za podporo iz sredstev E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Domača nalog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vedite  vodene intervj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eno organizacijo   javnega sektorja (občine, javni zavodi, ministrstva) z uporabo  orodja za ugotavljanje manjkajočih tehničnih kompetenc in splošnih organizacijskih kompeten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5 različnih institucij/podjetij s področja  socialne ekonomije ( Uporaba  metode 7S Strategy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2-ma organizacijama/podjetjema  poglobljeno oceno s pomočjo  uporabe “Orodja za oceno organizacijskih kapacitet  neprofitnih organizacij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f4727e"/>
                </a:solidFill>
                <a:latin typeface="Arial"/>
              </a:rPr>
              <a:t>Na podlagi pridobljenih  informacij poizkušajte oblikovati vsak vsaj 1 projektni predlog za “ capacity building”, ki ga boste v nadaljevanju razdelovali v okviru 4.in 5. modula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veliko ustvarjalnosti pri delu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Cilj 3.Modula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deležence  seznan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 nekaterimi  metodologijami raziskovanja organizacijskih kapacitet sektorja  socialne ekonom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 pristopi k  razvoju novih kompetenc oz.  novih poklicnih profilov potrebnih za hitrejši razvoj socialnega podjetniš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Zakaj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jekti  za pridobitev podpore  strukturnih skladov se  bodo nanašali tako na 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popolnoma nove podje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kor tu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na  projekte tipa “ razvoja kapacitet obstoječih subjektov”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za njihovo učinkovito vlogo na  področju trga socialnih, ekoloških in drugih relevantnih storitev za socialno ekonomijo in zaposlov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Osnovni metodološki pripomočk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U –TESES -  Country Report on T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etodologija za raziskovanje organizacijskih kapacitet ( Mc Kinsey 7S Strategy +TNA ) </a:t>
            </a:r>
            <a:r>
              <a:rPr b="0" lang="sl-SI" sz="2900" spc="-1" strike="noStrike">
                <a:solidFill>
                  <a:srgbClr val="000000"/>
                </a:solidFill>
                <a:latin typeface="Arial"/>
              </a:rPr>
              <a:t>Orodje za vrednotenje organizacijskih kapacitet neprofitno usmerjenih organizacij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U Benchmark   novih potrebnih poklicnih profilov (kompetenc) za razvoj soc. podjetniš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tudija primera  oblikovanja poklicnega profila (tehničnih kompetenc)  -Pomel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možna metodološka grad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MCF –Organizational Capacity Assesment Tool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Marguerite Casey Found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Nekaj iztočnic za  diskusij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dnarodna primerjava trdnosti  civilno-družbenih organizacij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USAID  2005 NGO sustainability index  - NSI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 ocenjevalni lstvici  od 1-7 , kjer 1 pomeni najboljšo oceno in  7 najnižjo oceno,  je znašal splošen  indeks vdržnosti slovenskih nevladnih organizacij  v letu  2001 3,9 in v letu 2005 4,0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!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Primerjava po  posameznih elementi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avno okolje 3,7 indeksnih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rganizacijska moč 4,2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osobnost zagovarjanj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4,9 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Zagotav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anje storitev 3,6 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azpoložljiva infrastruktura 4.1 točk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avni  ugled 4.2  toč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blike aktivnosti na področju družbene ekonomije in nekaj podatkov o zaposlenosti v tem sektorju v Sloveniji  (2005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125360"/>
          <a:ext cx="8207280" cy="49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820728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WOT ANALIZA SEKTORJA 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RUŽBENE EKONOMIJE V SLOVENIJI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ZDENKA KOVAČ</cp:lastModifiedBy>
  <dcterms:modified xsi:type="dcterms:W3CDTF">2007-09-19T22:57:08Z</dcterms:modified>
  <cp:revision>18</cp:revision>
  <dc:subject/>
  <dc:title>Diapozitiv 1</dc:title>
</cp:coreProperties>
</file>