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3142800" y="515520"/>
            <a:ext cx="373068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1001880" y="3270240"/>
            <a:ext cx="8015040" cy="309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1754CB-3F54-455A-993F-67B71E47217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7FE3BB0-6A49-45C7-99BC-40D4CC9B94A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5965CB-B394-40E3-A9DD-E959DC8F48DA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9C29D67-2D0F-4435-AB7C-04107BF0BB8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D874A7D-BC40-4369-A1F9-216535B1AEC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2FE1A80-73DD-44CA-B312-D26D14C4298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7DCA93A-F22B-4C91-87DD-096E82F1B9A7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344E7F5-1982-4BD5-9C5F-E1C7C2794B8C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516DDBA-8840-4386-8E3B-276CDA292E2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622F56C-E0F6-4991-895B-59B88D1C26B3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0C6832-684A-4A9A-8512-25A94BDFCC28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A334C78-739D-416B-AABF-36FB004E3B63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3279F99-8B1F-4C43-AE11-8774DC7E761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90DA667-4913-4DBC-8B6E-0AFD20B40DE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FF1F0C5-6CAB-45D2-AC95-93CB862CF164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0EAFB1F-BF46-47FA-AF27-0AFB0EF11597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D66D92-240A-45AE-880A-68AC509076C4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1F4E7A9-186D-4D5E-80FB-E09DC051909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F4B-0149-4BAE-BB68-E41CA512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8B1-DA60-457E-B05C-CD9AF821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4D2-9CFF-49BE-B38B-88F8E0C0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2E5-C386-4FBE-B0A0-41AB3139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3C23-8CEB-4EAD-B704-87FBCB3D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630D-CC87-450A-925C-646B4333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E47F-1B84-4106-A321-B0F3AE4D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7A0F-B10B-41A2-A731-56177664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B93C-CE58-4044-ADE4-7070CEC9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21FF-85EE-4DD6-B934-35B59856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B87F-8A3E-417F-B790-AB571BFB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739-DD2A-4316-AB24-06F2766B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C1FF-0627-4D35-8872-7D39FD47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BBA7-C862-4C88-A208-6EC795B5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BF1A-D778-4422-A4FD-0DBF4972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11EC-F60B-4E24-9402-89781C14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103B-0657-4690-8422-88C4968E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6B3-D16C-42AE-A342-1DFAF1FB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E4E-4776-4FD6-85AC-D6E637B9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81D-0A22-45E5-904C-C6F28EF7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2D3-B21A-42D9-AC3E-C0241119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18B-3B4C-4653-9D68-D3837795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C44-80C1-4004-9F11-62E15E54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171-BF92-4B57-81D9-47C73E8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DCC0-1F82-40F0-8E96-A9193EC97C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9D71-0E03-4EC5-ADA0-34642812E5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20480" y="342900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odule Nr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Local market analysis and detecting  opportunities for social entrepreneu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t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g. 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eptember 20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5400000">
            <a:off x="3470760" y="-159480"/>
            <a:ext cx="1155960" cy="4631040"/>
          </a:xfrm>
          <a:prstGeom prst="cube">
            <a:avLst>
              <a:gd name="adj" fmla="val 13583"/>
            </a:avLst>
          </a:prstGeom>
          <a:solidFill>
            <a:srgbClr val="00cc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voj novi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ih idej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razdelane alternati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e konc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519440" y="1453680"/>
            <a:ext cx="1058760" cy="4761000"/>
          </a:xfrm>
          <a:prstGeom prst="cube">
            <a:avLst>
              <a:gd name="adj" fmla="val 13583"/>
            </a:avLst>
          </a:prstGeom>
          <a:solidFill>
            <a:srgbClr val="ff9900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Testiranje konceptov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estiranje konceptov n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orit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ri skupinah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941440" y="3163680"/>
            <a:ext cx="1030320" cy="4630680"/>
          </a:xfrm>
          <a:prstGeom prst="cube">
            <a:avLst>
              <a:gd name="adj" fmla="val 13583"/>
            </a:avLst>
          </a:prstGeom>
          <a:solidFill>
            <a:srgbClr val="ccccff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zbor tistega koncepta, 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jmočneje nagovarja cilj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u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735440" y="2469960"/>
            <a:ext cx="641520" cy="108288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16200000">
            <a:off x="5997240" y="4140720"/>
            <a:ext cx="723960" cy="10782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040" y="33480"/>
            <a:ext cx="87678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in testiranje koncep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H="1">
            <a:off x="2305080" y="3681360"/>
            <a:ext cx="5060880" cy="16128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50000">
                <a:srgbClr val="4bcbbf"/>
              </a:gs>
              <a:gs pos="100000">
                <a:srgbClr val="00b7a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rugi del opisuje kratk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ceno izdelka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peč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enjski prorač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304360" y="5345280"/>
            <a:ext cx="5095800" cy="11253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50000">
                <a:srgbClr val="dc459c"/>
              </a:gs>
              <a:gs pos="100000">
                <a:srgbClr val="d9319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Tretji del opisuje dolg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rategijo trženjskega s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0880" y="1285920"/>
            <a:ext cx="831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3530"/>
                </a:solidFill>
                <a:latin typeface="Arial"/>
              </a:rPr>
              <a:t>Oblikovanje izjave o trženjski strategij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89240" y="2101680"/>
            <a:ext cx="5060880" cy="1546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vi del splošno opisuj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ni t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pozicioniranje izd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ni dele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33480"/>
            <a:ext cx="885528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trženjske strateg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0040" y="33480"/>
            <a:ext cx="9098280" cy="14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Razvoj izdelk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4042080" y="-1596240"/>
            <a:ext cx="1971720" cy="880596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gled prodaje izdelka, stroškov i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jekcij dobička z namenom ugotovi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ali zadovoljujejo cilje podjetj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6414120" y="3424680"/>
            <a:ext cx="943200" cy="5052960"/>
          </a:xfrm>
          <a:prstGeom prst="cube">
            <a:avLst>
              <a:gd name="adj" fmla="val 1602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da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mik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 izdelk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6200000">
            <a:off x="6440040" y="4377600"/>
            <a:ext cx="1614600" cy="523800"/>
          </a:xfrm>
          <a:prstGeom prst="rightArrow">
            <a:avLst>
              <a:gd name="adj1" fmla="val 50000"/>
              <a:gd name="adj2" fmla="val 154280"/>
            </a:avLst>
          </a:prstGeom>
          <a:gradFill rotWithShape="0">
            <a:gsLst>
              <a:gs pos="0">
                <a:srgbClr val="676767"/>
              </a:gs>
              <a:gs pos="100000">
                <a:srgbClr val="3d3d3d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1892160" y="2962080"/>
            <a:ext cx="942840" cy="3625920"/>
          </a:xfrm>
          <a:prstGeom prst="cube">
            <a:avLst>
              <a:gd name="adj" fmla="val 1602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ne, izključitev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čnega koncep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2499480" y="3813840"/>
            <a:ext cx="453960" cy="5256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676767"/>
              </a:gs>
              <a:gs pos="100000">
                <a:srgbClr val="33333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08480" y="5583240"/>
            <a:ext cx="1363680" cy="650520"/>
            <a:chOff x="3408480" y="5583240"/>
            <a:chExt cx="1363680" cy="650520"/>
          </a:xfrm>
        </p:grpSpPr>
        <p:sp>
          <p:nvSpPr>
            <p:cNvPr id="213" name=""/>
            <p:cNvSpPr/>
            <p:nvPr/>
          </p:nvSpPr>
          <p:spPr>
            <a:xfrm>
              <a:off x="3450600" y="5583240"/>
              <a:ext cx="1253880" cy="18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8480" y="6159600"/>
              <a:ext cx="1363680" cy="74160"/>
            </a:xfrm>
            <a:custGeom>
              <a:avLst/>
              <a:gdLst/>
              <a:ahLst/>
              <a:rect l="l" t="t" r="r" b="b"/>
              <a:pathLst>
                <a:path w="873" h="53">
                  <a:moveTo>
                    <a:pt x="0" y="0"/>
                  </a:moveTo>
                  <a:lnTo>
                    <a:pt x="872" y="0"/>
                  </a:lnTo>
                  <a:lnTo>
                    <a:pt x="844" y="25"/>
                  </a:lnTo>
                  <a:lnTo>
                    <a:pt x="844" y="52"/>
                  </a:lnTo>
                  <a:lnTo>
                    <a:pt x="30" y="52"/>
                  </a:lnTo>
                  <a:lnTo>
                    <a:pt x="30" y="25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17840" y="5620680"/>
              <a:ext cx="1330560" cy="33840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09920" y="5958360"/>
              <a:ext cx="1346040" cy="187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9920" y="5640480"/>
              <a:ext cx="1346040" cy="28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9920" y="5607000"/>
              <a:ext cx="1346040" cy="6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9920" y="5935680"/>
              <a:ext cx="848160" cy="201240"/>
            </a:xfrm>
            <a:custGeom>
              <a:avLst/>
              <a:gdLst/>
              <a:ahLst/>
              <a:rect l="l" t="t" r="r" b="b"/>
              <a:pathLst>
                <a:path w="543" h="144">
                  <a:moveTo>
                    <a:pt x="542" y="22"/>
                  </a:moveTo>
                  <a:lnTo>
                    <a:pt x="516" y="22"/>
                  </a:lnTo>
                  <a:lnTo>
                    <a:pt x="516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0" y="22"/>
                  </a:lnTo>
                  <a:lnTo>
                    <a:pt x="0" y="143"/>
                  </a:lnTo>
                  <a:lnTo>
                    <a:pt x="542" y="143"/>
                  </a:lnTo>
                  <a:lnTo>
                    <a:pt x="542" y="2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9920" y="5802840"/>
              <a:ext cx="848160" cy="137160"/>
            </a:xfrm>
            <a:custGeom>
              <a:avLst/>
              <a:gdLst/>
              <a:ahLst/>
              <a:rect l="l" t="t" r="r" b="b"/>
              <a:pathLst>
                <a:path w="543" h="98">
                  <a:moveTo>
                    <a:pt x="542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542" y="0"/>
                  </a:lnTo>
                  <a:lnTo>
                    <a:pt x="542" y="9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8200" y="6075720"/>
              <a:ext cx="900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92880" y="5990400"/>
              <a:ext cx="810360" cy="96120"/>
              <a:chOff x="3692880" y="5990400"/>
              <a:chExt cx="810360" cy="961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731760" y="6032160"/>
                <a:ext cx="727560" cy="54360"/>
                <a:chOff x="3731760" y="6032160"/>
                <a:chExt cx="727560" cy="54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731760" y="6032160"/>
                  <a:ext cx="727560" cy="54360"/>
                </a:xfrm>
                <a:custGeom>
                  <a:avLst/>
                  <a:gdLst/>
                  <a:ahLst/>
                  <a:rect l="l" t="t" r="r" b="b"/>
                  <a:pathLst>
                    <a:path w="466" h="39">
                      <a:moveTo>
                        <a:pt x="0" y="0"/>
                      </a:moveTo>
                      <a:lnTo>
                        <a:pt x="465" y="0"/>
                      </a:lnTo>
                      <a:lnTo>
                        <a:pt x="465" y="38"/>
                      </a:lnTo>
                      <a:lnTo>
                        <a:pt x="0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94040" y="6062760"/>
                  <a:ext cx="295200" cy="10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692880" y="5990400"/>
                <a:ext cx="810360" cy="59760"/>
                <a:chOff x="3692880" y="5990400"/>
                <a:chExt cx="810360" cy="59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92880" y="5990400"/>
                  <a:ext cx="810360" cy="46080"/>
                </a:xfrm>
                <a:custGeom>
                  <a:avLst/>
                  <a:gdLst/>
                  <a:ahLst/>
                  <a:rect l="l" t="t" r="r" b="b"/>
                  <a:pathLst>
                    <a:path w="519" h="33">
                      <a:moveTo>
                        <a:pt x="0" y="0"/>
                      </a:moveTo>
                      <a:lnTo>
                        <a:pt x="518" y="0"/>
                      </a:lnTo>
                      <a:lnTo>
                        <a:pt x="518" y="3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703680" y="60393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490640" y="60422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3727080" y="5950080"/>
              <a:ext cx="736920" cy="20880"/>
            </a:xfrm>
            <a:custGeom>
              <a:avLst/>
              <a:gdLst/>
              <a:ahLst/>
              <a:rect l="l" t="t" r="r" b="b"/>
              <a:pathLst>
                <a:path w="472" h="15">
                  <a:moveTo>
                    <a:pt x="0" y="0"/>
                  </a:moveTo>
                  <a:lnTo>
                    <a:pt x="471" y="0"/>
                  </a:lnTo>
                  <a:lnTo>
                    <a:pt x="471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5973480"/>
              <a:ext cx="784080" cy="8280"/>
            </a:xfrm>
            <a:custGeom>
              <a:avLst/>
              <a:gdLst/>
              <a:ahLst/>
              <a:rect l="l" t="t" r="r" b="b"/>
              <a:pathLst>
                <a:path w="502" h="6">
                  <a:moveTo>
                    <a:pt x="0" y="5"/>
                  </a:moveTo>
                  <a:lnTo>
                    <a:pt x="501" y="5"/>
                  </a:lnTo>
                  <a:lnTo>
                    <a:pt x="501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84680" y="5874120"/>
              <a:ext cx="630720" cy="16560"/>
            </a:xfrm>
            <a:custGeom>
              <a:avLst/>
              <a:gdLst/>
              <a:ahLst/>
              <a:rect l="l" t="t" r="r" b="b"/>
              <a:pathLst>
                <a:path w="404" h="12">
                  <a:moveTo>
                    <a:pt x="0" y="0"/>
                  </a:moveTo>
                  <a:lnTo>
                    <a:pt x="403" y="0"/>
                  </a:lnTo>
                  <a:lnTo>
                    <a:pt x="403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1600" y="5818320"/>
              <a:ext cx="1872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1" y="0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75160" y="58183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3" y="0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758400" y="5819400"/>
              <a:ext cx="685440" cy="45720"/>
              <a:chOff x="3758400" y="5819400"/>
              <a:chExt cx="685440" cy="45720"/>
            </a:xfrm>
          </p:grpSpPr>
          <p:sp>
            <p:nvSpPr>
              <p:cNvPr id="236" name=""/>
              <p:cNvSpPr/>
              <p:nvPr/>
            </p:nvSpPr>
            <p:spPr>
              <a:xfrm>
                <a:off x="3758400" y="5819400"/>
                <a:ext cx="685440" cy="26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8400" y="5861160"/>
                <a:ext cx="685440" cy="39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698640" y="5867280"/>
              <a:ext cx="30960" cy="13320"/>
              <a:chOff x="3698640" y="5867280"/>
              <a:chExt cx="30960" cy="13320"/>
            </a:xfrm>
          </p:grpSpPr>
          <p:sp>
            <p:nvSpPr>
              <p:cNvPr id="239" name=""/>
              <p:cNvSpPr/>
              <p:nvPr/>
            </p:nvSpPr>
            <p:spPr>
              <a:xfrm>
                <a:off x="370620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98640" y="5867280"/>
                <a:ext cx="2340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3720" y="5867280"/>
              <a:ext cx="25920" cy="13320"/>
              <a:chOff x="4473720" y="5867280"/>
              <a:chExt cx="25920" cy="13320"/>
            </a:xfrm>
          </p:grpSpPr>
          <p:sp>
            <p:nvSpPr>
              <p:cNvPr id="242" name=""/>
              <p:cNvSpPr/>
              <p:nvPr/>
            </p:nvSpPr>
            <p:spPr>
              <a:xfrm>
                <a:off x="447624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3720" y="5867280"/>
                <a:ext cx="1836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480120" y="5660280"/>
              <a:ext cx="1222920" cy="124200"/>
              <a:chOff x="3480120" y="5660280"/>
              <a:chExt cx="1222920" cy="12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3480120" y="5766120"/>
                <a:ext cx="1222920" cy="18000"/>
              </a:xfrm>
              <a:custGeom>
                <a:avLst/>
                <a:gdLst/>
                <a:ahLst/>
                <a:rect l="l" t="t" r="r" b="b"/>
                <a:pathLst>
                  <a:path w="783" h="13">
                    <a:moveTo>
                      <a:pt x="0" y="0"/>
                    </a:moveTo>
                    <a:lnTo>
                      <a:pt x="15" y="12"/>
                    </a:lnTo>
                    <a:lnTo>
                      <a:pt x="782" y="12"/>
                    </a:lnTo>
                    <a:lnTo>
                      <a:pt x="77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7200" y="5660280"/>
                <a:ext cx="15480" cy="12420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0"/>
                    </a:moveTo>
                    <a:lnTo>
                      <a:pt x="0" y="76"/>
                    </a:lnTo>
                    <a:lnTo>
                      <a:pt x="9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83000" y="5664240"/>
                <a:ext cx="1188360" cy="86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513240" y="6194520"/>
              <a:ext cx="18720" cy="8280"/>
              <a:chOff x="3513240" y="6194520"/>
              <a:chExt cx="18720" cy="8280"/>
            </a:xfrm>
          </p:grpSpPr>
          <p:sp>
            <p:nvSpPr>
              <p:cNvPr id="249" name=""/>
              <p:cNvSpPr/>
              <p:nvPr/>
            </p:nvSpPr>
            <p:spPr>
              <a:xfrm>
                <a:off x="351324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7560" y="6201000"/>
                <a:ext cx="900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631400" y="6194520"/>
              <a:ext cx="18720" cy="8280"/>
              <a:chOff x="4631400" y="6194520"/>
              <a:chExt cx="18720" cy="8280"/>
            </a:xfrm>
          </p:grpSpPr>
          <p:sp>
            <p:nvSpPr>
              <p:cNvPr id="252" name=""/>
              <p:cNvSpPr/>
              <p:nvPr/>
            </p:nvSpPr>
            <p:spPr>
              <a:xfrm>
                <a:off x="463140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35720" y="6201000"/>
                <a:ext cx="936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14680" y="5675400"/>
              <a:ext cx="1121400" cy="601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1080" y="5707800"/>
              <a:ext cx="259200" cy="9360"/>
            </a:xfrm>
            <a:custGeom>
              <a:avLst/>
              <a:gdLst/>
              <a:ahLst/>
              <a:rect l="l" t="t" r="r" b="b"/>
              <a:pathLst>
                <a:path w="166" h="7">
                  <a:moveTo>
                    <a:pt x="0" y="0"/>
                  </a:moveTo>
                  <a:lnTo>
                    <a:pt x="165" y="0"/>
                  </a:lnTo>
                  <a:lnTo>
                    <a:pt x="16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92320" y="5695200"/>
              <a:ext cx="0" cy="43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3240" y="5671440"/>
              <a:ext cx="1125720" cy="2520"/>
            </a:xfrm>
            <a:custGeom>
              <a:avLst/>
              <a:gdLst/>
              <a:ahLst/>
              <a:rect l="l" t="t" r="r" b="b"/>
              <a:pathLst>
                <a:path w="721" h="2">
                  <a:moveTo>
                    <a:pt x="0" y="0"/>
                  </a:moveTo>
                  <a:lnTo>
                    <a:pt x="720" y="0"/>
                  </a:lnTo>
                  <a:lnTo>
                    <a:pt x="72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25480" y="5693760"/>
              <a:ext cx="84240" cy="345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0"/>
                  </a:moveTo>
                  <a:lnTo>
                    <a:pt x="53" y="0"/>
                  </a:lnTo>
                  <a:lnTo>
                    <a:pt x="53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31520" y="5693760"/>
              <a:ext cx="271440" cy="7920"/>
              <a:chOff x="4331520" y="5693760"/>
              <a:chExt cx="271440" cy="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33152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98480" y="569376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90640" y="569376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940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331520" y="5721840"/>
              <a:ext cx="271440" cy="7920"/>
              <a:chOff x="4331520" y="5721840"/>
              <a:chExt cx="271440" cy="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433152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98480" y="572184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0640" y="572184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5940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8163000" y="5195880"/>
            <a:ext cx="1237680" cy="537480"/>
            <a:chOff x="8163000" y="5195880"/>
            <a:chExt cx="1237680" cy="537480"/>
          </a:xfrm>
        </p:grpSpPr>
        <p:grpSp>
          <p:nvGrpSpPr>
            <p:cNvPr id="270" name=""/>
            <p:cNvGrpSpPr/>
            <p:nvPr/>
          </p:nvGrpSpPr>
          <p:grpSpPr>
            <a:xfrm>
              <a:off x="8163000" y="5195880"/>
              <a:ext cx="1163880" cy="476280"/>
              <a:chOff x="8163000" y="5195880"/>
              <a:chExt cx="1163880" cy="47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952120" y="5195880"/>
                <a:ext cx="374760" cy="476280"/>
                <a:chOff x="8952120" y="5195880"/>
                <a:chExt cx="374760" cy="47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8952120" y="5620680"/>
                  <a:ext cx="373320" cy="51480"/>
                  <a:chOff x="8952120" y="5620680"/>
                  <a:chExt cx="373320" cy="5148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8952120" y="5620680"/>
                    <a:ext cx="373320" cy="51480"/>
                    <a:chOff x="8952120" y="5620680"/>
                    <a:chExt cx="373320" cy="514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952120" y="5620680"/>
                      <a:ext cx="37332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952120" y="5620680"/>
                      <a:ext cx="37332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898956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5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8952120" y="5616720"/>
                  <a:ext cx="37332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952120" y="5245920"/>
                  <a:ext cx="374760" cy="387360"/>
                </a:xfrm>
                <a:custGeom>
                  <a:avLst/>
                  <a:gdLst/>
                  <a:ahLst/>
                  <a:rect l="l" t="t" r="r" b="b"/>
                  <a:pathLst>
                    <a:path w="240" h="277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98488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7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8952120" y="5217840"/>
                  <a:ext cx="373320" cy="44280"/>
                  <a:chOff x="8952120" y="5217840"/>
                  <a:chExt cx="373320" cy="442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8952120" y="5223240"/>
                    <a:ext cx="37332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952120" y="5217840"/>
                    <a:ext cx="37332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8952120" y="5214960"/>
                  <a:ext cx="37332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8952120" y="5198400"/>
                  <a:ext cx="374760" cy="36360"/>
                  <a:chOff x="8952120" y="5198400"/>
                  <a:chExt cx="374760" cy="363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8952120" y="5198400"/>
                    <a:ext cx="37332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952120" y="5211000"/>
                    <a:ext cx="3747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8952120" y="5195880"/>
                  <a:ext cx="373320" cy="29160"/>
                  <a:chOff x="8952120" y="5195880"/>
                  <a:chExt cx="373320" cy="291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952120" y="5195880"/>
                    <a:ext cx="373320" cy="29160"/>
                    <a:chOff x="8952120" y="5195880"/>
                    <a:chExt cx="373320" cy="291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953200" y="5195880"/>
                      <a:ext cx="36540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952120" y="5195880"/>
                      <a:ext cx="37332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8953200" y="5195880"/>
                    <a:ext cx="36540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898956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9108000" y="5198400"/>
                  <a:ext cx="62280" cy="28080"/>
                  <a:chOff x="9108000" y="5198400"/>
                  <a:chExt cx="62280" cy="2808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9108000" y="5198400"/>
                    <a:ext cx="62280" cy="28080"/>
                    <a:chOff x="9108000" y="5198400"/>
                    <a:chExt cx="62280" cy="2808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9108000" y="5198400"/>
                      <a:ext cx="62280" cy="2520"/>
                      <a:chOff x="9108000" y="5198400"/>
                      <a:chExt cx="62280" cy="252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9108000" y="5198400"/>
                        <a:ext cx="6228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910800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911088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911556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7" y="8"/>
                          </a:lnTo>
                          <a:lnTo>
                            <a:pt x="26" y="8"/>
                          </a:lnTo>
                          <a:lnTo>
                            <a:pt x="33" y="7"/>
                          </a:lnTo>
                          <a:lnTo>
                            <a:pt x="27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9122040" y="5208120"/>
                      <a:ext cx="27720" cy="4320"/>
                      <a:chOff x="9122040" y="5208120"/>
                      <a:chExt cx="27720" cy="432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912204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9126360" y="5210640"/>
                        <a:ext cx="23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912204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9117360" y="5220720"/>
                      <a:ext cx="43200" cy="3960"/>
                      <a:chOff x="9117360" y="5220720"/>
                      <a:chExt cx="43200" cy="396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911736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9121680" y="5220720"/>
                        <a:ext cx="3852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7" name=""/>
                  <p:cNvSpPr/>
                  <p:nvPr/>
                </p:nvSpPr>
                <p:spPr>
                  <a:xfrm>
                    <a:off x="9135720" y="5203800"/>
                    <a:ext cx="144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8553600" y="5195880"/>
                <a:ext cx="382680" cy="476280"/>
                <a:chOff x="8553600" y="5195880"/>
                <a:chExt cx="382680" cy="4762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8553600" y="5620680"/>
                  <a:ext cx="381240" cy="51480"/>
                  <a:chOff x="8553600" y="5620680"/>
                  <a:chExt cx="381240" cy="5148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8553600" y="5620680"/>
                    <a:ext cx="381240" cy="51480"/>
                    <a:chOff x="8553600" y="5620680"/>
                    <a:chExt cx="381240" cy="514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3600" y="5620680"/>
                      <a:ext cx="38124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8553600" y="5620680"/>
                      <a:ext cx="38124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"/>
                  <p:cNvSpPr/>
                  <p:nvPr/>
                </p:nvSpPr>
                <p:spPr>
                  <a:xfrm>
                    <a:off x="859068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7" y="1"/>
                        </a:lnTo>
                        <a:lnTo>
                          <a:pt x="14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9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8553600" y="5616720"/>
                  <a:ext cx="38124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553600" y="5245920"/>
                  <a:ext cx="382680" cy="387360"/>
                </a:xfrm>
                <a:custGeom>
                  <a:avLst/>
                  <a:gdLst/>
                  <a:ahLst/>
                  <a:rect l="l" t="t" r="r" b="b"/>
                  <a:pathLst>
                    <a:path w="245" h="277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58924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6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9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8553600" y="5217840"/>
                  <a:ext cx="381240" cy="44280"/>
                  <a:chOff x="8553600" y="5217840"/>
                  <a:chExt cx="381240" cy="442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8553600" y="5223240"/>
                    <a:ext cx="38124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553600" y="5217840"/>
                    <a:ext cx="38124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8553600" y="5214960"/>
                  <a:ext cx="37620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8553600" y="5198400"/>
                  <a:ext cx="378000" cy="36360"/>
                  <a:chOff x="8553600" y="5198400"/>
                  <a:chExt cx="378000" cy="36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8553600" y="5198400"/>
                    <a:ext cx="37620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553600" y="5211000"/>
                    <a:ext cx="37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">
                        <a:moveTo>
                          <a:pt x="0" y="0"/>
                        </a:moveTo>
                        <a:lnTo>
                          <a:pt x="241" y="0"/>
                        </a:lnTo>
                        <a:lnTo>
                          <a:pt x="24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8553600" y="5195880"/>
                  <a:ext cx="376200" cy="29160"/>
                  <a:chOff x="8553600" y="5195880"/>
                  <a:chExt cx="376200" cy="2916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8553600" y="5195880"/>
                    <a:ext cx="376200" cy="29160"/>
                    <a:chOff x="8553600" y="5195880"/>
                    <a:chExt cx="376200" cy="291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8559360" y="5195880"/>
                      <a:ext cx="3686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8553600" y="5195880"/>
                      <a:ext cx="37620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8559360" y="5195880"/>
                    <a:ext cx="3686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59068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1"/>
                      </a:lnTo>
                      <a:lnTo>
                        <a:pt x="14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8714160" y="5198400"/>
                  <a:ext cx="59040" cy="28080"/>
                  <a:chOff x="8714160" y="5198400"/>
                  <a:chExt cx="59040" cy="28080"/>
                </a:xfrm>
              </p:grpSpPr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8714160" y="5198400"/>
                    <a:ext cx="59040" cy="28080"/>
                    <a:chOff x="8714160" y="5198400"/>
                    <a:chExt cx="59040" cy="2808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8714160" y="5198400"/>
                      <a:ext cx="59040" cy="2520"/>
                      <a:chOff x="8714160" y="5198400"/>
                      <a:chExt cx="59040" cy="252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714160" y="5198400"/>
                        <a:ext cx="590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8714160" y="5198400"/>
                        <a:ext cx="59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8718480" y="5211000"/>
                      <a:ext cx="52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5" y="10"/>
                          </a:lnTo>
                          <a:lnTo>
                            <a:pt x="33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871848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5" y="8"/>
                          </a:lnTo>
                          <a:lnTo>
                            <a:pt x="33" y="7"/>
                          </a:lnTo>
                          <a:lnTo>
                            <a:pt x="30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8727840" y="5208120"/>
                      <a:ext cx="31320" cy="4320"/>
                      <a:chOff x="8727840" y="5208120"/>
                      <a:chExt cx="31320" cy="432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8727840" y="5208120"/>
                        <a:ext cx="313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8724960" y="5220720"/>
                      <a:ext cx="38880" cy="3960"/>
                      <a:chOff x="8724960" y="5220720"/>
                      <a:chExt cx="38880" cy="396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874368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8163000" y="5195880"/>
                <a:ext cx="376560" cy="476280"/>
                <a:chOff x="8163000" y="5195880"/>
                <a:chExt cx="376560" cy="4762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8163000" y="5620680"/>
                  <a:ext cx="374760" cy="51480"/>
                  <a:chOff x="8163000" y="5620680"/>
                  <a:chExt cx="374760" cy="51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8163000" y="5620680"/>
                    <a:ext cx="374760" cy="51480"/>
                    <a:chOff x="8163000" y="5620680"/>
                    <a:chExt cx="374760" cy="51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8163000" y="5620680"/>
                      <a:ext cx="37476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8163000" y="5620680"/>
                      <a:ext cx="37476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>
                    <a:off x="820044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8163000" y="5616720"/>
                  <a:ext cx="37476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163000" y="5245920"/>
                  <a:ext cx="376560" cy="387360"/>
                </a:xfrm>
                <a:custGeom>
                  <a:avLst/>
                  <a:gdLst/>
                  <a:ahLst/>
                  <a:rect l="l" t="t" r="r" b="b"/>
                  <a:pathLst>
                    <a:path w="241" h="277">
                      <a:moveTo>
                        <a:pt x="0" y="0"/>
                      </a:moveTo>
                      <a:lnTo>
                        <a:pt x="240" y="0"/>
                      </a:lnTo>
                      <a:lnTo>
                        <a:pt x="240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97200" y="5258520"/>
                  <a:ext cx="40680" cy="392760"/>
                </a:xfrm>
                <a:custGeom>
                  <a:avLst/>
                  <a:gdLst/>
                  <a:ahLst/>
                  <a:rect l="l" t="t" r="r" b="b"/>
                  <a:pathLst>
                    <a:path w="26" h="281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25" y="3"/>
                      </a:lnTo>
                      <a:lnTo>
                        <a:pt x="25" y="280"/>
                      </a:lnTo>
                      <a:lnTo>
                        <a:pt x="16" y="280"/>
                      </a:lnTo>
                      <a:lnTo>
                        <a:pt x="6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8163000" y="5217840"/>
                  <a:ext cx="374760" cy="44280"/>
                  <a:chOff x="8163000" y="5217840"/>
                  <a:chExt cx="374760" cy="442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8163000" y="5223240"/>
                    <a:ext cx="37476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163000" y="5217840"/>
                    <a:ext cx="37476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8163000" y="5214960"/>
                  <a:ext cx="37476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8163000" y="5198400"/>
                  <a:ext cx="376560" cy="36360"/>
                  <a:chOff x="8163000" y="5198400"/>
                  <a:chExt cx="376560" cy="363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8163000" y="5198400"/>
                    <a:ext cx="37476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163000" y="5211000"/>
                    <a:ext cx="376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8163000" y="5195880"/>
                  <a:ext cx="374760" cy="29160"/>
                  <a:chOff x="8163000" y="5195880"/>
                  <a:chExt cx="374760" cy="29160"/>
                </a:xfrm>
              </p:grpSpPr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8163000" y="5195880"/>
                    <a:ext cx="374760" cy="29160"/>
                    <a:chOff x="8163000" y="5195880"/>
                    <a:chExt cx="374760" cy="2916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164440" y="5195880"/>
                      <a:ext cx="3668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163000" y="5195880"/>
                      <a:ext cx="37476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"/>
                  <p:cNvSpPr/>
                  <p:nvPr/>
                </p:nvSpPr>
                <p:spPr>
                  <a:xfrm>
                    <a:off x="8164440" y="5195880"/>
                    <a:ext cx="3668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820044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8318880" y="5198400"/>
                  <a:ext cx="62640" cy="28080"/>
                  <a:chOff x="8318880" y="5198400"/>
                  <a:chExt cx="62640" cy="2808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8318880" y="5198400"/>
                    <a:ext cx="62640" cy="28080"/>
                    <a:chOff x="8318880" y="5198400"/>
                    <a:chExt cx="62640" cy="2808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8318880" y="5198400"/>
                      <a:ext cx="62640" cy="2520"/>
                      <a:chOff x="8318880" y="5198400"/>
                      <a:chExt cx="62640" cy="25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18880" y="5198400"/>
                        <a:ext cx="626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831888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832176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8321760" y="5211000"/>
                      <a:ext cx="5760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9">
                          <a:moveTo>
                            <a:pt x="5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9" y="8"/>
                          </a:lnTo>
                          <a:lnTo>
                            <a:pt x="36" y="7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8332920" y="5208120"/>
                      <a:ext cx="27720" cy="4320"/>
                      <a:chOff x="8332920" y="5208120"/>
                      <a:chExt cx="27720" cy="43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833292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8328240" y="5220720"/>
                      <a:ext cx="43200" cy="3960"/>
                      <a:chOff x="8328240" y="5220720"/>
                      <a:chExt cx="43200" cy="3960"/>
                    </a:xfrm>
                  </p:grpSpPr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834696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2" name=""/>
            <p:cNvGrpSpPr/>
            <p:nvPr/>
          </p:nvGrpSpPr>
          <p:grpSpPr>
            <a:xfrm>
              <a:off x="8230320" y="5254200"/>
              <a:ext cx="381240" cy="479160"/>
              <a:chOff x="8230320" y="5254200"/>
              <a:chExt cx="381240" cy="479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8230320" y="5679000"/>
                <a:ext cx="379440" cy="54360"/>
                <a:chOff x="8230320" y="5679000"/>
                <a:chExt cx="379440" cy="54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8230320" y="5679000"/>
                  <a:ext cx="379440" cy="54360"/>
                  <a:chOff x="8230320" y="5679000"/>
                  <a:chExt cx="379440" cy="543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8230320" y="5679000"/>
                    <a:ext cx="3794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23032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826920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823032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30320" y="5304600"/>
                <a:ext cx="381240" cy="387000"/>
              </a:xfrm>
              <a:custGeom>
                <a:avLst/>
                <a:gdLst/>
                <a:ahLst/>
                <a:rect l="l" t="t" r="r" b="b"/>
                <a:pathLst>
                  <a:path w="244" h="277">
                    <a:moveTo>
                      <a:pt x="0" y="0"/>
                    </a:moveTo>
                    <a:lnTo>
                      <a:pt x="243" y="0"/>
                    </a:lnTo>
                    <a:lnTo>
                      <a:pt x="243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64520" y="5316840"/>
                <a:ext cx="42120" cy="397080"/>
              </a:xfrm>
              <a:custGeom>
                <a:avLst/>
                <a:gdLst/>
                <a:ahLst/>
                <a:rect l="l" t="t" r="r" b="b"/>
                <a:pathLst>
                  <a:path w="27" h="284">
                    <a:moveTo>
                      <a:pt x="0" y="2"/>
                    </a:moveTo>
                    <a:lnTo>
                      <a:pt x="17" y="0"/>
                    </a:lnTo>
                    <a:lnTo>
                      <a:pt x="26" y="5"/>
                    </a:lnTo>
                    <a:lnTo>
                      <a:pt x="26" y="283"/>
                    </a:lnTo>
                    <a:lnTo>
                      <a:pt x="17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8230320" y="5279040"/>
                <a:ext cx="379440" cy="45720"/>
                <a:chOff x="8230320" y="5279040"/>
                <a:chExt cx="379440" cy="45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8230320" y="528300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30320" y="527904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823032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8230320" y="5258160"/>
                <a:ext cx="378000" cy="39240"/>
                <a:chOff x="8230320" y="5258160"/>
                <a:chExt cx="378000" cy="39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823032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23032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230320" y="5254200"/>
                <a:ext cx="376560" cy="30240"/>
                <a:chOff x="8230320" y="5254200"/>
                <a:chExt cx="376560" cy="3024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8230320" y="5254200"/>
                  <a:ext cx="376560" cy="30240"/>
                  <a:chOff x="8230320" y="5254200"/>
                  <a:chExt cx="376560" cy="302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8231400" y="5254200"/>
                    <a:ext cx="37188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23032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8231400" y="5254200"/>
                  <a:ext cx="37188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826920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8384760" y="5255280"/>
                <a:ext cx="64080" cy="31680"/>
                <a:chOff x="8384760" y="5255280"/>
                <a:chExt cx="64080" cy="316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384760" y="5255280"/>
                  <a:ext cx="64080" cy="31680"/>
                  <a:chOff x="8384760" y="5255280"/>
                  <a:chExt cx="64080" cy="31680"/>
                </a:xfrm>
              </p:grpSpPr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8384760" y="5255280"/>
                    <a:ext cx="64080" cy="9720"/>
                    <a:chOff x="8384760" y="5255280"/>
                    <a:chExt cx="64080" cy="97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8390880" y="5255280"/>
                      <a:ext cx="5760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8384760" y="5255280"/>
                      <a:ext cx="6408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8405280" y="5270400"/>
                    <a:ext cx="30960" cy="1080"/>
                    <a:chOff x="8405280" y="5270400"/>
                    <a:chExt cx="30960" cy="10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0528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840528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8395560" y="5278680"/>
                    <a:ext cx="43560" cy="8280"/>
                    <a:chOff x="8395560" y="5278680"/>
                    <a:chExt cx="43560" cy="828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839556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839988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839988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8" name=""/>
                <p:cNvSpPr/>
                <p:nvPr/>
              </p:nvSpPr>
              <p:spPr>
                <a:xfrm>
                  <a:off x="8416080" y="5262120"/>
                  <a:ext cx="432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8627040" y="5254200"/>
              <a:ext cx="378000" cy="479160"/>
              <a:chOff x="8627040" y="5254200"/>
              <a:chExt cx="378000" cy="4791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8627040" y="5679000"/>
                <a:ext cx="376560" cy="54360"/>
                <a:chOff x="8627040" y="5679000"/>
                <a:chExt cx="376560" cy="543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8627040" y="5679000"/>
                  <a:ext cx="376560" cy="54360"/>
                  <a:chOff x="8627040" y="5679000"/>
                  <a:chExt cx="376560" cy="54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8627040" y="5679000"/>
                    <a:ext cx="37656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86270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8665920" y="5720760"/>
                  <a:ext cx="27720" cy="3960"/>
                </a:xfrm>
                <a:custGeom>
                  <a:avLst/>
                  <a:gdLst/>
                  <a:ahLst/>
                  <a:rect l="l" t="t" r="r" b="b"/>
                  <a:pathLst>
                    <a:path w="18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11" y="2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6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86270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27040" y="5304600"/>
                <a:ext cx="378000" cy="387000"/>
              </a:xfrm>
              <a:custGeom>
                <a:avLst/>
                <a:gdLst/>
                <a:ahLst/>
                <a:rect l="l" t="t" r="r" b="b"/>
                <a:pathLst>
                  <a:path w="242" h="277">
                    <a:moveTo>
                      <a:pt x="0" y="0"/>
                    </a:moveTo>
                    <a:lnTo>
                      <a:pt x="241" y="0"/>
                    </a:lnTo>
                    <a:lnTo>
                      <a:pt x="241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659440" y="5316840"/>
                <a:ext cx="39240" cy="397080"/>
              </a:xfrm>
              <a:custGeom>
                <a:avLst/>
                <a:gdLst/>
                <a:ahLst/>
                <a:rect l="l" t="t" r="r" b="b"/>
                <a:pathLst>
                  <a:path w="25" h="284">
                    <a:moveTo>
                      <a:pt x="0" y="2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24" y="283"/>
                    </a:lnTo>
                    <a:lnTo>
                      <a:pt x="18" y="280"/>
                    </a:lnTo>
                    <a:lnTo>
                      <a:pt x="5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8627040" y="5279040"/>
                <a:ext cx="376560" cy="45720"/>
                <a:chOff x="8627040" y="5279040"/>
                <a:chExt cx="376560" cy="45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627040" y="528300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627040" y="527904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6270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8627040" y="5258160"/>
                <a:ext cx="378000" cy="39240"/>
                <a:chOff x="8627040" y="5258160"/>
                <a:chExt cx="378000" cy="392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6270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6270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8627040" y="5254200"/>
                <a:ext cx="376560" cy="30240"/>
                <a:chOff x="8627040" y="5254200"/>
                <a:chExt cx="376560" cy="3024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8627040" y="5254200"/>
                  <a:ext cx="376560" cy="30240"/>
                  <a:chOff x="8627040" y="5254200"/>
                  <a:chExt cx="376560" cy="302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8628120" y="5254200"/>
                    <a:ext cx="3686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6270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8628120" y="5254200"/>
                  <a:ext cx="3686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865944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7" y="3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8782920" y="5255280"/>
                <a:ext cx="60480" cy="31680"/>
                <a:chOff x="8782920" y="5255280"/>
                <a:chExt cx="60480" cy="3168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82920" y="5255280"/>
                  <a:ext cx="60480" cy="31680"/>
                  <a:chOff x="8782920" y="5255280"/>
                  <a:chExt cx="60480" cy="316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8782920" y="5255280"/>
                    <a:ext cx="5904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1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8"/>
                        </a:lnTo>
                        <a:lnTo>
                          <a:pt x="32" y="0"/>
                        </a:lnTo>
                        <a:lnTo>
                          <a:pt x="6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7"/>
                        </a:lnTo>
                        <a:lnTo>
                          <a:pt x="32" y="0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8796960" y="5270400"/>
                    <a:ext cx="30960" cy="1080"/>
                    <a:chOff x="8796960" y="5270400"/>
                    <a:chExt cx="30960" cy="10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8791920" y="5278680"/>
                    <a:ext cx="43560" cy="8280"/>
                    <a:chOff x="8791920" y="5278680"/>
                    <a:chExt cx="43560" cy="82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8791920" y="5278680"/>
                      <a:ext cx="3708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8791920" y="5278680"/>
                      <a:ext cx="4356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791920" y="5278680"/>
                      <a:ext cx="370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3" name=""/>
                <p:cNvSpPr/>
                <p:nvPr/>
              </p:nvSpPr>
              <p:spPr>
                <a:xfrm>
                  <a:off x="8810640" y="5262120"/>
                  <a:ext cx="144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"/>
            <p:cNvGrpSpPr/>
            <p:nvPr/>
          </p:nvGrpSpPr>
          <p:grpSpPr>
            <a:xfrm>
              <a:off x="9017640" y="5254200"/>
              <a:ext cx="383040" cy="479160"/>
              <a:chOff x="9017640" y="5254200"/>
              <a:chExt cx="383040" cy="47916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9017640" y="5679000"/>
                <a:ext cx="381240" cy="54360"/>
                <a:chOff x="9017640" y="5679000"/>
                <a:chExt cx="381240" cy="543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9017640" y="5679000"/>
                  <a:ext cx="381240" cy="54360"/>
                  <a:chOff x="9017640" y="5679000"/>
                  <a:chExt cx="381240" cy="543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9017640" y="5679000"/>
                    <a:ext cx="3812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90176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>
                  <a:off x="905832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90176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017640" y="5304600"/>
                <a:ext cx="383040" cy="387000"/>
              </a:xfrm>
              <a:custGeom>
                <a:avLst/>
                <a:gdLst/>
                <a:ahLst/>
                <a:rect l="l" t="t" r="r" b="b"/>
                <a:pathLst>
                  <a:path w="245" h="277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051840" y="5316840"/>
                <a:ext cx="43920" cy="397080"/>
              </a:xfrm>
              <a:custGeom>
                <a:avLst/>
                <a:gdLst/>
                <a:ahLst/>
                <a:rect l="l" t="t" r="r" b="b"/>
                <a:pathLst>
                  <a:path w="28" h="284">
                    <a:moveTo>
                      <a:pt x="0" y="2"/>
                    </a:moveTo>
                    <a:lnTo>
                      <a:pt x="18" y="0"/>
                    </a:lnTo>
                    <a:lnTo>
                      <a:pt x="27" y="5"/>
                    </a:lnTo>
                    <a:lnTo>
                      <a:pt x="27" y="283"/>
                    </a:lnTo>
                    <a:lnTo>
                      <a:pt x="18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9017640" y="5279040"/>
                <a:ext cx="381240" cy="45720"/>
                <a:chOff x="9017640" y="5279040"/>
                <a:chExt cx="381240" cy="45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9017640" y="528300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9017640" y="527904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90176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9017640" y="5258160"/>
                <a:ext cx="378000" cy="39240"/>
                <a:chOff x="9017640" y="5258160"/>
                <a:chExt cx="378000" cy="39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90176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0176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017640" y="5254200"/>
                <a:ext cx="376560" cy="30240"/>
                <a:chOff x="9017640" y="5254200"/>
                <a:chExt cx="376560" cy="3024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9017640" y="5254200"/>
                  <a:ext cx="376560" cy="30240"/>
                  <a:chOff x="9017640" y="5254200"/>
                  <a:chExt cx="376560" cy="30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9020520" y="5254200"/>
                    <a:ext cx="3668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90176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9020520" y="5254200"/>
                  <a:ext cx="3668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905832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9180000" y="5255280"/>
                <a:ext cx="57600" cy="31680"/>
                <a:chOff x="9180000" y="5255280"/>
                <a:chExt cx="57600" cy="3168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9180000" y="5255280"/>
                  <a:ext cx="57600" cy="31680"/>
                  <a:chOff x="9180000" y="5255280"/>
                  <a:chExt cx="57600" cy="316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9180000" y="5255280"/>
                    <a:ext cx="5760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9194040" y="5270400"/>
                    <a:ext cx="29160" cy="1080"/>
                    <a:chOff x="9194040" y="5270400"/>
                    <a:chExt cx="29160" cy="10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919404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9194040" y="5270400"/>
                      <a:ext cx="291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9184320" y="5278680"/>
                    <a:ext cx="43560" cy="8280"/>
                    <a:chOff x="9184320" y="5278680"/>
                    <a:chExt cx="43560" cy="82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918432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918864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918864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8" name=""/>
                <p:cNvSpPr/>
                <p:nvPr/>
              </p:nvSpPr>
              <p:spPr>
                <a:xfrm>
                  <a:off x="9209520" y="5262120"/>
                  <a:ext cx="108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-6480" y="-6480"/>
            <a:ext cx="90871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Testno trže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89560" y="2975040"/>
            <a:ext cx="772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57320" y="2292480"/>
            <a:ext cx="9570240" cy="4155480"/>
            <a:chOff x="157320" y="2292480"/>
            <a:chExt cx="9570240" cy="4155480"/>
          </a:xfrm>
        </p:grpSpPr>
        <p:sp>
          <p:nvSpPr>
            <p:cNvPr id="492" name=""/>
            <p:cNvSpPr/>
            <p:nvPr/>
          </p:nvSpPr>
          <p:spPr>
            <a:xfrm>
              <a:off x="2229840" y="2881800"/>
              <a:ext cx="5469120" cy="2951280"/>
            </a:xfrm>
            <a:custGeom>
              <a:avLst/>
              <a:gdLst>
                <a:gd name="textAreaLeft" fmla="*/ 1248480 w 5469120"/>
                <a:gd name="textAreaRight" fmla="*/ 4220640 w 5469120"/>
                <a:gd name="textAreaTop" fmla="*/ 673560 h 2951280"/>
                <a:gd name="textAreaBottom" fmla="*/ 2277720 h 29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7859880" y="34142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Oglaševanj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1363680" y="21974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akiran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6593760" y="1119240"/>
              <a:ext cx="677520" cy="306036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Izde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2484360" y="1102320"/>
              <a:ext cx="67788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vni proraču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7755840" y="21974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ozicioniran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6543720" y="4560840"/>
              <a:ext cx="675000" cy="30607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zpeč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2433240" y="45806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Ce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1347120" y="341460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Blagovna znamk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97280" y="3112920"/>
              <a:ext cx="4031280" cy="2509200"/>
            </a:xfrm>
            <a:custGeom>
              <a:avLst/>
              <a:gdLst>
                <a:gd name="textAreaLeft" fmla="*/ 920160 w 4031280"/>
                <a:gd name="textAreaRight" fmla="*/ 3111120 w 4031280"/>
                <a:gd name="textAreaTop" fmla="*/ 572760 h 2509200"/>
                <a:gd name="textAreaBottom" fmla="*/ 1936440 h 250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0128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767040" y="3693960"/>
            <a:ext cx="2503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estavine, ki jih lahko podjetje tržno test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3440" y="1173240"/>
            <a:ext cx="956016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6767ff"/>
                </a:solidFill>
                <a:latin typeface="Arial"/>
              </a:rPr>
              <a:t>Testno trženje</a:t>
            </a:r>
            <a:r>
              <a:rPr b="1" lang="en-GB" sz="25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je faza v kateri uvajamo trženjski program v bolj realističnem tržnem okolj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50840" y="5857920"/>
            <a:ext cx="1876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51320" y="5857920"/>
            <a:ext cx="2851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1576080" y="3082680"/>
            <a:ext cx="2644920" cy="292752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f766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daj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71840" y="4084560"/>
            <a:ext cx="71136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5330880" y="3090960"/>
            <a:ext cx="2641680" cy="304488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je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7200" y="1870200"/>
            <a:ext cx="85834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Komercializacija je uvajanje novega izdelka/storitve na trg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6480" y="-6480"/>
            <a:ext cx="92520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Komercializa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60564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Življenjski cikel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200" y="1747800"/>
            <a:ext cx="9529920" cy="471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60720" y="2558880"/>
            <a:ext cx="7384320" cy="1578960"/>
            <a:chOff x="2160720" y="2558880"/>
            <a:chExt cx="7384320" cy="1578960"/>
          </a:xfrm>
        </p:grpSpPr>
        <p:grpSp>
          <p:nvGrpSpPr>
            <p:cNvPr id="514" name=""/>
            <p:cNvGrpSpPr/>
            <p:nvPr/>
          </p:nvGrpSpPr>
          <p:grpSpPr>
            <a:xfrm>
              <a:off x="6430680" y="2558880"/>
              <a:ext cx="3114360" cy="1423800"/>
              <a:chOff x="6430680" y="2558880"/>
              <a:chExt cx="3114360" cy="1423800"/>
            </a:xfrm>
          </p:grpSpPr>
          <p:sp>
            <p:nvSpPr>
              <p:cNvPr id="515" name=""/>
              <p:cNvSpPr/>
              <p:nvPr/>
            </p:nvSpPr>
            <p:spPr>
              <a:xfrm>
                <a:off x="6430680" y="2558880"/>
                <a:ext cx="42120" cy="3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0"/>
                    </a:moveTo>
                    <a:lnTo>
                      <a:pt x="24" y="2"/>
                    </a:lnTo>
                    <a:lnTo>
                      <a:pt x="26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9920" y="2561400"/>
                <a:ext cx="4032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5" y="0"/>
                    </a:lnTo>
                    <a:lnTo>
                      <a:pt x="25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08800" y="256140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43360" y="2565720"/>
                <a:ext cx="3888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2" y="1"/>
                    </a:lnTo>
                    <a:lnTo>
                      <a:pt x="24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77560" y="256680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2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12120" y="257148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25" y="2"/>
                    </a:lnTo>
                    <a:lnTo>
                      <a:pt x="27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47760" y="2575440"/>
                <a:ext cx="3924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85560" y="258120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19760" y="2585520"/>
                <a:ext cx="38880" cy="79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22" y="4"/>
                    </a:lnTo>
                    <a:lnTo>
                      <a:pt x="24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57560" y="2590920"/>
                <a:ext cx="37440" cy="111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1" y="6"/>
                    </a:lnTo>
                    <a:lnTo>
                      <a:pt x="23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91760" y="259920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4" y="6"/>
                    </a:lnTo>
                    <a:lnTo>
                      <a:pt x="26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27760" y="2607480"/>
                <a:ext cx="4068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23" y="5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0520" y="2614680"/>
                <a:ext cx="42120" cy="97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24" y="5"/>
                    </a:lnTo>
                    <a:lnTo>
                      <a:pt x="26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95080" y="262332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2520" y="26301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22" y="6"/>
                    </a:lnTo>
                    <a:lnTo>
                      <a:pt x="24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67080" y="263844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1280" y="264708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0"/>
                    </a:moveTo>
                    <a:lnTo>
                      <a:pt x="20" y="7"/>
                    </a:lnTo>
                    <a:lnTo>
                      <a:pt x="22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34400" y="2656800"/>
                <a:ext cx="37080" cy="122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0"/>
                    </a:moveTo>
                    <a:lnTo>
                      <a:pt x="21" y="7"/>
                    </a:lnTo>
                    <a:lnTo>
                      <a:pt x="23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68600" y="2667960"/>
                <a:ext cx="30960" cy="136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17" y="8"/>
                    </a:lnTo>
                    <a:lnTo>
                      <a:pt x="19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98120" y="2679120"/>
                <a:ext cx="32760" cy="154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0" y="9"/>
                    </a:lnTo>
                    <a:lnTo>
                      <a:pt x="2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29800" y="26931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0" y="0"/>
                    </a:moveTo>
                    <a:lnTo>
                      <a:pt x="52" y="26"/>
                    </a:lnTo>
                    <a:lnTo>
                      <a:pt x="54" y="2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07560" y="2729520"/>
                <a:ext cx="88920" cy="417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0" y="0"/>
                    </a:moveTo>
                    <a:lnTo>
                      <a:pt x="54" y="28"/>
                    </a:lnTo>
                    <a:lnTo>
                      <a:pt x="56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90720" y="2768760"/>
                <a:ext cx="81000" cy="421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0"/>
                    </a:moveTo>
                    <a:lnTo>
                      <a:pt x="49" y="29"/>
                    </a:lnTo>
                    <a:lnTo>
                      <a:pt x="51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68480" y="2809080"/>
                <a:ext cx="81360" cy="403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49" y="28"/>
                    </a:lnTo>
                    <a:lnTo>
                      <a:pt x="51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48400" y="2848680"/>
                <a:ext cx="74880" cy="446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lnTo>
                      <a:pt x="47" y="30"/>
                    </a:lnTo>
                    <a:lnTo>
                      <a:pt x="47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21840" y="2890440"/>
                <a:ext cx="76320" cy="4464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0" y="0"/>
                    </a:moveTo>
                    <a:lnTo>
                      <a:pt x="46" y="30"/>
                    </a:lnTo>
                    <a:lnTo>
                      <a:pt x="48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97080" y="2932560"/>
                <a:ext cx="71640" cy="4500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0" y="0"/>
                    </a:moveTo>
                    <a:lnTo>
                      <a:pt x="43" y="30"/>
                    </a:lnTo>
                    <a:lnTo>
                      <a:pt x="45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65840" y="297612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34600" y="302220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98680" y="3068280"/>
                <a:ext cx="67320" cy="460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0"/>
                    </a:moveTo>
                    <a:lnTo>
                      <a:pt x="40" y="32"/>
                    </a:lnTo>
                    <a:lnTo>
                      <a:pt x="42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64200" y="311328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08120" y="314388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0"/>
                    </a:moveTo>
                    <a:lnTo>
                      <a:pt x="24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47360" y="317628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0"/>
                    </a:moveTo>
                    <a:lnTo>
                      <a:pt x="27" y="23"/>
                    </a:lnTo>
                    <a:lnTo>
                      <a:pt x="29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989480" y="3208320"/>
                <a:ext cx="4356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0"/>
                    </a:moveTo>
                    <a:lnTo>
                      <a:pt x="25" y="23"/>
                    </a:lnTo>
                    <a:lnTo>
                      <a:pt x="27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030160" y="3239280"/>
                <a:ext cx="47880" cy="363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73720" y="327276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12960" y="330228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55080" y="33372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25" y="21"/>
                    </a:lnTo>
                    <a:lnTo>
                      <a:pt x="27" y="2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195760" y="3366720"/>
                <a:ext cx="48240" cy="3492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0"/>
                    </a:moveTo>
                    <a:lnTo>
                      <a:pt x="28" y="23"/>
                    </a:lnTo>
                    <a:lnTo>
                      <a:pt x="3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42560" y="34002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0"/>
                    </a:moveTo>
                    <a:lnTo>
                      <a:pt x="26" y="22"/>
                    </a:lnTo>
                    <a:lnTo>
                      <a:pt x="28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278920" y="3431160"/>
                <a:ext cx="29520" cy="223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16" y="14"/>
                    </a:lnTo>
                    <a:lnTo>
                      <a:pt x="18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302320" y="344952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27160" y="3468960"/>
                <a:ext cx="28080" cy="194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3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353440" y="348732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4" y="12"/>
                    </a:lnTo>
                    <a:lnTo>
                      <a:pt x="14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75400" y="350388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00600" y="352332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4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424000" y="354168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6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63240" y="357264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472600" y="357948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2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94200" y="35964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19400" y="3614400"/>
                <a:ext cx="51120" cy="3492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30" y="24"/>
                    </a:lnTo>
                    <a:lnTo>
                      <a:pt x="32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92840" y="366516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614800" y="3677400"/>
                <a:ext cx="52920" cy="3060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0" y="0"/>
                    </a:moveTo>
                    <a:lnTo>
                      <a:pt x="31" y="20"/>
                    </a:lnTo>
                    <a:lnTo>
                      <a:pt x="33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664840" y="3704040"/>
                <a:ext cx="60840" cy="2952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lnTo>
                      <a:pt x="36" y="19"/>
                    </a:lnTo>
                    <a:lnTo>
                      <a:pt x="38" y="2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21360" y="3730680"/>
                <a:ext cx="6228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7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80400" y="3754440"/>
                <a:ext cx="6264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9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841600" y="37796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04240" y="380052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965080" y="3820320"/>
                <a:ext cx="71280" cy="266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0"/>
                    </a:moveTo>
                    <a:lnTo>
                      <a:pt x="43" y="17"/>
                    </a:lnTo>
                    <a:lnTo>
                      <a:pt x="45" y="1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030600" y="3843000"/>
                <a:ext cx="70200" cy="219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42" y="14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096480" y="3862080"/>
                <a:ext cx="57600" cy="183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4" y="11"/>
                    </a:lnTo>
                    <a:lnTo>
                      <a:pt x="36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150840" y="3879000"/>
                <a:ext cx="52920" cy="183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31" y="11"/>
                    </a:lnTo>
                    <a:lnTo>
                      <a:pt x="33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200880" y="389448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262080" y="3908520"/>
                <a:ext cx="5796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4" y="11"/>
                    </a:lnTo>
                    <a:lnTo>
                      <a:pt x="36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315000" y="3924000"/>
                <a:ext cx="59400" cy="18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5" y="11"/>
                    </a:lnTo>
                    <a:lnTo>
                      <a:pt x="37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71520" y="3938040"/>
                <a:ext cx="59400" cy="165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5" y="11"/>
                    </a:lnTo>
                    <a:lnTo>
                      <a:pt x="37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428040" y="3953520"/>
                <a:ext cx="60840" cy="154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0"/>
                    </a:moveTo>
                    <a:lnTo>
                      <a:pt x="36" y="9"/>
                    </a:lnTo>
                    <a:lnTo>
                      <a:pt x="38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480960" y="39661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160720" y="2562840"/>
              <a:ext cx="4301280" cy="1575000"/>
              <a:chOff x="2160720" y="2562840"/>
              <a:chExt cx="4301280" cy="1575000"/>
            </a:xfrm>
          </p:grpSpPr>
          <p:sp>
            <p:nvSpPr>
              <p:cNvPr id="584" name=""/>
              <p:cNvSpPr/>
              <p:nvPr/>
            </p:nvSpPr>
            <p:spPr>
              <a:xfrm>
                <a:off x="6422760" y="2562840"/>
                <a:ext cx="3924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0"/>
                    </a:move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7120" y="256536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51120" y="2565360"/>
                <a:ext cx="3708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311880" y="257112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77320" y="257112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41680" y="2575440"/>
                <a:ext cx="3744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02800" y="258120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27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68240" y="2583720"/>
                <a:ext cx="35640" cy="82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0"/>
                    </a:move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35120" y="2590560"/>
                <a:ext cx="34200" cy="720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99480" y="259488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6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4920" y="2604960"/>
                <a:ext cx="3708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28920" y="2610360"/>
                <a:ext cx="37440" cy="972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2920" y="261900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61960" y="2628720"/>
                <a:ext cx="34200" cy="792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1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25600" y="263412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89960" y="26427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55400" y="265212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22640" y="2662200"/>
                <a:ext cx="38880" cy="126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94560" y="2673360"/>
                <a:ext cx="32400" cy="136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2" y="8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762880" y="2683440"/>
                <a:ext cx="34200" cy="1620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0"/>
                    </a:move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80440" y="2697480"/>
                <a:ext cx="84240" cy="4032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0"/>
                    </a:moveTo>
                    <a:lnTo>
                      <a:pt x="2" y="27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00520" y="273348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4" y="0"/>
                    </a:moveTo>
                    <a:lnTo>
                      <a:pt x="2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20960" y="2772720"/>
                <a:ext cx="82800" cy="40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2" y="0"/>
                    </a:moveTo>
                    <a:lnTo>
                      <a:pt x="2" y="28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44280" y="2811960"/>
                <a:ext cx="82800" cy="4320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52" y="0"/>
                    </a:moveTo>
                    <a:lnTo>
                      <a:pt x="2" y="3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69040" y="2853720"/>
                <a:ext cx="79560" cy="421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0" y="0"/>
                    </a:moveTo>
                    <a:lnTo>
                      <a:pt x="0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94160" y="28944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8" y="0"/>
                    </a:moveTo>
                    <a:lnTo>
                      <a:pt x="2" y="31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25400" y="2937960"/>
                <a:ext cx="76320" cy="432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8" y="0"/>
                    </a:moveTo>
                    <a:lnTo>
                      <a:pt x="2" y="29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4840" y="298008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45" y="0"/>
                    </a:moveTo>
                    <a:lnTo>
                      <a:pt x="2" y="3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89320" y="3024720"/>
                <a:ext cx="70200" cy="475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26680" y="307116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3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82760" y="311760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0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42080" y="3148200"/>
                <a:ext cx="45360" cy="331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8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9960" y="318024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61080" y="32122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7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17160" y="32432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75040" y="32756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734360" y="3307680"/>
                <a:ext cx="45360" cy="363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93680" y="33400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7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51560" y="337068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07640" y="3404520"/>
                <a:ext cx="46800" cy="3312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9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85680" y="343548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62280" y="345348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35640" y="3474360"/>
                <a:ext cx="29520" cy="180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0"/>
                    </a:move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15480" y="349128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0280" y="350820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466880" y="352764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2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46360" y="354708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396320" y="3578040"/>
                <a:ext cx="81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96320" y="358488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70040" y="3600360"/>
                <a:ext cx="29520" cy="21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23240" y="3620160"/>
                <a:ext cx="54360" cy="3312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4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253760" y="3667680"/>
                <a:ext cx="10476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24600" y="3680280"/>
                <a:ext cx="54720" cy="3060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34" y="0"/>
                    </a:moveTo>
                    <a:lnTo>
                      <a:pt x="2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69880" y="3708000"/>
                <a:ext cx="60840" cy="280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1920" y="3734640"/>
                <a:ext cx="60840" cy="277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49280" y="3758760"/>
                <a:ext cx="67320" cy="2772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2" y="0"/>
                    </a:moveTo>
                    <a:lnTo>
                      <a:pt x="0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88440" y="3782520"/>
                <a:ext cx="62640" cy="2520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39" y="0"/>
                    </a:moveTo>
                    <a:lnTo>
                      <a:pt x="2" y="16"/>
                    </a:ln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24360" y="38048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1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860280" y="382608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2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92960" y="3846960"/>
                <a:ext cx="70200" cy="23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4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39680" y="3866400"/>
                <a:ext cx="56160" cy="1800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688560" y="38833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3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28800" y="3898800"/>
                <a:ext cx="62640" cy="165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9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74080" y="3912480"/>
                <a:ext cx="5760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6" y="0"/>
                    </a:moveTo>
                    <a:lnTo>
                      <a:pt x="2" y="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19720" y="392832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8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63200" y="3942000"/>
                <a:ext cx="62280" cy="151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08120" y="3956040"/>
                <a:ext cx="56160" cy="1656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5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49080" y="39715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9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92560" y="3984120"/>
                <a:ext cx="62640" cy="1368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34960" y="39967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0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86360" y="4011840"/>
                <a:ext cx="52920" cy="111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34880" y="402048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92760" y="4031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42720" y="4040280"/>
                <a:ext cx="51120" cy="1224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94120" y="4049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40840" y="4061160"/>
                <a:ext cx="56160" cy="79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92240" y="406836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2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7880" y="407808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36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89280" y="4084920"/>
                <a:ext cx="56160" cy="108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5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40680" y="4095000"/>
                <a:ext cx="54720" cy="108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85960" y="4103280"/>
                <a:ext cx="60840" cy="126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38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32680" y="4111560"/>
                <a:ext cx="56160" cy="828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78320" y="4118400"/>
                <a:ext cx="56160" cy="540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21800" y="4122720"/>
                <a:ext cx="57600" cy="684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36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67080" y="4128120"/>
                <a:ext cx="57600" cy="540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06240" y="4129920"/>
                <a:ext cx="62280" cy="3960"/>
              </a:xfrm>
              <a:custGeom>
                <a:avLst/>
                <a:gdLst/>
                <a:ahLst/>
                <a:rect l="l" t="t" r="r" b="b"/>
                <a:pathLst>
                  <a:path w="40" h="3">
                    <a:moveTo>
                      <a:pt x="39" y="0"/>
                    </a:moveTo>
                    <a:lnTo>
                      <a:pt x="2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51160" y="4132800"/>
                <a:ext cx="59400" cy="25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37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00040" y="4132800"/>
                <a:ext cx="5760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215440" y="4133880"/>
                <a:ext cx="11736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160720" y="4133880"/>
                <a:ext cx="1094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490680" y="419112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389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50720" y="2219040"/>
            <a:ext cx="0" cy="32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451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50000" y="2409840"/>
            <a:ext cx="180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470440" y="4097160"/>
            <a:ext cx="675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560" y="4467240"/>
            <a:ext cx="10962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21080" y="4467240"/>
            <a:ext cx="13125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vaj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36200" y="3406680"/>
            <a:ext cx="1172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1877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74840" y="2540160"/>
            <a:ext cx="1187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05560" y="4467240"/>
            <a:ext cx="7686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83000" y="4467240"/>
            <a:ext cx="1094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Zrel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38280" y="4467240"/>
            <a:ext cx="1420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pad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5480" y="1798560"/>
            <a:ext cx="21186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 v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7040" y="3719520"/>
            <a:ext cx="8159760" cy="809640"/>
          </a:xfrm>
          <a:custGeom>
            <a:avLst/>
            <a:gdLst/>
            <a:ahLst/>
            <a:rect l="l" t="t" r="r" b="b"/>
            <a:pathLst>
              <a:path w="5219" h="578">
                <a:moveTo>
                  <a:pt x="0" y="327"/>
                </a:moveTo>
                <a:lnTo>
                  <a:pt x="116" y="334"/>
                </a:lnTo>
                <a:lnTo>
                  <a:pt x="291" y="375"/>
                </a:lnTo>
                <a:lnTo>
                  <a:pt x="431" y="403"/>
                </a:lnTo>
                <a:lnTo>
                  <a:pt x="629" y="438"/>
                </a:lnTo>
                <a:lnTo>
                  <a:pt x="815" y="473"/>
                </a:lnTo>
                <a:lnTo>
                  <a:pt x="978" y="507"/>
                </a:lnTo>
                <a:lnTo>
                  <a:pt x="1130" y="542"/>
                </a:lnTo>
                <a:lnTo>
                  <a:pt x="1270" y="563"/>
                </a:lnTo>
                <a:lnTo>
                  <a:pt x="1421" y="577"/>
                </a:lnTo>
                <a:lnTo>
                  <a:pt x="1561" y="563"/>
                </a:lnTo>
                <a:lnTo>
                  <a:pt x="1724" y="507"/>
                </a:lnTo>
                <a:lnTo>
                  <a:pt x="1910" y="445"/>
                </a:lnTo>
                <a:lnTo>
                  <a:pt x="2050" y="389"/>
                </a:lnTo>
                <a:lnTo>
                  <a:pt x="2190" y="327"/>
                </a:lnTo>
                <a:lnTo>
                  <a:pt x="2318" y="257"/>
                </a:lnTo>
                <a:lnTo>
                  <a:pt x="2458" y="195"/>
                </a:lnTo>
                <a:lnTo>
                  <a:pt x="2586" y="146"/>
                </a:lnTo>
                <a:lnTo>
                  <a:pt x="2702" y="118"/>
                </a:lnTo>
                <a:lnTo>
                  <a:pt x="2807" y="83"/>
                </a:lnTo>
                <a:lnTo>
                  <a:pt x="2900" y="70"/>
                </a:lnTo>
                <a:lnTo>
                  <a:pt x="3040" y="42"/>
                </a:lnTo>
                <a:lnTo>
                  <a:pt x="3261" y="14"/>
                </a:lnTo>
                <a:lnTo>
                  <a:pt x="3436" y="0"/>
                </a:lnTo>
                <a:lnTo>
                  <a:pt x="3599" y="14"/>
                </a:lnTo>
                <a:lnTo>
                  <a:pt x="3727" y="28"/>
                </a:lnTo>
                <a:lnTo>
                  <a:pt x="3902" y="56"/>
                </a:lnTo>
                <a:lnTo>
                  <a:pt x="4030" y="90"/>
                </a:lnTo>
                <a:lnTo>
                  <a:pt x="4123" y="118"/>
                </a:lnTo>
                <a:lnTo>
                  <a:pt x="4216" y="132"/>
                </a:lnTo>
                <a:lnTo>
                  <a:pt x="4379" y="174"/>
                </a:lnTo>
                <a:lnTo>
                  <a:pt x="4542" y="209"/>
                </a:lnTo>
                <a:lnTo>
                  <a:pt x="4740" y="243"/>
                </a:lnTo>
                <a:lnTo>
                  <a:pt x="4997" y="278"/>
                </a:lnTo>
                <a:lnTo>
                  <a:pt x="5218" y="278"/>
                </a:lnTo>
              </a:path>
            </a:pathLst>
          </a:custGeom>
          <a:noFill/>
          <a:ln cap="rnd" w="1260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178840" y="443700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3480" y="878040"/>
            <a:ext cx="969012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rodaja in dobički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v času življenja izdelka/storitve od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uvedbe na trg do opustitv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84080" y="167616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Razvoj in testiranje koncepta podjema/izdelka/ stori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zdelava npr. treh alternativnih koncept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ziskava in izbor najboljšega koncepta: preverjanje razumljivosti koncepta izdelka/storitve, ugotavljanje interesa za izdelek/storitev. Pri tem uporabljate tehnike raziskovanja, ki jih poznate iz trženja (npr. globinski intervju, ankete, intervju, opazovanje …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84080" y="1371240"/>
            <a:ext cx="8544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Razvoj koncepta podjema/izdelka/ stori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gmentacija tr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korak: kdo (demografsko)/kje (geografsko) kupuje izdelek -  primarni segm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velikosti tr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Korak: Natančnejša segmentacija: kdo, kje, kdaj, zakaj, kako, nakupno obnašanje itd.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potenciala (koliko je mogoče prodat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liza konkur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toječi in potencialni konkur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WOT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443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3040" y="18288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r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ED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n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LOŽ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ET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ere so branljive konkurenč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402920" y="228600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06560" y="2286000"/>
            <a:ext cx="305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238040" y="419112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4191120"/>
            <a:ext cx="305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54576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43040" y="1828440"/>
            <a:ext cx="8750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oja ide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d kod zamisel za ta podje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oja ide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zadje izbran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ranje koncepta izdelka/storit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delava treh alternativnih konceptov ist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na raziskava/test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bor najboljše  inači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no vrednotenje ide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28760" y="3505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. Vinko Zupanči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68520" y="1905120"/>
            <a:ext cx="833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Razvoj koncepta izdelka/storitv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egmentacija in ocena velikosti trga ter tržneg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tenciala za celoten trg in izbrane tržne seg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aliza konkurence in ocena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SWOT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voj novih izdelkov/storit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7600" y="42670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. Vinko Zupanči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-360"/>
            <a:ext cx="678816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trategije razvoja novih stori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0200" y="1076400"/>
            <a:ext cx="8505720" cy="5117760"/>
            <a:chOff x="700200" y="1076400"/>
            <a:chExt cx="8505720" cy="5117760"/>
          </a:xfrm>
        </p:grpSpPr>
        <p:sp>
          <p:nvSpPr>
            <p:cNvPr id="114" name=""/>
            <p:cNvSpPr/>
            <p:nvPr/>
          </p:nvSpPr>
          <p:spPr>
            <a:xfrm>
              <a:off x="700200" y="1076400"/>
              <a:ext cx="8505720" cy="1047600"/>
            </a:xfrm>
            <a:prstGeom prst="cube">
              <a:avLst>
                <a:gd name="adj" fmla="val 24949"/>
              </a:avLst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0800" y="2205360"/>
              <a:ext cx="253152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virni izdelki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2600" y="3226320"/>
              <a:ext cx="252324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boljšave izdelkov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120" y="425592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premem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ov/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22080" y="5289840"/>
              <a:ext cx="252828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ove  blagov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znam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4080" y="2238840"/>
              <a:ext cx="253116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odjeti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5520" y="3260160"/>
              <a:ext cx="252360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atento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39400" y="428940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lice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400" y="1278000"/>
              <a:ext cx="81025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2700" spc="-1" strike="noStrike">
                  <a:solidFill>
                    <a:srgbClr val="000000"/>
                  </a:solidFill>
                  <a:latin typeface="Arial"/>
                </a:rPr>
                <a:t>Strategije za pridobivanje zamisli o novih izdelkih/storitvah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28680"/>
            <a:ext cx="8915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j so novi izdelki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6263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i izdelki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ve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 v svetovnem meril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ustvarjajo poplnoma novi t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a skupina izdelkov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djet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mogočijo, da prvič nastopi na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m tr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Dodatki k že obstoječim skupinam izdel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z boljšim delovanjem ali večj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rednostjo v očeh kupca, ki nadomestijo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Ponovno pozicioniranj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obstoječ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ji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merimo na nove trge ali v nove tržne seg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Znižanje stroš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 podobnim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lovanjem, vendar nižjimi stroš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75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kaj novi izdelki/storitve doživijo neuspe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4080" y="16002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odilni lahko kljub negativnim rezultatom tržnih raziskav vztrajajo pri uresničitvi zamisli o izde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amisel je dobra, a velikost trga precen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i dobro oblikov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zicioniranje izdelk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a trgu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pačno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 oglaševanje ne trgu ni uspešno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 p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e predr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 pokrije zadosti tržneg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stora ali pa nima podpore z distribuc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oški razvoja so višji od pričakova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dziv konkurentov je močnejši, kot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ičakov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31672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06480" y="1722600"/>
            <a:ext cx="8226000" cy="3556440"/>
            <a:chOff x="906480" y="1722600"/>
            <a:chExt cx="8226000" cy="3556440"/>
          </a:xfrm>
        </p:grpSpPr>
        <p:grpSp>
          <p:nvGrpSpPr>
            <p:cNvPr id="129" name=""/>
            <p:cNvGrpSpPr/>
            <p:nvPr/>
          </p:nvGrpSpPr>
          <p:grpSpPr>
            <a:xfrm>
              <a:off x="3132720" y="2739600"/>
              <a:ext cx="3487320" cy="2364480"/>
              <a:chOff x="3132720" y="2739600"/>
              <a:chExt cx="3487320" cy="23644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020120" y="3202200"/>
                <a:ext cx="1830600" cy="1901880"/>
                <a:chOff x="4020120" y="3202200"/>
                <a:chExt cx="1830600" cy="190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020120" y="3202200"/>
                  <a:ext cx="1830600" cy="1452960"/>
                </a:xfrm>
                <a:custGeom>
                  <a:avLst/>
                  <a:gdLst/>
                  <a:ahLst/>
                  <a:rect l="l" t="t" r="r" b="b"/>
                  <a:pathLst>
                    <a:path w="1171" h="1037">
                      <a:moveTo>
                        <a:pt x="180" y="681"/>
                      </a:moveTo>
                      <a:lnTo>
                        <a:pt x="128" y="624"/>
                      </a:lnTo>
                      <a:lnTo>
                        <a:pt x="63" y="553"/>
                      </a:lnTo>
                      <a:lnTo>
                        <a:pt x="21" y="495"/>
                      </a:lnTo>
                      <a:lnTo>
                        <a:pt x="0" y="422"/>
                      </a:lnTo>
                      <a:lnTo>
                        <a:pt x="0" y="358"/>
                      </a:lnTo>
                      <a:lnTo>
                        <a:pt x="21" y="268"/>
                      </a:lnTo>
                      <a:lnTo>
                        <a:pt x="69" y="197"/>
                      </a:lnTo>
                      <a:lnTo>
                        <a:pt x="150" y="123"/>
                      </a:lnTo>
                      <a:lnTo>
                        <a:pt x="258" y="69"/>
                      </a:lnTo>
                      <a:lnTo>
                        <a:pt x="351" y="36"/>
                      </a:lnTo>
                      <a:lnTo>
                        <a:pt x="456" y="11"/>
                      </a:lnTo>
                      <a:lnTo>
                        <a:pt x="602" y="0"/>
                      </a:lnTo>
                      <a:lnTo>
                        <a:pt x="738" y="11"/>
                      </a:lnTo>
                      <a:lnTo>
                        <a:pt x="824" y="32"/>
                      </a:lnTo>
                      <a:lnTo>
                        <a:pt x="919" y="66"/>
                      </a:lnTo>
                      <a:lnTo>
                        <a:pt x="990" y="102"/>
                      </a:lnTo>
                      <a:lnTo>
                        <a:pt x="1055" y="151"/>
                      </a:lnTo>
                      <a:lnTo>
                        <a:pt x="1096" y="193"/>
                      </a:lnTo>
                      <a:lnTo>
                        <a:pt x="1130" y="242"/>
                      </a:lnTo>
                      <a:lnTo>
                        <a:pt x="1154" y="296"/>
                      </a:lnTo>
                      <a:lnTo>
                        <a:pt x="1170" y="359"/>
                      </a:lnTo>
                      <a:lnTo>
                        <a:pt x="1165" y="426"/>
                      </a:lnTo>
                      <a:lnTo>
                        <a:pt x="1135" y="486"/>
                      </a:lnTo>
                      <a:lnTo>
                        <a:pt x="1096" y="557"/>
                      </a:lnTo>
                      <a:lnTo>
                        <a:pt x="1030" y="632"/>
                      </a:lnTo>
                      <a:lnTo>
                        <a:pt x="995" y="681"/>
                      </a:lnTo>
                      <a:lnTo>
                        <a:pt x="960" y="743"/>
                      </a:lnTo>
                      <a:lnTo>
                        <a:pt x="924" y="817"/>
                      </a:lnTo>
                      <a:lnTo>
                        <a:pt x="901" y="880"/>
                      </a:lnTo>
                      <a:lnTo>
                        <a:pt x="884" y="950"/>
                      </a:lnTo>
                      <a:lnTo>
                        <a:pt x="884" y="1036"/>
                      </a:lnTo>
                      <a:lnTo>
                        <a:pt x="334" y="1036"/>
                      </a:lnTo>
                      <a:lnTo>
                        <a:pt x="334" y="967"/>
                      </a:lnTo>
                      <a:lnTo>
                        <a:pt x="304" y="875"/>
                      </a:lnTo>
                      <a:lnTo>
                        <a:pt x="269" y="808"/>
                      </a:lnTo>
                      <a:lnTo>
                        <a:pt x="226" y="740"/>
                      </a:lnTo>
                      <a:lnTo>
                        <a:pt x="180" y="68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540680" y="4626720"/>
                  <a:ext cx="861120" cy="477360"/>
                  <a:chOff x="4540680" y="4626720"/>
                  <a:chExt cx="861120" cy="477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9280" y="5046840"/>
                    <a:ext cx="55800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540680" y="4626720"/>
                    <a:ext cx="86112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6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120" y="95"/>
                        </a:lnTo>
                        <a:lnTo>
                          <a:pt x="550" y="32"/>
                        </a:lnTo>
                        <a:lnTo>
                          <a:pt x="5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540680" y="4671360"/>
                    <a:ext cx="8611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7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6"/>
                        </a:lnTo>
                        <a:lnTo>
                          <a:pt x="120" y="126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540680" y="4759560"/>
                    <a:ext cx="861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8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7"/>
                        </a:lnTo>
                        <a:lnTo>
                          <a:pt x="120" y="127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540680" y="4848120"/>
                    <a:ext cx="86112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30">
                        <a:moveTo>
                          <a:pt x="120" y="65"/>
                        </a:moveTo>
                        <a:lnTo>
                          <a:pt x="106" y="65"/>
                        </a:lnTo>
                        <a:lnTo>
                          <a:pt x="0" y="65"/>
                        </a:lnTo>
                        <a:lnTo>
                          <a:pt x="0" y="129"/>
                        </a:lnTo>
                        <a:lnTo>
                          <a:pt x="120" y="129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540680" y="4937400"/>
                    <a:ext cx="8611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8">
                        <a:moveTo>
                          <a:pt x="120" y="65"/>
                        </a:moveTo>
                        <a:lnTo>
                          <a:pt x="0" y="65"/>
                        </a:lnTo>
                        <a:lnTo>
                          <a:pt x="60" y="97"/>
                        </a:lnTo>
                        <a:lnTo>
                          <a:pt x="488" y="97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3132720" y="2739600"/>
                <a:ext cx="3487320" cy="1497240"/>
                <a:chOff x="3132720" y="2739600"/>
                <a:chExt cx="3487320" cy="14972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459760" y="2928600"/>
                  <a:ext cx="371880" cy="25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309640" y="2990520"/>
                  <a:ext cx="17172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5101920" y="2767680"/>
                  <a:ext cx="124920" cy="32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930200" y="2949840"/>
                  <a:ext cx="108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90800" y="2739600"/>
                  <a:ext cx="29520" cy="34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4431240" y="2938320"/>
                  <a:ext cx="117000" cy="2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4052880" y="2819160"/>
                  <a:ext cx="323640" cy="41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999960" y="3123000"/>
                  <a:ext cx="182880" cy="18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520080" y="3138480"/>
                  <a:ext cx="540720" cy="26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3620160" y="3362760"/>
                  <a:ext cx="304200" cy="14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229200" y="3448440"/>
                  <a:ext cx="65808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3501360" y="3647160"/>
                  <a:ext cx="34416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3132720" y="3770640"/>
                  <a:ext cx="714240" cy="8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3545280" y="3973680"/>
                  <a:ext cx="304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3174840" y="4096800"/>
                  <a:ext cx="812880" cy="11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836880" y="4224600"/>
                  <a:ext cx="24876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5819760" y="3081240"/>
                  <a:ext cx="399960" cy="25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958720" y="3305160"/>
                  <a:ext cx="16380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996160" y="3386880"/>
                  <a:ext cx="53316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035760" y="3588120"/>
                  <a:ext cx="218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037200" y="3714480"/>
                  <a:ext cx="582840" cy="85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40080" y="3918960"/>
                  <a:ext cx="1810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02560" y="4043880"/>
                  <a:ext cx="689040" cy="11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88440" y="4168440"/>
                  <a:ext cx="13896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5643360" y="3154320"/>
                  <a:ext cx="21528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1665720" y="4705560"/>
              <a:ext cx="1432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ener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6480" y="3740040"/>
              <a:ext cx="9878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reso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6600" y="2526480"/>
              <a:ext cx="1231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ncep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38360" y="1722600"/>
              <a:ext cx="12164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s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1600" y="1722600"/>
              <a:ext cx="1243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oslov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anali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0840" y="2619000"/>
              <a:ext cx="92556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0240" y="3740040"/>
              <a:ext cx="9133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23200" y="4768560"/>
              <a:ext cx="2609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mercial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0360" y="4267080"/>
              <a:ext cx="378000" cy="442440"/>
            </a:xfrm>
            <a:custGeom>
              <a:avLst/>
              <a:gdLst/>
              <a:ahLst/>
              <a:rect l="l" t="t" r="r" b="b"/>
              <a:pathLst>
                <a:path w="242" h="316">
                  <a:moveTo>
                    <a:pt x="241" y="315"/>
                  </a:moveTo>
                  <a:lnTo>
                    <a:pt x="185" y="264"/>
                  </a:lnTo>
                  <a:lnTo>
                    <a:pt x="140" y="208"/>
                  </a:lnTo>
                  <a:lnTo>
                    <a:pt x="93" y="153"/>
                  </a:lnTo>
                  <a:lnTo>
                    <a:pt x="54" y="88"/>
                  </a:lnTo>
                  <a:lnTo>
                    <a:pt x="16" y="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02040" y="3311640"/>
              <a:ext cx="132480" cy="471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0" y="336"/>
                  </a:moveTo>
                  <a:lnTo>
                    <a:pt x="0" y="270"/>
                  </a:lnTo>
                  <a:lnTo>
                    <a:pt x="15" y="197"/>
                  </a:lnTo>
                  <a:lnTo>
                    <a:pt x="31" y="123"/>
                  </a:lnTo>
                  <a:lnTo>
                    <a:pt x="61" y="45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46160" y="2246400"/>
              <a:ext cx="582840" cy="319320"/>
            </a:xfrm>
            <a:custGeom>
              <a:avLst/>
              <a:gdLst/>
              <a:ahLst/>
              <a:rect l="l" t="t" r="r" b="b"/>
              <a:pathLst>
                <a:path w="373" h="228">
                  <a:moveTo>
                    <a:pt x="0" y="227"/>
                  </a:moveTo>
                  <a:lnTo>
                    <a:pt x="85" y="167"/>
                  </a:lnTo>
                  <a:lnTo>
                    <a:pt x="186" y="107"/>
                  </a:lnTo>
                  <a:lnTo>
                    <a:pt x="264" y="65"/>
                  </a:lnTo>
                  <a:lnTo>
                    <a:pt x="3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5120" y="1798200"/>
              <a:ext cx="1542600" cy="53280"/>
            </a:xfrm>
            <a:custGeom>
              <a:avLst/>
              <a:gdLst/>
              <a:ahLst/>
              <a:rect l="l" t="t" r="r" b="b"/>
              <a:pathLst>
                <a:path w="987" h="38">
                  <a:moveTo>
                    <a:pt x="0" y="37"/>
                  </a:moveTo>
                  <a:lnTo>
                    <a:pt x="155" y="19"/>
                  </a:lnTo>
                  <a:lnTo>
                    <a:pt x="303" y="14"/>
                  </a:lnTo>
                  <a:lnTo>
                    <a:pt x="481" y="0"/>
                  </a:lnTo>
                  <a:lnTo>
                    <a:pt x="629" y="0"/>
                  </a:lnTo>
                  <a:lnTo>
                    <a:pt x="815" y="14"/>
                  </a:lnTo>
                  <a:lnTo>
                    <a:pt x="986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1800" y="2214360"/>
              <a:ext cx="669240" cy="351720"/>
            </a:xfrm>
            <a:custGeom>
              <a:avLst/>
              <a:gdLst/>
              <a:ahLst/>
              <a:rect l="l" t="t" r="r" b="b"/>
              <a:pathLst>
                <a:path w="428" h="251">
                  <a:moveTo>
                    <a:pt x="0" y="0"/>
                  </a:moveTo>
                  <a:lnTo>
                    <a:pt x="132" y="65"/>
                  </a:lnTo>
                  <a:lnTo>
                    <a:pt x="233" y="120"/>
                  </a:lnTo>
                  <a:lnTo>
                    <a:pt x="326" y="181"/>
                  </a:lnTo>
                  <a:lnTo>
                    <a:pt x="427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2800" y="3155760"/>
              <a:ext cx="170280" cy="573120"/>
            </a:xfrm>
            <a:custGeom>
              <a:avLst/>
              <a:gdLst/>
              <a:ahLst/>
              <a:rect l="l" t="t" r="r" b="b"/>
              <a:pathLst>
                <a:path w="109" h="409">
                  <a:moveTo>
                    <a:pt x="0" y="0"/>
                  </a:moveTo>
                  <a:lnTo>
                    <a:pt x="39" y="70"/>
                  </a:lnTo>
                  <a:lnTo>
                    <a:pt x="69" y="153"/>
                  </a:lnTo>
                  <a:lnTo>
                    <a:pt x="85" y="223"/>
                  </a:lnTo>
                  <a:lnTo>
                    <a:pt x="108" y="311"/>
                  </a:lnTo>
                  <a:lnTo>
                    <a:pt x="108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120" y="4259880"/>
              <a:ext cx="389520" cy="437040"/>
            </a:xfrm>
            <a:custGeom>
              <a:avLst/>
              <a:gdLst/>
              <a:ahLst/>
              <a:rect l="l" t="t" r="r" b="b"/>
              <a:pathLst>
                <a:path w="249" h="312">
                  <a:moveTo>
                    <a:pt x="248" y="0"/>
                  </a:moveTo>
                  <a:lnTo>
                    <a:pt x="217" y="65"/>
                  </a:lnTo>
                  <a:lnTo>
                    <a:pt x="178" y="111"/>
                  </a:lnTo>
                  <a:lnTo>
                    <a:pt x="132" y="181"/>
                  </a:lnTo>
                  <a:lnTo>
                    <a:pt x="78" y="246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0640" y="5916600"/>
            <a:ext cx="1949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4360" y="5916600"/>
            <a:ext cx="2963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-54720" y="3928320"/>
            <a:ext cx="26445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b760f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5520" y="442908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383200" y="3926520"/>
            <a:ext cx="2643120" cy="19940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onkur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18080" y="4402080"/>
            <a:ext cx="546120" cy="99864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796640" y="3893400"/>
            <a:ext cx="264168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istributer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54920" y="431640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7251480" y="3913200"/>
            <a:ext cx="26463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70"/>
              </a:gs>
              <a:gs pos="100000">
                <a:srgbClr val="fdfd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av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84240" y="0"/>
            <a:ext cx="793584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1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Generiranje idej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6120" y="1609560"/>
            <a:ext cx="92934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6767ff"/>
                </a:solidFill>
                <a:latin typeface="Arial"/>
              </a:rPr>
              <a:t>Generiranje idej</a:t>
            </a:r>
            <a:r>
              <a:rPr b="1" lang="en-GB" sz="2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je sistematično iskanje idej za nove izdelke pri zaposlenih in tudi od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49160" y="1479240"/>
            <a:ext cx="840744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pozn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nj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ob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dej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rej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nj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zklj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la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j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noga podjetja so razvila sisteme za vrednotenje idej, ki presoj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Velikost trg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Ceno izdelk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Čas in stroške razvo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roške proizvodnj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opnjo vrači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040" y="33480"/>
            <a:ext cx="793764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Presoja ide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09-19T15:17:23Z</dcterms:modified>
  <cp:revision>8</cp:revision>
  <dc:subject/>
  <dc:title>Diapozitiv 1</dc:title>
</cp:coreProperties>
</file>