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86B-321D-4339-A4CE-1BA87D12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6BB-80D5-4357-9519-04A195C7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277-0C45-4192-AC81-56BBABE1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7DB-C90B-4C8F-A01C-E4BC71C4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9BEC-56AF-4553-81D9-470F7746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BEDC-244C-4DF7-8980-163D7B90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AA63-1659-4F26-A5EC-58E4EFE3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43C4-ADB7-4955-852E-825F7707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4E8B-4868-42EB-9335-B987211D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7FAB-0404-4124-80D2-97956E78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5C3E-334B-4A6F-99AD-7BBF0480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7A9-CD46-443A-A0AE-F02665D0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FB46-7940-4587-9A52-EF42EB71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561E-51E5-4EEE-825D-DF87102D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B385-87B4-447A-BA80-DC20EB2B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BCFB-1647-4081-8DB9-4BD9C993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1FE5-3245-417C-B106-60E57032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3B4-8199-4C10-A92C-9470D3A9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6AB-F5DB-4A86-9DE6-372A4D2D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D56-3036-4858-91D4-A2CF839F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CF2-1331-4BD8-9C80-A08B656D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56C-560E-4854-AD3A-0CE72EE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443-6107-4C9B-829E-109F2A1B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BD5-05D8-4305-B793-91A3B93C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C032-2473-4616-8092-88E934AF1664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F469-1C42-4152-8485-1EA4A96C4CCC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hyperlink" Target="http://www.worlrdbank.org/" TargetMode="External"/><Relationship Id="rId3" Type="http://schemas.openxmlformats.org/officeDocument/2006/relationships/hyperlink" Target="http://www.unido.org/" TargetMode="External"/><Relationship Id="rId4" Type="http://schemas.openxmlformats.org/officeDocument/2006/relationships/hyperlink" Target="http://www.oecd.org/" TargetMode="External"/><Relationship Id="rId5" Type="http://schemas.openxmlformats.org/officeDocument/2006/relationships/hyperlink" Target="http://scholar.google.com/" TargetMode="External"/><Relationship Id="rId6" Type="http://schemas.openxmlformats.org/officeDocument/2006/relationships/hyperlink" Target="http://www.ljmu.ac.uk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ing  new competencies and  Vocational Profiles  nee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e Branco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Laurea, MA, MSc (executive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22t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Community Manager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good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Community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support Community  Manager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monitoring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education at secondary level, University education degree for volunteers’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local partners and stakehold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imum organizational skills especially in delivery of clear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relevant experience in the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i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sensitivity to human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character able to accept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. Social Enterprise Trainer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5 years’ relevan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experience in similar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training and  business developmen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ecialized in Soci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of standard and specific IT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and Certif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cise and searching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 skills to understand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importance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1: Analysis of existing/potenti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316160"/>
          <a:ext cx="8713800" cy="4700520"/>
        </p:xfrm>
        <a:graphic>
          <a:graphicData uri="http://schemas.openxmlformats.org/drawingml/2006/table">
            <a:tbl>
              <a:tblPr/>
              <a:tblGrid>
                <a:gridCol w="716040"/>
                <a:gridCol w="4829040"/>
                <a:gridCol w="1728720"/>
                <a:gridCol w="14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687240"/>
                <a:gridCol w="5156280"/>
                <a:gridCol w="1224000"/>
                <a:gridCol w="12952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nalysi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existing and potential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ffectivenes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their effectiveness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evel of maturity of S.L.E.P.T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social, legal, economical, political, technological) sub- 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absorbe changes and to evaluate the time to introduce new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entative opportunity list of vocational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who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5: Level of matching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between potential new profiles obtained by comparison and level of S.L.E.P.T. maturity in Slove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 list all suitable, feasible and acceptable 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otential 5 best  vocational new profiles in Sloveni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finally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effectiveness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2: Effectiveness of existing/potential 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348080"/>
        </p:xfrm>
        <a:graphic>
          <a:graphicData uri="http://schemas.openxmlformats.org/drawingml/2006/table">
            <a:tbl>
              <a:tblPr/>
              <a:tblGrid>
                <a:gridCol w="676440"/>
                <a:gridCol w="4518000"/>
                <a:gridCol w="1800000"/>
                <a:gridCol w="12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440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SLEPT Indicator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maturity)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ARNING: on real SLEPT to be considered at Local Leve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3: Level of maturity of S.L.E.P.T. (social, legal, economical, political, technological) sub-environment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not mature - 5 very m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622760"/>
        </p:xfrm>
        <a:graphic>
          <a:graphicData uri="http://schemas.openxmlformats.org/drawingml/2006/table">
            <a:tbl>
              <a:tblPr/>
              <a:tblGrid>
                <a:gridCol w="676080"/>
                <a:gridCol w="4795920"/>
                <a:gridCol w="1295640"/>
                <a:gridCol w="14619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74680"/>
          <a:ext cx="8229600" cy="587700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368360"/>
                <a:gridCol w="137808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opportunity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 (who start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4: Tentative opportunity list of vocation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91520" cy="4492800"/>
        </p:xfrm>
        <a:graphic>
          <a:graphicData uri="http://schemas.openxmlformats.org/drawingml/2006/table">
            <a:tbl>
              <a:tblPr/>
              <a:tblGrid>
                <a:gridCol w="681120"/>
                <a:gridCol w="4657680"/>
                <a:gridCol w="1440000"/>
                <a:gridCol w="1512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’ Opportunity (who fir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5022720"/>
                <a:gridCol w="1224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-SLEPT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A-F-S) to each matching level o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(1/3 A+1/3 B+1/3 C) to each profile’s  SLEPT match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liminar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read some material (</a:t>
            </a: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you remember the Stakeholders’ analysis in Slove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get some “feelings” from the existing situation on the field (homework for previous modu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ease, give shortly your feed-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5: Level of matching between potential new profiles obtained by comparison and level of S.L.E.P.T. maturity in Slovenia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1 very low – 5 very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13000"/>
          <a:ext cx="8507520" cy="4773600"/>
        </p:xfrm>
        <a:graphic>
          <a:graphicData uri="http://schemas.openxmlformats.org/drawingml/2006/table">
            <a:tbl>
              <a:tblPr/>
              <a:tblGrid>
                <a:gridCol w="674640"/>
                <a:gridCol w="2792520"/>
                <a:gridCol w="1800000"/>
                <a:gridCol w="172728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p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i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57200" y="274680"/>
          <a:ext cx="8229600" cy="5915160"/>
        </p:xfrm>
        <a:graphic>
          <a:graphicData uri="http://schemas.openxmlformats.org/drawingml/2006/table">
            <a:tbl>
              <a:tblPr/>
              <a:tblGrid>
                <a:gridCol w="860400"/>
                <a:gridCol w="5176800"/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1/3 A+1/3 B+1/3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he Facilitator, together with the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ists all outcomes form previous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ct the 5 Best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weight (importance) to each Profile for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Final rank to eac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ime: 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: Final List of potential 5 best  vocational new profiles in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271520"/>
          <a:ext cx="8229600" cy="4773600"/>
        </p:xfrm>
        <a:graphic>
          <a:graphicData uri="http://schemas.openxmlformats.org/drawingml/2006/table">
            <a:tbl>
              <a:tblPr/>
              <a:tblGrid>
                <a:gridCol w="639720"/>
                <a:gridCol w="26528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or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port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nal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 defined framework positions at middle and high level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about vocational profiles to be identified by the product/service they are dealing with generated by the creativity of the social entrepreneur and managed by the social ma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 other words: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ho play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entrepreneur who has an idea with social impact and became a social entrepreneur or the product/service which defines the profiles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re are thousands of products/services which can be generated by the idea of the social entrepreneurs and who require specific qualified people to work on at levels lower then managemen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ere some examples of profiles as a result of product/service the social enterprise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cycling old PC 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ultural Heritage Protection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people trained to understand and mantain cultural herit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airtrade           need people to be trained to use/to create their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andcraf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mbling          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tering            need  people trained to b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waiters, chef assistant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eaning cooperative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rofessional clea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duction            needs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sewing for example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House maintenance cooperative           need people trained in different houseworks: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gardeners, cleaners, bricklay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nting House Cooperative           need people trained to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 Maste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and trained on the job by the Master..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business Cooperative 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culture 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cattle care workers, fields workers,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derly House Cooperative          need people trained as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volunteer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support paramedic, doctors,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io-product agri-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urism           need people trained in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many position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…..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many mor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Do not move to next slid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ntify max 5 Vocational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cribe those ma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the SLEPT characteristics allow A.F.S.? (remember Step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local environment has the needed skills and competence to be train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the managerial skills to ensure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.and mo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the end what is the 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Creativit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generate an entrepreneurial idea,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managerial skill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manage effectively and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qualified labour forc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implement/to produ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se the templates only as a base for your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rame the templates to your specific environment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“PhD attitude” t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oncentrate on details by forgetting wider view and results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ople must be stimulated (facilitated) to learn not “forced to learn” by classic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sults (jobs generated, new social enterprises, income generated,…) do measure the real impact, not “academic” pap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mpathy will help you more then knowledge: either you have it or no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You are dealing in a very specific fiel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key internet 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worldbank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unido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oecd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 email info: register at: My OE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scholar.google.c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ljmu.ac.u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netlibrary; cl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Thank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y Davide Br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davide.branco@cid-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10 KEY Vocational Profi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84920"/>
            <a:ext cx="820908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Social Enterpris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Manager (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As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Social Enterprise Trainer(Facilit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untries where mainly those exist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nd/or regulate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552680"/>
            <a:ext cx="84978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EU15, Scandinavia, Italy, Germany, UK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Few EU15,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Few EU15, UK and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V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few EU15, Italy (30%) and Germany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Description of Vocational Prof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Enterpris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No wish of getting high salary!!…..(a part of USA….90,000 US $!!)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pecialized in C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09-21T06:46:37Z</dcterms:modified>
  <cp:revision>62</cp:revision>
  <dc:subject/>
  <dc:title>Diapozitiv 1</dc:title>
</cp:coreProperties>
</file>