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9C3-1C15-443D-979E-FC7DA479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F30-A5CB-40C6-B26B-7D8F2AD1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3E91-6765-4C61-987A-2C6A012B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BFD-D372-4EE6-8E04-C63B929D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3CF9-DE2B-4919-8AD2-0363E804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4933-1D1F-44D5-AED1-8D2FCE55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8317-55FD-49C4-AD32-E03C28E5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6007-2A68-4CB0-B9DF-96D9964B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CCC7-FB66-4B73-9E6B-1C84AFE8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433D-3837-4319-94F6-786E18C8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3970-4818-4FE1-8681-16D32AB4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BBC5-4BEB-4084-ACBC-3E317B68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278F-AA37-45D8-A09F-AA4009E4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CB12-6DEA-4185-A82E-482AB2BE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2282-59D7-46CF-9062-33DC2D4D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886F-3DBB-450F-8CEC-C2916DBB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23DB-1883-442B-B789-3511324F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5B22-8E1F-4A97-82E3-2350A84C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366-9A06-4065-A741-D80EB5E6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1B5-94DA-4583-8920-80163D8A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7605-7FCD-430C-9AAB-3B16761E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286A-5EC1-47F7-841C-EDBB507A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A896-AF97-456A-9C4E-5C7EE5BC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215-1F23-4DDE-8B39-F04614CF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5E0A-FC7D-48E6-9F53-9E69327142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06B0-3633-47BA-AC4D-B0B1B2646A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6920" y="3573000"/>
            <a:ext cx="72723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modul Projektno vod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nja Haz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. in 26.10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dentifikacija projektne idej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za problema/prilož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ključuje socialne, gospodarske, politične pogoje v določenem območj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aliza obstoječega stanja (študije, podatki, zakonodaja, rezultati prejšnjih projektov, statistični podatk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OT analiz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lemsko drev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2000" y="4653000"/>
            <a:ext cx="2927160" cy="195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dentifikacija projektne idej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 analiz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30600" y="260280"/>
            <a:ext cx="5786280" cy="6351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4000" y="2421000"/>
            <a:ext cx="431928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kacija projektne idej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ko dr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26640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 problemskega drev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-1103" b="60187"/>
          <a:stretch/>
        </p:blipFill>
        <p:spPr>
          <a:xfrm>
            <a:off x="2195640" y="189000"/>
            <a:ext cx="6948360" cy="66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Načrtovanje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248520" cy="418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2205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pravite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problemsko dre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4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gični okvir projekta – pro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4222800"/>
            <a:ext cx="78487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daj uporabiti logični okv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Za identificiranje, pripravo, ocenjevanje, izvajanje, spremljanje in vrednotenje projek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916280"/>
            <a:ext cx="6337440" cy="1942920"/>
          </a:xfrm>
          <a:prstGeom prst="flowChartDocument">
            <a:avLst/>
          </a:prstGeom>
          <a:solidFill>
            <a:srgbClr val="808080"/>
          </a:solidFill>
          <a:ln cap="rnd" w="381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Izpolnjevanje matrike logičnega okvir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je prvi korak pri pripr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rojektne prij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020000" y="2852640"/>
            <a:ext cx="2124000" cy="16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Logični okvir projekta – matrik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128680"/>
                <a:gridCol w="2097360"/>
                <a:gridCol w="2097000"/>
                <a:gridCol w="1906560"/>
              </a:tblGrid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IKA INTERVENC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KTIVNO PREVERLJIVI INDIKATOR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EDSTVA ZA PREVERJA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POSTAVKE/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VEG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OBALNI CIL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EBNI CILJ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OŽENA        SRED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0" t="0" r="-787" b="64007"/>
          <a:stretch/>
        </p:blipFill>
        <p:spPr>
          <a:xfrm>
            <a:off x="3008160" y="333360"/>
            <a:ext cx="5818320" cy="6243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4360" y="2060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čni okvir – log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0000"/>
                </a:solidFill>
                <a:latin typeface="Arial"/>
              </a:rPr>
              <a:t>Namen projekta/ specifični cilj – čemu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734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idro oblikovanja projekta – začetna točka priprave logičnega okvi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omu je namenjen vaš projek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kšne spremembe želite doseči s projek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j bi dosegli, če bi bili 100% uspešn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j želimo na dolgi ro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43640" y="4221000"/>
            <a:ext cx="150840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Že opravljeno del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Pripravljeni anali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potreb na lokalnih trg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usposobljenosti instituc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Identificirana projekt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lem/potenciali/prilož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trebe ciljne skup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59640" y="2565360"/>
            <a:ext cx="230184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stvariti spodbudno podporno okolj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i bo s krepitvijo podjetnosti in podjetniš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ulture pri mladih v Gorenjski regi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plivalo na povečanje deleža mladih inovativnih podjetih v regi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.M.A.R.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ilj mora b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cific (specifič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asurable (merljiv v smislu, časa, kakovosti in denar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tinable (doseglj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alistic (rea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ebound (časovno opredelj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580000" y="3749760"/>
            <a:ext cx="316872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22050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redelite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namen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in cilj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Načrtovanje aktivnos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4000" y="15573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čin za doseganje rezultatov in ciljev projek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j, kdaj, kje ka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črt aktivnosti najbolj viden del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 prepodrobno, le sklopi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Finančni, človeški in materialni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lična orod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WBS: strukturna členitev projek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Ganto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Mrežni dia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573280" cy="30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erminski nač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9280" y="2455920"/>
            <a:ext cx="8785440" cy="301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črtovanje.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568720" cy="4588920"/>
        </p:xfrm>
        <a:graphic>
          <a:graphicData uri="http://schemas.openxmlformats.org/drawingml/2006/table">
            <a:tbl>
              <a:tblPr/>
              <a:tblGrid>
                <a:gridCol w="3097800"/>
                <a:gridCol w="960840"/>
                <a:gridCol w="808200"/>
                <a:gridCol w="1213920"/>
                <a:gridCol w="1434600"/>
                <a:gridCol w="1053360"/>
              </a:tblGrid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črt aktiv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. d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š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ul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denje in koordin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is kulturne dedišč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3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ava zborn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3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cija in razšir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4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Rezulta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zultat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do, na kakšen način bomo dosegali cilje (dolgoročni in takojšnj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izvodi ali storitve, kompetence in zmogljivosti, ki so direktni rezultat projektnih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940360" y="4017960"/>
            <a:ext cx="2670120" cy="262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Kazalniki / indikatorji</a:t>
            </a:r>
            <a:r>
              <a:rPr b="0" lang="sl-SI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Z njimi opisujemo, merimo količinske in kakovostne spremem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i definiranju indikatorjev upoštevajmo: QQTL (Quality, Quantity, Timing, Lo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Quality (pričakovana kakovost, način spremembe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Quantity (pričakovan obseg sprememb, npr.: kolik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Timing (do kdaj se naj zgodi sprememb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Location (področje doseganja rezultatov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20000" y="1700280"/>
            <a:ext cx="181296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edvidevanja/pogoji, tveganja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496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goji, okoliščine, zunanji dejavniki, ki lahko ogrozijo izvedbo projekta, vendar nanje nimamo neposrednega vpliva - zato jih je treba skrbno preuči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651640" y="3933720"/>
            <a:ext cx="2592360" cy="25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Sredstva za verifikacijo/ preverjanj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vejo kje in v kakšni obliki lahko najdemo informacije o doseganju ciljev in rezultat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tistične informacije, vprašalniki, analize, projektna dokumentacija, liste prisotnosti, zapisniki srečan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435640" y="4205160"/>
            <a:ext cx="3187800" cy="235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Še potreb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109600" cy="2376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00360" y="2203560"/>
            <a:ext cx="623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Priprava projektnega predlo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bor 12 projektnih predlo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2205000"/>
            <a:ext cx="44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kuj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klope aktivnosti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iši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ričakovane rezult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roizvodi, storitve, kompetence) projekta, ki bodo prispevali k ciljem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076720" y="1628640"/>
            <a:ext cx="3672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ala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prašanj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4259520" cy="45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la za izbor 12 projektov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3 članska interna strokovna komisija bo ocenjevala sklope in podsk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cene od 1-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1 = zelo slab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2 = slab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3 = sprejemljiv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4 = dobro 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5 = zelo dobr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inimalno število točk je 335 točk oziroma 67% vseh možnih toč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la za izbor projektov 12 projekt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Opis potencialnega nosilca in partnerje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60 toč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Ustreznost projek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7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Opis projektnih aktivnosti in  pričakovani rezulta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100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Trajnost in potencialni učink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4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Finančni načrt in stroškovna učinkovit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4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ki – do kdaj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4607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ava dokončne anal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0.1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vi osnutek projektnega predlo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5.1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no svetovan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0.11 2007 do 14.12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ončno oblikovani in posredovani projektni predlo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1.12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jevanje projektnih predlog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03.01.2007 do 10.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a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33ff"/>
                </a:solidFill>
                <a:latin typeface="Arial"/>
              </a:rPr>
              <a:t>Matjaž Gol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eim, Center razvoja človeških virov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breška cesta 20, 2000 Marib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Elektronski naslov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m.golob@center-rcv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aze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ijska f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načrtovanja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izva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zaklju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250520" y="1812960"/>
            <a:ext cx="4062240" cy="3836520"/>
            <a:chOff x="4250520" y="1812960"/>
            <a:chExt cx="4062240" cy="3836520"/>
          </a:xfrm>
        </p:grpSpPr>
        <p:grpSp>
          <p:nvGrpSpPr>
            <p:cNvPr id="118" name=""/>
            <p:cNvGrpSpPr/>
            <p:nvPr/>
          </p:nvGrpSpPr>
          <p:grpSpPr>
            <a:xfrm>
              <a:off x="4250520" y="1812960"/>
              <a:ext cx="4062240" cy="3836520"/>
              <a:chOff x="4250520" y="1812960"/>
              <a:chExt cx="4062240" cy="3836520"/>
            </a:xfrm>
          </p:grpSpPr>
          <p:sp>
            <p:nvSpPr>
              <p:cNvPr id="119" name=""/>
              <p:cNvSpPr/>
              <p:nvPr/>
            </p:nvSpPr>
            <p:spPr>
              <a:xfrm>
                <a:off x="5604480" y="1812960"/>
                <a:ext cx="135396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071480" y="2828520"/>
                <a:ext cx="124128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071480" y="4069800"/>
                <a:ext cx="124128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04480" y="5085360"/>
                <a:ext cx="135396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50520" y="4069800"/>
                <a:ext cx="124092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50520" y="2828520"/>
                <a:ext cx="124092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01600" y="1925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5400000">
                <a:off x="7297200" y="1925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0800000">
                <a:off x="7297200" y="4859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6200000">
                <a:off x="4588920" y="4859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88920" y="3505680"/>
                <a:ext cx="338400" cy="451080"/>
              </a:xfrm>
              <a:prstGeom prst="upArrow">
                <a:avLst>
                  <a:gd name="adj1" fmla="val 33333"/>
                  <a:gd name="adj2" fmla="val 74980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0800000">
                <a:off x="7635600" y="3505320"/>
                <a:ext cx="338400" cy="451080"/>
              </a:xfrm>
              <a:prstGeom prst="upArrow">
                <a:avLst>
                  <a:gd name="adj1" fmla="val 33333"/>
                  <a:gd name="adj2" fmla="val 74980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400000">
                <a:off x="6139800" y="2517840"/>
                <a:ext cx="338400" cy="1184760"/>
              </a:xfrm>
              <a:prstGeom prst="upArrow">
                <a:avLst>
                  <a:gd name="adj1" fmla="val 33333"/>
                  <a:gd name="adj2" fmla="val 82875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04480" y="1925640"/>
                <a:ext cx="13539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Programir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71480" y="2941200"/>
                <a:ext cx="12412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200" spc="-1" strike="noStrike">
                    <a:solidFill>
                      <a:srgbClr val="000000"/>
                    </a:solidFill>
                    <a:latin typeface="Trebuchet MS"/>
                  </a:rPr>
                  <a:t>Indentifikaci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71480" y="4182480"/>
                <a:ext cx="12412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Oblikov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04480" y="5198040"/>
                <a:ext cx="13539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Financir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50520" y="4182480"/>
                <a:ext cx="124092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Izvaj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50520" y="2941200"/>
                <a:ext cx="124092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Evalvaci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d projektne ideje do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71640" y="3166920"/>
            <a:ext cx="7272360" cy="20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Tina Kociper</cp:lastModifiedBy>
  <dcterms:modified xsi:type="dcterms:W3CDTF">2007-10-22T10:25:12Z</dcterms:modified>
  <cp:revision>19</cp:revision>
  <dc:subject/>
  <dc:title>Diapozitiv 1</dc:title>
</cp:coreProperties>
</file>