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38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8101B-F6C3-44E6-9534-DCB56D6105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A8D-F474-4657-BC40-00CF99C3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72C-9647-4D5B-A3F9-14FEA38D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356-FA42-4BEE-BCDF-C3DE0382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4F1-E5AF-4D82-932A-48ABE625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AC6C-6895-4659-8378-7D8869D8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3BF8-47BB-472B-904E-8AE607DE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4CFB-3B7B-44FA-9E1B-6E2BAD53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02FC-8E10-49D3-A938-A761744E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46AF-08B2-4B21-82E2-7B1FC3AF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0A17-118C-45A5-82CC-C1A5D8FF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5332-94B9-41AC-A099-2348C01B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BF2-E14C-4637-B88A-C14258C6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E624-B75A-4604-9B58-8441B19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B6EF-EC5E-4B61-896B-7F14A587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B8D8-D8CA-4668-9522-A4EF7B91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F6A0-2C81-482D-84DF-6355FB7F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BC7A-E1B4-43A4-9D6F-0864BECD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BB0-E5E2-4ED3-8B0E-9E75AE13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B70-F902-4988-93E2-154E0F6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3E6-7281-4338-942D-7ECAFF57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DB3-ECA8-44D8-83B8-CC5254F0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388-9B4A-4F6F-8FD5-C70472F6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EFD-5893-4755-8DB1-BFBEDF3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7FB-0EBA-4F16-A9FD-556019D9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1840" cy="1104480"/>
            <a:chOff x="1071360" y="304920"/>
            <a:chExt cx="7611840" cy="1104480"/>
          </a:xfrm>
        </p:grpSpPr>
        <p:sp>
          <p:nvSpPr>
            <p:cNvPr id="1" name=""/>
            <p:cNvSpPr/>
            <p:nvPr/>
          </p:nvSpPr>
          <p:spPr>
            <a:xfrm flipH="1">
              <a:off x="4867920" y="304920"/>
              <a:ext cx="11044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0160" y="30492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26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160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72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2DACE-EEE7-40E2-B326-C6C9BA6F45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48" name="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38CAB1-80E1-4374-B6CE-4CB80B85EDE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38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3933720"/>
            <a:ext cx="7272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Modul št. 2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PRIMER OBLIKOVANJA NOVEGA POKLICNEGA PROFILA ( POMEL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Alenka STUPAR, univ, dipl. 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21.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0360" y="8366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iprava pob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i tipičnih del v poklicu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a potreb na trgu dela glede na                                                                                    dolgoročni razvoj gospodarstva oz.                                                                                     dejavnosti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na podlaga oz. predpisi v SLO in                                                                            državah EU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narodna primerljivost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ovalci pobud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likovanje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 in koda poklica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 zahtevnosti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icne kompetence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dela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loge za dokazovanja usposoblje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kataloga Pletar 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Priloga: Katalog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7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 in naloge (ključna dela)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ge za dokazovanje usposoblj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loga: Identifikacija novih poklicnih                                                                          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70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jte 3 nove poklicne profile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erite enega glede na perspektivnost                                                                    dejavnosti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te Pobudo za oblikovanje                                                                              poklicnega  standarda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ujte poklicni standard (raven                                                                                        zahtevnosti, poklicne kompetence,                                                                                    opis poklicnega standarda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2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ran projekt za realizacijo že                                                                                     zastavljene iniciative lokalne skupnosti za                                                                        razvoj perspektivnih dejavnosti na osnovi                                                                           lokalnih razvojnih potencialov – tradicije                                                                             domače obrti (lončarstvo – pletarstvo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irane potrebe po novih znanjih in                                                                            spretnostih za opravljanje dejavnosti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83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elani programi usposabljanj (za pletenje                                                                                                                                            izdelkov iz ličja in oblikovanja in gline)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postavljena in delujoča učna delovanica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Nacionalnih poklicnih kvalifikacija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iteriji za izbor novih poklicnih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ktivnost dejavnosti glede na nove potrebe trga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evilo potencialnih kandidatov za N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cija na področju izdelovanja izdelkov domačih obrti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pektivnost deja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8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ponudbe in povpraševanja po                                                                                izdelkih naravnih materialov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uporabe naravnih                                                                           materialov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razvoja podeželja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ni servis za razvoj in trženje izdelkov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človeških vi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5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čitev kriterijev za izbor ciljne skupine                                                                           (BO, podzaposleni, končana OŠ ali brez,                                                                          lastnik/najemnik  zemlje)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brezposelnih oseb na                                                                      podeželj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podzaposlenih na                                                                             podeželju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icija domače obr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elujočih izdelovalcev izdelkov                                                                               iz naravnih materialov v Prekmurju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znanj in spretnosti s področja                                                                         domačih obrti pri lokalnem prebivalstvu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morebitnih programov                                                                                     usposabljan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brana nova poklicn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217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ar/pletarka iz ličja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čar/lonč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opek oblikovanja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71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pobude (pobudo je pripravil                                                                                   nosilec projekta)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novanje delovne skupine za pripravo                                                                        kataloga standardov strokovnih znanj in                                                                             spretnosti (sodelovanje različnih strok)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ovni sodelavec s strani CPI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Kataloga standardov strokovnih                                                                            znanj in spretnosti za 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ditev na Strokovnem svetu RS za                                                                                 poklicno in strokovno izobraževanje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a Kociper</cp:lastModifiedBy>
  <dcterms:modified xsi:type="dcterms:W3CDTF">2007-10-03T12:12:44Z</dcterms:modified>
  <cp:revision>7</cp:revision>
  <dc:subject/>
  <dc:title>Modul št. 2/b PRIMER OBLIKOVANJA NOVEGA POKLICNEGA PROFILA ( POMELAJ) Alenka STUPAR, univ, dipl. soc.  21. september 2007</dc:title>
</cp:coreProperties>
</file>