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12B8-6203-4837-B8CA-8B725B94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B027-1306-4240-B5E6-1C5D5FEB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2C21-1C8D-4ECD-A7AC-BAD1019B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A57-D63E-42D2-9054-750D0C27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DDF0-B379-44D0-A9B2-8AF54A5F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90F4-17EE-4810-8926-EC9DB8BC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5EC7-8033-4316-874A-F074E695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FEF5-6231-4A06-9008-6FCD69B8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F47C-DC11-4C3E-A531-3D148E1A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2694-64DA-4AD6-8464-09DA8868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96A0-CC5C-40A2-BBFB-540DF2B7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7B88-8220-4001-8149-82B7E461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5F56-C63C-4638-B9C1-7EDBAF0D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2FB1-CC65-4A68-A70D-6E4D6DB4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CE94-0D70-4724-ACCC-13FD5EE8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2F98-EC67-4E9E-A5E3-131CEB7B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0CE98-0E20-4D00-80AD-736C0551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C8F13-218E-4D63-9B91-330BFA51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F907B-C492-415C-B645-08285CFF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693AF-40FD-44DD-8F56-939986D8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6DD03-1BBC-4E4D-B496-3B7E7F9D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F8538-4268-4C59-B47E-B7240672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E4D1E-7BB3-429A-8206-AA6B40D3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A3D15-538E-4648-BFFD-9FD79892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79FF0-88F0-4013-B431-BE3F903A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4A61F-EA97-4F03-957D-13180540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6E047-4112-42E7-AE83-AF1DFDA2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F27FE-8021-4D00-8CAE-971E5409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3B69-B006-452A-9476-1E3C0C2A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D2D0-CBC0-45B0-8E1C-B1613891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78DC-B0AD-4427-BFCC-A6487424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1CAF-72D5-42DA-BF62-EBB3682D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A6E6-9F46-40A6-B142-E8D2753C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26E2-9EC8-415A-BF08-479B1881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4E77-1AA2-4EEB-B4AF-162D2FB6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FF99-2E29-4747-9718-CEF6B83B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220F-F12C-49E8-96A6-78EAEC1BA5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9EA0-0FDC-4F5F-99DD-E815A3C0F31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BEF8-BBEB-47F5-A7CB-098DDA1165A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87440" y="650880"/>
            <a:ext cx="86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7. REDNA SEJA ODBORA ZA SPREMLJANJE OPERATIVNEGA PROGRAMA ZA IZVAJANJE EVROPSKE KOHEZIJSKE POLITIKE V OBDOBJU 2014</a:t>
            </a: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2020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059280" y="5797440"/>
            <a:ext cx="357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Brdo pri Kranju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29. september 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1"/>
          <p:cNvSpPr/>
          <p:nvPr/>
        </p:nvSpPr>
        <p:spPr>
          <a:xfrm>
            <a:off x="576720" y="1876320"/>
            <a:ext cx="842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9 k točki 7: Odbor za spremljanje se je seznanil 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zhodišči za spremembo meril za izbor operacij v okvir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perativnega programa za izvajanje evropske kohezijsk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litike v obdobju 2014–2020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 nalaga </a:t>
            </a: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lužbi Vlade Republik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lovenije za razvoj in evropsko kohezijsko politiko, da priprav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končni predlog spremembe meril za izbor operacij v okvir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perativnega programa za izvajanje evropske kohezijsk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litike v obdobju 2014–2020 in ga pošlje v potrditev na dopisn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ejo najkasneje do konca oktobra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Box 1"/>
          <p:cNvSpPr/>
          <p:nvPr/>
        </p:nvSpPr>
        <p:spPr>
          <a:xfrm>
            <a:off x="587160" y="2398680"/>
            <a:ext cx="740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10 k točki 8: Odbor za spremljanje se je seznani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z Letnim načrtom komuniciranja za leto 2020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Box 1"/>
          <p:cNvSpPr/>
          <p:nvPr/>
        </p:nvSpPr>
        <p:spPr>
          <a:xfrm>
            <a:off x="646560" y="2327400"/>
            <a:ext cx="759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11 k točki 9: Odbor za spremljanje se je seznanil 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zvajanjem vrednotenj za Operativni program za izvaj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e kohezijske politike v obdobju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7000" y="236700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ttp://www.eu-skladi.si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Box 2"/>
          <p:cNvSpPr/>
          <p:nvPr/>
        </p:nvSpPr>
        <p:spPr>
          <a:xfrm>
            <a:off x="981000" y="2494080"/>
            <a:ext cx="772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1 k točki 1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dbor za spremljanje sprejme predlagani dnevni 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Box 4"/>
          <p:cNvSpPr/>
          <p:nvPr/>
        </p:nvSpPr>
        <p:spPr>
          <a:xfrm>
            <a:off x="631800" y="227484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2 k točki 2: Odbor za spremljanje potrdi zapisni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7. in 8. dopisne seje Odbora za spremljanje operativne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rograma za izvajanje evropske kohezijske politike v obdobj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2014–2020 v predlagani obli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561240" y="2279520"/>
            <a:ext cx="82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3 k točki 3: Odbor za spremljanje potrdi Letno poročil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2019 o izvajanju Operativnega programa za izvaj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e kohezijske politike v obdobju 2014–2020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dbor pooblašča Službo Vlade Republike Slovenije za razvoj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n evropsko kohezijsko politiko, da pred pošiljanjem Letne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ročila Evropski komisiji izvede popravke in poročilo pošl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i komisi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Box 1"/>
          <p:cNvSpPr/>
          <p:nvPr/>
        </p:nvSpPr>
        <p:spPr>
          <a:xfrm>
            <a:off x="482040" y="2505240"/>
            <a:ext cx="84621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4 k točki 3: Odbor za spremljanje se je seznanil s stanj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na področju izvajanja finančnih instrumentov (FI)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Box 1"/>
          <p:cNvSpPr/>
          <p:nvPr/>
        </p:nvSpPr>
        <p:spPr>
          <a:xfrm>
            <a:off x="552960" y="2398680"/>
            <a:ext cx="804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5 k točki 3: Odbor za spremljanje se je seznanil 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aktivnostmi, povezanimi z Makroregionalnimi strategijami E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n Evropskim teritorialnim sodelovanjem v programsk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bdobju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1"/>
          <p:cNvSpPr/>
          <p:nvPr/>
        </p:nvSpPr>
        <p:spPr>
          <a:xfrm>
            <a:off x="678240" y="2541600"/>
            <a:ext cx="78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6 k točki 4: Odbor za spremljanje se je seznanil 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ročilom organa za potrjevanje za Operativni program z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zvajanje evropske kohezijske politike v obdobju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1"/>
          <p:cNvSpPr/>
          <p:nvPr/>
        </p:nvSpPr>
        <p:spPr>
          <a:xfrm>
            <a:off x="287640" y="2374920"/>
            <a:ext cx="84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7 k točki 5: Odbor za spremljanje se je seznanil 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ročilom revizijskega organa za Operativni program za izvaj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e kohezijske politike v obdobju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Box 1"/>
          <p:cNvSpPr/>
          <p:nvPr/>
        </p:nvSpPr>
        <p:spPr>
          <a:xfrm>
            <a:off x="567000" y="2184480"/>
            <a:ext cx="823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8 k točki 6: Odbor za spremljanje se je seznani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 predlaganimi izhodišči za spremembo Operativne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ograma za izvajanje evropske kohezijske politike 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bdobju 2014–2020 in nalaga </a:t>
            </a: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lužbi Vlade Republike Sloven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za razvoj in evropsko kohezijsko politiko, da pripravi končn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redlog spremembe Operativnega programa za izvaj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e kohezijske politike v obdobju 2014–2020 in 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šlje v potrditev na dopisno sejo najkasneje do konca oktobra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RT- Robert</cp:lastModifiedBy>
  <cp:lastPrinted>2019-06-05T11:34:57Z</cp:lastPrinted>
  <dcterms:modified xsi:type="dcterms:W3CDTF">2020-09-28T22:42:40Z</dcterms:modified>
  <cp:revision>49</cp:revision>
  <dc:subject/>
  <dc:title>PowerPoint Presentation</dc:title>
</cp:coreProperties>
</file>