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DC8-B906-44AA-8697-F62634EE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22C-2C4E-48A7-8566-08EB14F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619-6773-4514-A35D-EE38F11F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E97-2737-43BB-B0FA-EF0F95D8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834-BDA5-4E00-BF4E-7FB670B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98F-8CC8-4846-A819-84063C15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BFB-2D0D-4E75-8319-F6D751D8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4FB-3DC5-4F97-9980-14AEA2D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C0B-142F-44E5-BD46-5C078E76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D3D-57DA-489A-B2C0-A48E3F99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94F-0A36-4D87-B335-AA36725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147-6258-46F5-A1FE-F9A0C9F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42DE-0080-408E-9E16-67803CEA7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3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3800" y="5524560"/>
            <a:ext cx="2401920" cy="12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444600" y="5905440"/>
            <a:ext cx="289548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-9360" y="2658960"/>
            <a:ext cx="9153360" cy="2616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177840" y="229392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7" descr=""/>
          <p:cNvPicPr/>
          <p:nvPr/>
        </p:nvPicPr>
        <p:blipFill>
          <a:blip r:embed="rId3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640" y="644040"/>
            <a:ext cx="76788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Vrednotenje izvajanja kohezijske politike OP 2014 – 2020</a:t>
            </a:r>
            <a:br>
              <a:rPr sz="2400"/>
            </a:br>
            <a:br>
              <a:rPr sz="3600"/>
            </a:br>
            <a:r>
              <a:rPr b="1" lang="sl-SI" sz="1600" spc="-1" strike="noStrike">
                <a:solidFill>
                  <a:srgbClr val="2f5597"/>
                </a:solidFill>
                <a:latin typeface="Calibri"/>
              </a:rPr>
              <a:t>OzS, 29.9.2020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otnik 1"/>
          <p:cNvSpPr/>
          <p:nvPr/>
        </p:nvSpPr>
        <p:spPr>
          <a:xfrm>
            <a:off x="787320" y="2917800"/>
            <a:ext cx="73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579600" y="30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jeZBesedilom 3"/>
          <p:cNvSpPr/>
          <p:nvPr/>
        </p:nvSpPr>
        <p:spPr>
          <a:xfrm>
            <a:off x="907920" y="723960"/>
            <a:ext cx="67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Od zadnjega poročanja n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oljeZBesedilom 4"/>
          <p:cNvSpPr/>
          <p:nvPr/>
        </p:nvSpPr>
        <p:spPr>
          <a:xfrm>
            <a:off x="1018080" y="1608120"/>
            <a:ext cx="45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stopanje od potrj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ileme z objavo javnega raz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njave ministr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Cov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njena sestav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oljeZBesedilom 1"/>
          <p:cNvSpPr/>
          <p:nvPr/>
        </p:nvSpPr>
        <p:spPr>
          <a:xfrm>
            <a:off x="1588680" y="9381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Nadaljevanje aktivnosti vrednot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oljeZBesedilom 2"/>
          <p:cNvSpPr/>
          <p:nvPr/>
        </p:nvSpPr>
        <p:spPr>
          <a:xfrm>
            <a:off x="1429560" y="2001960"/>
            <a:ext cx="772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za dve vrednoten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(Učinkovitost in uspešnost izvajanja specifičnih ciljev „Povečan delež inovacijsko aktivnih podjetij“ in „Poveča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učinkovitosti rabe energije v javnem sektorju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otrditev prenovljene Interdisciplinarne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Sprememba letnega načrta vrednotenj za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prava letnega načrta vrednotenj za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in izved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 Light"/>
              </a:rPr>
              <a:t>Hvala za pozornost</a:t>
            </a: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18542" t="11954" r="2709" b="82682"/>
          <a:stretch/>
        </p:blipFill>
        <p:spPr>
          <a:xfrm>
            <a:off x="0" y="68400"/>
            <a:ext cx="9144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Vincekovic, Lidija (SI - Ljubljana)</dc:creator>
  <dc:description/>
  <dc:language>en-US</dc:language>
  <cp:lastModifiedBy>Mateja Mahkovec</cp:lastModifiedBy>
  <cp:lastPrinted>2019-12-17T12:58:53Z</cp:lastPrinted>
  <dcterms:modified xsi:type="dcterms:W3CDTF">2020-09-28T05:53:33Z</dcterms:modified>
  <cp:revision>164</cp:revision>
  <dc:subject/>
  <dc:title>PowerPoint Presentation</dc:title>
</cp:coreProperties>
</file>